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747F7-1AB7-465B-9193-55930A0AFA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3520" y="38721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8ADA4-6AF1-4E8D-9C85-A22E6545EA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3520" y="38721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50560" y="38721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C1DEC-5C5A-4D7D-957E-0C4525119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5960" y="15235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8400" y="15235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33520" y="38721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5960" y="38721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8400" y="38721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6BA9B-6DBB-4018-BBB7-FA9AAB1298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335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BC5EF-DEB7-43B9-9E9F-3E3EB51F36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D36B8-DB39-41C3-A6B8-4FA8BFB419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CA585-CE2A-466F-A9D5-AA7DAE3D7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2EEFA-9713-4202-A395-52D40A29A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84414-C5E2-4E7E-8F59-D0B373C4E9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8721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3E6E9-2F7E-4AF4-B0B7-1D20E9540A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50560" y="38721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76BE6-1A72-4670-8050-CB6DC6EA50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8721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713C9-C40A-4E64-88F3-E5C4E3211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cc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buClr>
                <a:srgbClr val="cccc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buClr>
                <a:srgbClr val="ccccf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lvl="3" marL="1600200" indent="-22860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lvl="4" marL="2057400" indent="-228600"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398520" y="304920"/>
            <a:ext cx="1419120" cy="99036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444600" y="1371600"/>
            <a:ext cx="8331120" cy="4876920"/>
            <a:chOff x="444600" y="1371600"/>
            <a:chExt cx="8331120" cy="4876920"/>
          </a:xfrm>
        </p:grpSpPr>
        <p:sp>
          <p:nvSpPr>
            <p:cNvPr id="3" name=""/>
            <p:cNvSpPr/>
            <p:nvPr/>
          </p:nvSpPr>
          <p:spPr>
            <a:xfrm>
              <a:off x="444600" y="1371600"/>
              <a:ext cx="8331120" cy="0"/>
            </a:xfrm>
            <a:prstGeom prst="line">
              <a:avLst/>
            </a:prstGeom>
            <a:ln w="507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44600" y="6248520"/>
              <a:ext cx="8331120" cy="0"/>
            </a:xfrm>
            <a:prstGeom prst="line">
              <a:avLst/>
            </a:prstGeom>
            <a:ln w="507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905120" y="990720"/>
            <a:ext cx="693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482080" y="6399720"/>
            <a:ext cx="267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Information and commun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6324480"/>
            <a:ext cx="113040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053720" y="6399720"/>
            <a:ext cx="373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Directorate general for Energy and 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1371600"/>
            <a:ext cx="9144000" cy="4876920"/>
          </a:xfrm>
          <a:prstGeom prst="roundRect">
            <a:avLst>
              <a:gd name="adj" fmla="val 1015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ldNum" idx="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E44A-19EF-4DAD-BFB2-9C636392F414}" type="slidenum">
              <a:rPr b="0" lang="en-GB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79280" y="182160"/>
            <a:ext cx="626436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Arial"/>
              </a:rPr>
              <a:t>Medril Workshop</a:t>
            </a:r>
            <a:br>
              <a:rPr sz="2800"/>
            </a:br>
            <a:r>
              <a:rPr b="1" lang="en-GB" sz="2800" spc="-1" strike="noStrike">
                <a:solidFill>
                  <a:srgbClr val="cc3300"/>
                </a:solidFill>
                <a:latin typeface="Arial"/>
              </a:rPr>
              <a:t>Brussels, 25 November 200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55280" y="3644640"/>
            <a:ext cx="7993080" cy="280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mpact of medical conditions on road safety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ël Valmain</a:t>
            </a:r>
            <a:endParaRPr b="0" lang="en-US" sz="1800" spc="-1" strike="noStrike">
              <a:solidFill>
                <a:srgbClr val="063de8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G TREN, E3</a:t>
            </a:r>
            <a:endParaRPr b="0" lang="en-US" sz="18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he European Road Safety </a:t>
            </a:r>
            <a:br>
              <a:rPr sz="3200"/>
            </a:b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tion Programme (2003-201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80000" y="1628640"/>
            <a:ext cx="518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LVING THE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 VICTIMS BY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SHA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1523520"/>
            <a:ext cx="8229600" cy="449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9C069-C9D5-49BA-A795-8D70366F96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Evolution 1990-201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1684440"/>
            <a:ext cx="8229600" cy="417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3F9FD-4558-4807-8EA2-52EFB30C1E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cc3300"/>
                </a:solidFill>
                <a:latin typeface="Arial"/>
              </a:rPr>
              <a:t>Medical impairments </a:t>
            </a:r>
            <a:br>
              <a:rPr sz="3200"/>
            </a:br>
            <a:r>
              <a:rPr b="1" lang="fr-BE" sz="3200" spc="-1" strike="noStrike">
                <a:solidFill>
                  <a:srgbClr val="cc3300"/>
                </a:solidFill>
                <a:latin typeface="Arial"/>
              </a:rPr>
              <a:t>and statist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buClr>
                <a:srgbClr val="cc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63de8"/>
                </a:solidFill>
                <a:latin typeface="Arial"/>
              </a:rPr>
              <a:t>Almost no concrete figures collected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buClr>
                <a:srgbClr val="cc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63de8"/>
                </a:solidFill>
                <a:latin typeface="Arial"/>
              </a:rPr>
              <a:t>Mainly estimated figures available, in 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0" lang="fr-BE" sz="2800" spc="-1" strike="noStrike">
                <a:solidFill>
                  <a:srgbClr val="063de8"/>
                </a:solidFill>
                <a:latin typeface="Arial"/>
              </a:rPr>
              <a:t>comparison with different figures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CAE24-B789-4F4E-A4AE-2D9ECF5914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cc3300"/>
                </a:solidFill>
                <a:latin typeface="Arial"/>
              </a:rPr>
              <a:t>Example: Alcohol </a:t>
            </a:r>
            <a:br>
              <a:rPr sz="3200"/>
            </a:br>
            <a:r>
              <a:rPr b="1" lang="fr-BE" sz="3200" spc="-1" strike="noStrike">
                <a:solidFill>
                  <a:srgbClr val="cc3300"/>
                </a:solidFill>
                <a:latin typeface="Arial"/>
              </a:rPr>
              <a:t>and dru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cc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Alcohol </a:t>
            </a:r>
            <a:r>
              <a:rPr b="0" lang="en-GB" sz="2400" spc="-1" strike="noStrike">
                <a:solidFill>
                  <a:srgbClr val="063de8"/>
                </a:solidFill>
                <a:latin typeface="Arial"/>
              </a:rPr>
              <a:t>: before 2010 decrease the number of alcohol-related road accidents. N</a:t>
            </a:r>
            <a:r>
              <a:rPr b="0" lang="fr-BE" sz="2400" spc="-1" strike="noStrike">
                <a:solidFill>
                  <a:srgbClr val="063de8"/>
                </a:solidFill>
                <a:latin typeface="Arial"/>
              </a:rPr>
              <a:t>early 1 accident in 4 still can be attributed to excessive alcohol consumption</a:t>
            </a: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cc3300"/>
                </a:solidFill>
                <a:latin typeface="Arial"/>
              </a:rPr>
              <a:t>Drug : </a:t>
            </a:r>
            <a:r>
              <a:rPr b="0" lang="fr-BE" sz="2400" spc="-1" strike="noStrike">
                <a:solidFill>
                  <a:srgbClr val="063de8"/>
                </a:solidFill>
                <a:latin typeface="Arial"/>
              </a:rPr>
              <a:t>Prevalence of drug and medicine consumption in accidents can reach 15% ; number of accidents attributed to drug and medicines consumption continues to increase</a:t>
            </a: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63de8"/>
                </a:solidFill>
                <a:latin typeface="Arial"/>
              </a:rPr>
              <a:t>Reduction of the number of accidents under the influence of alcohol and psychoactive substances is therefore imperative</a:t>
            </a: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3de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02363-CCEC-4E24-A93B-9F0FB18006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fr-BE" sz="3600" spc="-1" strike="noStrike">
                <a:solidFill>
                  <a:srgbClr val="cc3300"/>
                </a:solidFill>
                <a:latin typeface="Arial"/>
              </a:rPr>
              <a:t>« Saturday night fever 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229600" cy="453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98154-A2A1-461D-B5B0-B74578BF02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cc3300"/>
                </a:solidFill>
                <a:latin typeface="Arial"/>
              </a:rPr>
              <a:t>Other example:</a:t>
            </a: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fr-BE" sz="3200" spc="-1" strike="noStrike">
                <a:solidFill>
                  <a:srgbClr val="cc3300"/>
                </a:solidFill>
                <a:latin typeface="Arial"/>
              </a:rPr>
              <a:t>elderly driv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cc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cc3300"/>
                </a:solidFill>
                <a:latin typeface="Arial"/>
              </a:rPr>
              <a:t>Statistics: </a:t>
            </a: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cccc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cc"/>
                </a:solidFill>
                <a:latin typeface="Arial"/>
              </a:rPr>
              <a:t>For those who are 70 years old or more, the death rate is higher for pedestrians than for car drivers, 40% versus 12% (CARE)</a:t>
            </a:r>
            <a:endParaRPr b="0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cccc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cc"/>
                </a:solidFill>
                <a:latin typeface="Arial"/>
              </a:rPr>
              <a:t>But the curve of drivers killed on the road is strongly increasing as of the age of 70 </a:t>
            </a:r>
            <a:endParaRPr b="0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cc3300"/>
                </a:solidFill>
                <a:latin typeface="Arial"/>
              </a:rPr>
              <a:t>Reasons:</a:t>
            </a: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cccc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cc"/>
                </a:solidFill>
                <a:latin typeface="Arial"/>
              </a:rPr>
              <a:t>Medical impairments ? Consumption of medicines ?</a:t>
            </a:r>
            <a:endParaRPr b="0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cc3300"/>
                </a:solidFill>
                <a:latin typeface="Arial"/>
              </a:rPr>
              <a:t>Legislation, mainly medical check</a:t>
            </a: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cccc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cc"/>
                </a:solidFill>
                <a:latin typeface="Arial"/>
              </a:rPr>
              <a:t>Different from one MS to another: medical check at the age of 70 years (IE, DK, NL, FI, UK), 65 years (EL, PT), 50 years (LU)</a:t>
            </a:r>
            <a:endParaRPr b="0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0DD60-0E4A-494C-9230-B1916A959B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cc33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cc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Arial"/>
              </a:rPr>
              <a:t>These examples show that there is a lack of knowledge about the impact of medical conditions on road safety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buClr>
                <a:srgbClr val="cc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Arial"/>
              </a:rPr>
              <a:t>An improvement in data collection would be a step forward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buClr>
                <a:srgbClr val="cc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Arial"/>
              </a:rPr>
              <a:t>Some studies on relative risk do exist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buClr>
                <a:srgbClr val="cc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Arial"/>
              </a:rPr>
              <a:t>Indeed figures are needed to define policies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25BC4-69C8-4F40-8AA4-9BECE1FA5E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Websi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c727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Commission transport website</a:t>
            </a:r>
            <a:br>
              <a:rPr sz="2800"/>
            </a:br>
            <a:r>
              <a:rPr b="0" lang="en-GB" sz="2400" spc="-1" strike="noStrike">
                <a:solidFill>
                  <a:srgbClr val="063de8"/>
                </a:solidFill>
                <a:latin typeface="Arial"/>
              </a:rPr>
              <a:t>http://europa.eu.int/comm/transport/index_en.html</a:t>
            </a:r>
            <a:br>
              <a:rPr sz="2400"/>
            </a:br>
            <a:r>
              <a:rPr b="0" lang="en-GB" sz="2400" spc="-1" strike="noStrike">
                <a:solidFill>
                  <a:srgbClr val="063de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727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Road transport section</a:t>
            </a:r>
            <a:br>
              <a:rPr sz="2800"/>
            </a:br>
            <a:r>
              <a:rPr b="0" lang="en-GB" sz="2400" spc="-1" strike="noStrike">
                <a:solidFill>
                  <a:srgbClr val="063de8"/>
                </a:solidFill>
                <a:latin typeface="Arial"/>
              </a:rPr>
              <a:t>http://europa.eu.int/comm/transport/road/index_en.htm</a:t>
            </a:r>
            <a:br>
              <a:rPr sz="2400"/>
            </a:br>
            <a:r>
              <a:rPr b="0" lang="en-GB" sz="2400" spc="-1" strike="noStrike">
                <a:solidFill>
                  <a:srgbClr val="063de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727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CARE database</a:t>
            </a:r>
            <a:br>
              <a:rPr sz="2800"/>
            </a:br>
            <a:r>
              <a:rPr b="0" lang="en-GB" sz="2400" spc="-1" strike="noStrike">
                <a:solidFill>
                  <a:srgbClr val="063de8"/>
                </a:solidFill>
                <a:latin typeface="Arial"/>
              </a:rPr>
              <a:t>http://europa.eu.int/comm/transport/home/care/index_en.htm</a:t>
            </a:r>
            <a:br>
              <a:rPr sz="2400"/>
            </a:br>
            <a:r>
              <a:rPr b="0" lang="en-GB" sz="2400" spc="-1" strike="noStrike">
                <a:solidFill>
                  <a:srgbClr val="063de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727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Driving licences</a:t>
            </a:r>
            <a:br>
              <a:rPr sz="2800"/>
            </a:br>
            <a:r>
              <a:rPr b="0" lang="en-GB" sz="2400" spc="-1" strike="noStrike">
                <a:solidFill>
                  <a:srgbClr val="063de8"/>
                </a:solidFill>
                <a:latin typeface="Arial"/>
              </a:rPr>
              <a:t>http://europa.eu.int/comm/transport/home/drivinglicence/</a:t>
            </a:r>
            <a:br>
              <a:rPr sz="2400"/>
            </a:br>
            <a:r>
              <a:rPr b="0" lang="en-GB" sz="2400" spc="-1" strike="noStrike">
                <a:solidFill>
                  <a:srgbClr val="063de8"/>
                </a:solidFill>
                <a:latin typeface="Arial"/>
              </a:rPr>
              <a:t>index_en.htm</a:t>
            </a:r>
            <a:endParaRPr b="0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40255-A659-47E3-B2D5-181E1E9482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7T13:55:32Z</dcterms:created>
  <dc:creator/>
  <dc:description/>
  <dc:language>en-US</dc:language>
  <cp:lastModifiedBy>Nick Sanders</cp:lastModifiedBy>
  <cp:lastPrinted>2003-10-30T16:55:07Z</cp:lastPrinted>
  <dcterms:modified xsi:type="dcterms:W3CDTF">2005-12-16T16:09:38Z</dcterms:modified>
  <cp:revision>48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87900338</vt:r8>
  </property>
  <property fmtid="{D5CDD505-2E9C-101B-9397-08002B2CF9AE}" pid="3" name="_AuthorEmail">
    <vt:lpwstr>Joel.VALMAIN@cec.eu.int</vt:lpwstr>
  </property>
  <property fmtid="{D5CDD505-2E9C-101B-9397-08002B2CF9AE}" pid="4" name="_AuthorEmailDisplayName">
    <vt:lpwstr>VALMAIN Joel (TREN)</vt:lpwstr>
  </property>
  <property fmtid="{D5CDD505-2E9C-101B-9397-08002B2CF9AE}" pid="5" name="_EmailSubject">
    <vt:lpwstr>Workshop MEDRIL</vt:lpwstr>
  </property>
  <property fmtid="{D5CDD505-2E9C-101B-9397-08002B2CF9AE}" pid="6" name="_ReviewingToolsShownOnce">
    <vt:lpwstr/>
  </property>
</Properties>
</file>