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522B-334A-4BCA-8300-211520302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34F4-0C1F-4500-82FD-75381E08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02B8-280E-4F9B-B782-3C53B492B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586C-014E-41BD-9F77-F2A8F76F2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0B59-9765-42A9-9E94-EB84646B3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223D-CB89-4D35-B3A7-BF9AA6173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C063-0721-4330-8B2F-E5FD83AE0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993D-CFC2-4A78-A91D-1980608F6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B4BA-DCC8-4760-BD34-FF5B7489B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8054-E84A-4964-9C6C-5FD3B58A8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EF55-E55F-475B-B47D-5745EA45C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E08E-7F33-4173-919D-BF1F4A5D0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buClr>
                <a:srgbClr val="cccc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4" marL="2057400" indent="-228600"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8520" y="304920"/>
            <a:ext cx="1419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444600" y="1371600"/>
            <a:ext cx="8331120" cy="4876920"/>
            <a:chOff x="444600" y="1371600"/>
            <a:chExt cx="8331120" cy="4876920"/>
          </a:xfrm>
        </p:grpSpPr>
        <p:sp>
          <p:nvSpPr>
            <p:cNvPr id="3" name=""/>
            <p:cNvSpPr/>
            <p:nvPr/>
          </p:nvSpPr>
          <p:spPr>
            <a:xfrm>
              <a:off x="444600" y="1371600"/>
              <a:ext cx="833112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4600" y="6248520"/>
              <a:ext cx="833112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905120" y="99072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2080" y="6399720"/>
            <a:ext cx="267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Information and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113040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53720" y="6399720"/>
            <a:ext cx="373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irectorate general for Energy and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3716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6D5-E9DC-441E-9D5F-6498A0ADCA4E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62643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Medril Workshop</a:t>
            </a:r>
            <a:br>
              <a:rPr sz="2800"/>
            </a:b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Brussels, 25 November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64464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act of medical conditions on road safety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ël Valmain</a:t>
            </a:r>
            <a:endParaRPr b="0" lang="en-US" sz="18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G TREN, E3</a:t>
            </a:r>
            <a:endParaRPr b="0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European Road Safety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tion Programme (2003-201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162864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LVING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VICTIMS BY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HA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52352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AD68-F630-4FEE-86E9-5E430F1AF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1990-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68444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2428-59FB-48FA-98D0-1D5B0EF2E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Medical impairments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and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Almost no concrete figures collected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Mainly estimated figures available, in 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comparison with different figures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D78B-CB19-457F-BC74-C76BFFFF7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Example: Alcohol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and dru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lcohol </a:t>
            </a: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: before 2010 decrease the number of alcohol-related road accidents. N</a:t>
            </a: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early 1 accident in 4 still can be attributed to excessive alcohol consumption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Drug : </a:t>
            </a: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Prevalence of drug and medicine consumption in accidents can reach 15% ; number of accidents attributed to drug and medicines consumption continues to increas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Reduction of the number of accidents under the influence of alcohol and psychoactive substances is therefore imperativ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2BA0-4A7D-4EA1-8E14-EDC7BF2BE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« Saturday night fever 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2296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EB2E-B195-4C8D-8AEF-454BFE906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Other example: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elderly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Statistics: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For those who are 70 years old or more, the death rate is higher for pedestrians than for car drivers, 40% versus 12% (CARE)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But the curve of drivers killed on the road is strongly increasing as of the age of 70 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Medical impairments ? Consumption of medicines ?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Legislation, mainly medical check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Different from one MS to another: medical check at the age of 70 years (IE, DK, NL, FI, UK), 65 years (EL, PT), 50 years (LU)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2857-9D4E-4E55-80F1-03A037E53C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These examples show that there is a lack of knowledge about the impact of medical conditions on road safety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An improvement in data collection would be a step forward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Some studies on relative risk do exis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Indeed figures are needed to define policies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865A-C5EA-45B7-A5AA-5F4D04AFB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Websi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ommission transport website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index_en.html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Road transport section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road/index_en.htm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ARE database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home/care/index_en.htm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riving licences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home/drivinglicence/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index_en.htm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5AF5-827C-451F-AB6E-20AA27E5F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3:55:32Z</dcterms:created>
  <dc:creator/>
  <dc:description/>
  <dc:language>en-US</dc:language>
  <cp:lastModifiedBy>Nick Sanders</cp:lastModifiedBy>
  <cp:lastPrinted>2003-10-30T16:55:07Z</cp:lastPrinted>
  <dcterms:modified xsi:type="dcterms:W3CDTF">2005-12-16T16:09:38Z</dcterms:modified>
  <cp:revision>4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7900338</vt:r8>
  </property>
  <property fmtid="{D5CDD505-2E9C-101B-9397-08002B2CF9AE}" pid="3" name="_AuthorEmail">
    <vt:lpwstr>Joel.VALMAIN@cec.eu.int</vt:lpwstr>
  </property>
  <property fmtid="{D5CDD505-2E9C-101B-9397-08002B2CF9AE}" pid="4" name="_AuthorEmailDisplayName">
    <vt:lpwstr>VALMAIN Joel (TREN)</vt:lpwstr>
  </property>
  <property fmtid="{D5CDD505-2E9C-101B-9397-08002B2CF9AE}" pid="5" name="_EmailSubject">
    <vt:lpwstr>Workshop MEDRIL</vt:lpwstr>
  </property>
  <property fmtid="{D5CDD505-2E9C-101B-9397-08002B2CF9AE}" pid="6" name="_ReviewingToolsShownOnce">
    <vt:lpwstr/>
  </property>
</Properties>
</file>