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549000" y="468360"/>
            <a:ext cx="271764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482B-6F7B-4B83-BE7F-8A033E52AA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45000" y="468360"/>
            <a:ext cx="266364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573360" y="2484360"/>
            <a:ext cx="27352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lick to edit Master text sty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econd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ird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is is to irritate you into a 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Relative Risks that are accepted in the driving population give a possible criterion for Epilep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is anagram is different from "the annual recurrence risk", because it points to the fact that the chance changes over time. A more general term is needed. (CO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We did not deal with impairment in thi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o establish an incapacity you need the cooperation of the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e chance of an accident while having a seizure at the wheel is 50% - 55% in the literature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We used for group 1: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60%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So “X” = 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For impairment: not every mishap leads to an accident, bur the RR is an overa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e chance of an accident while having a seizure at the wheel is 50% - 55% in the literature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We used for group 1: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60%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So “X” = 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Mathematical model with a specified mean recurrence period: you can set a criterium and read the amount of time to reach it on the horizontal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Length of bar = indication of the heterogeneity in the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Our choise: RR = 2 -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A therory of risk is necessary to come to a consistent regulaton in between groups that assess people for ability to dr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For incapacity it is possible to calculate the RR if one knows the COSY (COIY). i.e. epilepsy and other sudden incapacities like heart attac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For impairment the theory there seem to be less usable data: immotal is not practical; the report on vision mentiones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You need a range of impairment 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Apply cut-off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Do we have the relevant RR´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No – they can be collected by following-up well defined (impairment category-) groups that drive and compare them to a non-impaire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e average is not much higher than the average risk for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Epilepsy is not one disease, but a group of diseases with very different progn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ere is great heterogeneity within the "diseases" studied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You will have to define these factors and the degree of impairment very strictly and then do prospective research on there influence on driving ability and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A theory in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o be consistent, we need a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We are far from having adequate scientific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Scientists do not know what exactly to investigat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Relationship between the two =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Risk is given by the surface aerea of the 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USA study: 0.2% for epilep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ut 6OO fatalities per million people: sudden death in males over 50-5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Impossibility of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this seems a lot, think of the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Fatality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and if the passengers are absent, they can not be ki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Conclusions of the Second Working group on Epilepsy and 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C6E-8E90-4904-BB7C-D85F1D21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4B9-90D6-4BF5-8A0E-DD2D0192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4DF-F154-419E-BF0D-3AE6654D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2D8-B646-4A18-BD75-58060D09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6091-24B0-45FA-8FA7-A486C58C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4A10-93F9-4070-96B4-99601E3A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ABEC-655F-4C5A-B1CD-7B1BFBE2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7B34-8B03-465F-9122-7881EDE9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33DF-C51A-4B31-9FB1-76203E17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4D87-8272-4E5B-9E13-50960570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8F39-B4D7-47CC-B917-867F6370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EDB-10DB-4DB4-B288-448A7624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6ED5-6059-47EE-89D7-D92B7D63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67E7-96AD-4F2B-BB5D-7BE48176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4122-ECFF-4D52-956F-241D07ED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8027-FBF7-499E-AF8B-CE22050B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B725-87E2-4A73-A228-FC0C1AD9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E8B-A775-4BCE-AD8D-1591833E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6F3-C976-4109-9383-2FA8A425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CEC-689D-4471-B55B-E69C8540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8D9-CC0A-4CE4-B6E0-B668BCD0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1C7-4C62-4F75-8B97-B1A254EA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F46-8C89-4BEB-865B-A166904C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E82-9548-496F-AF9D-09F6680D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949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66"/>
                </a:solidFill>
                <a:latin typeface="Arial"/>
              </a:rPr>
              <a:t>Brussels, 25 nov 20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48000" y="6524640"/>
            <a:ext cx="2679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66"/>
                </a:solidFill>
                <a:latin typeface="Arial"/>
              </a:rPr>
              <a:t>Second MEDRIL worksho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8764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60CC-95EC-470A-8FEC-4A27DCD1DCDB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fld id="{828A0221-8C9B-46F1-9DA3-DAAF3F179BE8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4124-F994-4540-8E16-C8745BCC5361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26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4965840" cy="3311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On the relative risk of medical incapacity or impairment while driv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4360" y="-360"/>
            <a:ext cx="50004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Eric Schmed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0" y="115920"/>
          <a:ext cx="9213840" cy="67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920"/>
                    <a:ext cx="921384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00720" y="2276640"/>
            <a:ext cx="2133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Accept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epilepsy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3284640"/>
            <a:ext cx="1368360" cy="75960"/>
          </a:xfrm>
          <a:prstGeom prst="leftRightArrow">
            <a:avLst>
              <a:gd name="adj1" fmla="val 50000"/>
              <a:gd name="adj2" fmla="val 358616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b2b2b2"/>
                </a:solidFill>
                <a:latin typeface="Arial"/>
              </a:rPr>
              <a:t>The quest for a criterium</a:t>
            </a:r>
            <a:br>
              <a:rPr sz="4000"/>
            </a:br>
            <a:r>
              <a:rPr b="0" lang="nl-BE" sz="2800" spc="-1" strike="noStrike">
                <a:solidFill>
                  <a:srgbClr val="b2b2b2"/>
                </a:solidFill>
                <a:latin typeface="Arial"/>
              </a:rPr>
              <a:t>-driver level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The criterium for driving should be based on the risk for the patient, rather than on the risk for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3716280"/>
            <a:ext cx="8424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Relative risks up to 3 (6?) are accepted for some groups within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Relative risks of 2 – 4 could be acceptable for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b2b2b2"/>
                </a:solidFill>
                <a:latin typeface="Arial"/>
              </a:rPr>
              <a:t>The quest for a criteriu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lation between the Relative Risk and the CO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R 2 – 3 is COSY 20% - 40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765760"/>
            <a:ext cx="8763120" cy="106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66"/>
                </a:solidFill>
                <a:latin typeface="Times New Roman"/>
              </a:rPr>
              <a:t>COSY </a:t>
            </a:r>
            <a:r>
              <a:rPr b="1" lang="nl-BE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nl-BE" sz="3200" spc="-1" strike="noStrike">
                <a:solidFill>
                  <a:srgbClr val="ff0066"/>
                </a:solidFill>
                <a:latin typeface="Times New Roman"/>
              </a:rPr>
              <a:t> C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ance of an </a:t>
            </a:r>
            <a:r>
              <a:rPr b="1" lang="nl-BE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currence of a </a:t>
            </a:r>
            <a:r>
              <a:rPr b="1" lang="nl-BE" sz="3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izure in the next </a:t>
            </a:r>
            <a:r>
              <a:rPr b="1" lang="nl-BE" sz="32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76280"/>
            <a:ext cx="7772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b2b2b2"/>
                </a:solidFill>
                <a:latin typeface="Arial"/>
              </a:rPr>
              <a:t>Incapacity: epileps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Factors in the equation of ris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981080"/>
            <a:ext cx="175248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1. expo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3005280"/>
            <a:ext cx="198108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acute/chronic impair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3005280"/>
            <a:ext cx="198108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2. acute in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4267080"/>
            <a:ext cx="167616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3. acci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5334120"/>
            <a:ext cx="167616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4. Outcome (fat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81280" y="25146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5146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886200"/>
            <a:ext cx="53352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38862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80060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334120"/>
            <a:ext cx="2286000" cy="45972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 = (R-1).F/(D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2057400"/>
            <a:ext cx="761760" cy="379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5120" y="2666880"/>
            <a:ext cx="1600200" cy="1599840"/>
            <a:chOff x="1905120" y="2666880"/>
            <a:chExt cx="1600200" cy="1599840"/>
          </a:xfrm>
        </p:grpSpPr>
        <p:sp>
          <p:nvSpPr>
            <p:cNvPr id="198" name=""/>
            <p:cNvSpPr/>
            <p:nvPr/>
          </p:nvSpPr>
          <p:spPr>
            <a:xfrm>
              <a:off x="1905120" y="2666880"/>
              <a:ext cx="1600200" cy="152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905120" y="2742840"/>
              <a:ext cx="1523880" cy="1523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Factors in the equation of ris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1981080"/>
            <a:ext cx="175248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1. D = 0.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005280"/>
            <a:ext cx="198108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acute/chronic impair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3005280"/>
            <a:ext cx="205740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2. COSY = 20% (r = 0.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267080"/>
            <a:ext cx="167616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3. X = 0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334120"/>
            <a:ext cx="167616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4. F = 0.000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81280" y="25146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25146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886200"/>
            <a:ext cx="53352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715000" y="38862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480060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334120"/>
            <a:ext cx="2286000" cy="45972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 = (R-1).F/(D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77320" y="2057400"/>
            <a:ext cx="761760" cy="379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05120" y="2666880"/>
            <a:ext cx="1600200" cy="1599840"/>
            <a:chOff x="1905120" y="2666880"/>
            <a:chExt cx="1600200" cy="1599840"/>
          </a:xfrm>
        </p:grpSpPr>
        <p:sp>
          <p:nvSpPr>
            <p:cNvPr id="214" name=""/>
            <p:cNvSpPr/>
            <p:nvPr/>
          </p:nvSpPr>
          <p:spPr>
            <a:xfrm>
              <a:off x="1905120" y="2666880"/>
              <a:ext cx="1600200" cy="152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905120" y="2742840"/>
              <a:ext cx="1523880" cy="1523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Factors in the equation of ris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5300640"/>
            <a:ext cx="2286000" cy="45972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 = (R-1).F/(D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35280" y="1981080"/>
            <a:ext cx="6013440" cy="4178520"/>
            <a:chOff x="1835280" y="1981080"/>
            <a:chExt cx="6013440" cy="4178520"/>
          </a:xfrm>
        </p:grpSpPr>
        <p:sp>
          <p:nvSpPr>
            <p:cNvPr id="219" name=""/>
            <p:cNvSpPr/>
            <p:nvPr/>
          </p:nvSpPr>
          <p:spPr>
            <a:xfrm>
              <a:off x="3962520" y="5334120"/>
              <a:ext cx="1676160" cy="825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ffffff"/>
                  </a:solidFill>
                  <a:latin typeface="Times New Roman"/>
                </a:rPr>
                <a:t>4. F = 0.0001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1835280" y="1981080"/>
              <a:ext cx="6013440" cy="3276720"/>
              <a:chOff x="1835280" y="1981080"/>
              <a:chExt cx="6013440" cy="3276720"/>
            </a:xfrm>
          </p:grpSpPr>
          <p:sp>
            <p:nvSpPr>
              <p:cNvPr id="221" name=""/>
              <p:cNvSpPr/>
              <p:nvPr/>
            </p:nvSpPr>
            <p:spPr>
              <a:xfrm>
                <a:off x="3962520" y="1981080"/>
                <a:ext cx="1752480" cy="45972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1. D = 0.0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835280" y="2997360"/>
                <a:ext cx="1981080" cy="82548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acute/chronic impairmen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91320" y="3005280"/>
                <a:ext cx="2057400" cy="82548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2. COSY = 20% (r = 0.2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62520" y="4267080"/>
                <a:ext cx="1676160" cy="45972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3. X = 0.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581280" y="2514600"/>
                <a:ext cx="45720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38680" y="2514600"/>
                <a:ext cx="45720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52680" y="3886200"/>
                <a:ext cx="53352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5715000" y="3886200"/>
                <a:ext cx="45720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0600" y="4800600"/>
                <a:ext cx="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905120" y="2666880"/>
                <a:ext cx="1600200" cy="1599840"/>
                <a:chOff x="1905120" y="2666880"/>
                <a:chExt cx="1600200" cy="159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905120" y="2666880"/>
                  <a:ext cx="1600200" cy="1524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1905120" y="2742840"/>
                  <a:ext cx="1523880" cy="1523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8101080" y="20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3141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01080" y="4221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01080" y="537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01080" y="2060640"/>
            <a:ext cx="761760" cy="379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27640" y="479736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3200" y="493560"/>
            <a:ext cx="82198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From the COSY to the personal risk increase: 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2590920"/>
            <a:ext cx="1447920" cy="101592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F/(DX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= 0.1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2971800"/>
            <a:ext cx="5410440" cy="347328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r = COSY (in %) /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 = individual risk ratio (compared to someone who does not have epileps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 = fatal casualty rate per driver per year (1 / 7250 drivers) in the 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 = proportion of time spent at the wheel (1 hour = 0.04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X = probability of a seizure at the wheel leading to a fatality (0.6*0.03 = 0.01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940360" y="2205000"/>
            <a:ext cx="2971440" cy="4554720"/>
            <a:chOff x="5940360" y="2205000"/>
            <a:chExt cx="2971440" cy="4554720"/>
          </a:xfrm>
        </p:grpSpPr>
        <p:sp>
          <p:nvSpPr>
            <p:cNvPr id="243" name=""/>
            <p:cNvSpPr/>
            <p:nvPr/>
          </p:nvSpPr>
          <p:spPr>
            <a:xfrm>
              <a:off x="5940360" y="4506120"/>
              <a:ext cx="2971440" cy="2253600"/>
            </a:xfrm>
            <a:prstGeom prst="rect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COSY = 2% 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R = 1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COSY = 10%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R = 1.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COSY = 20%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R = 2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COSY = 30%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R = 2.6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COSY = 40%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R = 3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5906160" y="2485800"/>
              <a:ext cx="2130480" cy="156852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90" stAng="10800000" swAng="5400000"/>
                  <a:lnTo>
                    <a:pt x="15228" y="4870"/>
                  </a:lnTo>
                  <a:lnTo>
                    <a:pt x="15228" y="0"/>
                  </a:lnTo>
                  <a:lnTo>
                    <a:pt x="21600" y="6079"/>
                  </a:lnTo>
                  <a:lnTo>
                    <a:pt x="15228" y="12158"/>
                  </a:lnTo>
                  <a:lnTo>
                    <a:pt x="15228" y="7288"/>
                  </a:lnTo>
                  <a:lnTo>
                    <a:pt x="12427" y="7288"/>
                  </a:lnTo>
                  <a:arcTo wR="10009" hR="4872" stAng="16200000" swAng="-5400000"/>
                  <a:lnTo>
                    <a:pt x="2418" y="21600"/>
                  </a:lnTo>
                  <a:close/>
                </a:path>
              </a:pathLst>
            </a:cu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-0.5316 -0.1595 E">
                                      <p:cBhvr>
                                        <p:cTn id="47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85185E-006 L 0.30017 -0.47616 E">
                                      <p:cBhvr>
                                        <p:cTn id="5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-0.07483 -0.40093 E">
                                      <p:cBhvr>
                                        <p:cTn id="5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9259E-006 L -0.004 -0.23287 E">
                                      <p:cBhvr>
                                        <p:cTn id="5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-0.03542 0.08217 E">
                                      <p:cBhvr>
                                        <p:cTn id="59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3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b2b2b2"/>
                </a:solidFill>
                <a:latin typeface="Arial"/>
              </a:rPr>
              <a:t>Recurrence ris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The COSY decreases with the length of the seizure-fre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Model for the next occurrence of a randomly occurring ev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2057400"/>
          <a:ext cx="7772400" cy="47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240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1116000" y="4149360"/>
            <a:ext cx="7416720" cy="719640"/>
            <a:chOff x="1116000" y="4149360"/>
            <a:chExt cx="7416720" cy="719640"/>
          </a:xfrm>
        </p:grpSpPr>
        <p:sp>
          <p:nvSpPr>
            <p:cNvPr id="252" name=""/>
            <p:cNvSpPr/>
            <p:nvPr/>
          </p:nvSpPr>
          <p:spPr>
            <a:xfrm>
              <a:off x="1116000" y="4508640"/>
              <a:ext cx="7416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67280" y="41497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ffff"/>
                  </a:solidFill>
                  <a:latin typeface="Arial"/>
                </a:rPr>
                <a:t>Criterium l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812000" y="414936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12000" y="450864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60280"/>
            <a:ext cx="876312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Recurrence before seizure-free peri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85800" y="2057400"/>
          <a:ext cx="73915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3915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8077320" y="2590920"/>
            <a:ext cx="685800" cy="2499840"/>
          </a:xfrm>
          <a:prstGeom prst="rect">
            <a:avLst/>
          </a:prstGeom>
          <a:solidFill>
            <a:srgbClr val="0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ff9900"/>
                </a:solidFill>
                <a:latin typeface="Times New Roman"/>
              </a:rPr>
              <a:t>6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28800" y="59436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Relative Risk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0280"/>
            <a:ext cx="8763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Recurrence after seizure-free peri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2057400"/>
          <a:ext cx="73915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3915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8077320" y="2590920"/>
            <a:ext cx="685800" cy="2499840"/>
          </a:xfrm>
          <a:prstGeom prst="rect">
            <a:avLst/>
          </a:prstGeom>
          <a:solidFill>
            <a:srgbClr val="0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ff9900"/>
                </a:solidFill>
                <a:latin typeface="Times New Roman"/>
              </a:rPr>
              <a:t>6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732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00"/>
                </a:solidFill>
                <a:latin typeface="Times New Roman"/>
              </a:rPr>
              <a:t>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51814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Cosy 20% = RR 2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59436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Relative Risk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24680" y="5105520"/>
            <a:ext cx="1067040" cy="1143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Two types of risk and one crite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Relative Risk in the assessment of incapacity: epilep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The equation of risk for in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Relationship between RR and CO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Difference for the assessment of impairment: 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Relative Risk: why use i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What if…? – no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b2b2b2"/>
                </a:solidFill>
                <a:latin typeface="Arial"/>
              </a:rPr>
              <a:t>Different approach: the use of R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Impair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Identification of the relev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RR per function and p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impairment categ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Cut-off value (e.g. RR &gt; 2 ?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66"/>
                </a:solidFill>
                <a:latin typeface="Arial"/>
              </a:rPr>
              <a:t>Test </a:t>
            </a:r>
            <a:r>
              <a:rPr b="0" lang="nl-BE" sz="1800" spc="-1" strike="noStrike">
                <a:solidFill>
                  <a:srgbClr val="b2b2b2"/>
                </a:solidFill>
                <a:latin typeface="Arial"/>
              </a:rPr>
              <a:t>function while dri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b2b2b2"/>
                </a:solidFill>
                <a:latin typeface="Arial"/>
              </a:rPr>
              <a:t>Confounding vari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b2b2b2"/>
                </a:solidFill>
                <a:latin typeface="Arial"/>
              </a:rPr>
              <a:t>Importance of adaptive behavio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b2b2b2"/>
                </a:solidFill>
                <a:latin typeface="Arial"/>
              </a:rPr>
              <a:t>Measurement instru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b2b2b2"/>
                </a:solidFill>
                <a:latin typeface="Arial"/>
              </a:rPr>
              <a:t>Robust? Reproducible? Face valu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b2b2b2"/>
                </a:solidFill>
                <a:latin typeface="Arial"/>
              </a:rPr>
              <a:t>"cheat resistance"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Incapa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How likely is it to occur while driv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You need the co-operation of the pat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Determine the COS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Compare with the criter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Arial"/>
              </a:rPr>
              <a:t>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32720" y="3789360"/>
            <a:ext cx="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3429000"/>
            <a:ext cx="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Impairment: the use of R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264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Impair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Identification of the relevant 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RR per function and per 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impairment categ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Cut-off value (e.g. RR &gt; 2 ?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451640" y="2852640"/>
            <a:ext cx="1441440" cy="360360"/>
            <a:chOff x="7451640" y="2852640"/>
            <a:chExt cx="1441440" cy="360360"/>
          </a:xfrm>
        </p:grpSpPr>
        <p:sp>
          <p:nvSpPr>
            <p:cNvPr id="278" name=""/>
            <p:cNvSpPr/>
            <p:nvPr/>
          </p:nvSpPr>
          <p:spPr>
            <a:xfrm flipH="1">
              <a:off x="7451640" y="3213000"/>
              <a:ext cx="14414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67640" y="2852640"/>
              <a:ext cx="100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ffffff"/>
                  </a:solidFill>
                  <a:latin typeface="Arial Unicode MS"/>
                </a:rPr>
                <a:t>ran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.06297 E">
                                      <p:cBhvr>
                                        <p:cTn id="91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.06297 E">
                                      <p:cBhvr>
                                        <p:cTn id="93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.06297 E">
                                      <p:cBhvr>
                                        <p:cTn id="95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.06297 E">
                                      <p:cBhvr>
                                        <p:cTn id="97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.06297 E">
                                      <p:cBhvr>
                                        <p:cTn id="99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8360" y="347760"/>
          <a:ext cx="8207280" cy="65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7760"/>
                    <a:ext cx="820728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343480" y="56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Epilepsy: what´s in a wor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Chance of having an acc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t increas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group that is allowed to drive (OR: 0.95  CI: 0.88-1.0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aylor, Chadwick, Johnson: “Risk of accidents in drivers with epilepsy”  </a:t>
            </a:r>
            <a:r>
              <a:rPr b="1" i="1" lang="en-GB" sz="1400" spc="-1" strike="noStrike">
                <a:solidFill>
                  <a:srgbClr val="ffffff"/>
                </a:solidFill>
                <a:latin typeface="Arial"/>
              </a:rPr>
              <a:t>J Neurol, Neurosurg, Psychiatry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1996; 60:621-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ugely increas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a pre-surgical group (frequent seizures) of 367 patients: 40 % at some point had a seizure while dr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0 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m (27% of the whole group) had, at one point in time, one or more accidents while driving. Of these 32% had physical damage themselves; 20% caused physical damage i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erg A et al: “Driving in adults with refractory localisation-related epilepsy” </a:t>
            </a:r>
            <a:r>
              <a:rPr b="1" i="1" lang="en-GB" sz="1400" spc="-1" strike="noStrike">
                <a:solidFill>
                  <a:srgbClr val="ffffff"/>
                </a:solidFill>
                <a:latin typeface="Arial"/>
              </a:rPr>
              <a:t>Neurology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2000; 54: 625-6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Relative risk useful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Find RR not for groups (diseases), but for factors that influence dr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ncapacity, e.g. Epileps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O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mpairment, e.g. Vision: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Visual acuity RR&lt;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ontrast sensi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glare sensitivity (= condition- depend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visual field (binocular test) (UF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diplopia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2637000"/>
            <a:ext cx="576108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48360" y="2349360"/>
            <a:ext cx="1295640" cy="36828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71640" y="2349360"/>
            <a:ext cx="7272360" cy="368280"/>
            <a:chOff x="971640" y="2349360"/>
            <a:chExt cx="7272360" cy="368280"/>
          </a:xfrm>
        </p:grpSpPr>
        <p:sp>
          <p:nvSpPr>
            <p:cNvPr id="291" name=""/>
            <p:cNvSpPr/>
            <p:nvPr/>
          </p:nvSpPr>
          <p:spPr>
            <a:xfrm>
              <a:off x="971640" y="2637000"/>
              <a:ext cx="576108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48360" y="2349360"/>
              <a:ext cx="1295640" cy="368280"/>
            </a:xfrm>
            <a:prstGeom prst="rect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ffff"/>
                  </a:solidFill>
                  <a:latin typeface="Verdana"/>
                </a:rPr>
                <a:t>Resear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24000" y="4221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The rules as proposed for epilepsy group 2 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 based on a COSY of 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riving time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imes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oll of accidents: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imes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Assessment: what to do with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Multiple RR´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omorbidity or the side-effect of med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Limited lic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No consistent advice on how to us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severe, but h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4365720"/>
            <a:ext cx="39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0360" y="4797360"/>
            <a:ext cx="144360" cy="576360"/>
          </a:xfrm>
          <a:custGeom>
            <a:avLst/>
            <a:gdLst>
              <a:gd name="textAreaLeft" fmla="*/ 0 w 144360"/>
              <a:gd name="textAreaRight" fmla="*/ 5220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72360" y="4797360"/>
            <a:ext cx="2590560" cy="45972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15 times as sev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To find a criterium of acceptable risk, we should consider the risk for the person (RR), not the risk for the population (A, attributable ris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n "RR" of 2-3 is accep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RR does not give the increase in risk compared to the populatio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RR when studied in medical conditions for non-homogeneous groups is not usable as such. The RR has to be studied for well-defined subgrou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000" y="458100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RR is usef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s criterium in risk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or reasons of consist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n explanation and thus motivation of the pat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No theory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means no </a:t>
            </a:r>
            <a:r>
              <a:rPr b="0" lang="nl-BE" sz="3200" spc="-1" strike="noStrike" u="sng">
                <a:solidFill>
                  <a:srgbClr val="ffffff"/>
                </a:solidFill>
                <a:uFillTx/>
                <a:latin typeface="Arial"/>
              </a:rPr>
              <a:t>adequate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 scientif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For the chance of a period of incapacity in the next year (COS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For the RR of a certain function and a specific impairment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means no criterium for "non-disease" 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( = no necessity to test or ass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8000" y="5157720"/>
            <a:ext cx="79200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66"/>
                </a:solidFill>
                <a:latin typeface="Arial"/>
              </a:rPr>
              <a:t>…</a:t>
            </a:r>
            <a:r>
              <a:rPr b="0" lang="nl-BE" sz="3200" spc="-1" strike="noStrike">
                <a:solidFill>
                  <a:srgbClr val="ffff66"/>
                </a:solidFill>
                <a:latin typeface="Arial"/>
              </a:rPr>
              <a:t>but will the theory be proven to be an </a:t>
            </a:r>
            <a:r>
              <a:rPr b="0" lang="nl-BE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66"/>
                </a:solidFill>
                <a:latin typeface="Arial"/>
              </a:rPr>
              <a:t>improvement on common sens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264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5221080" cy="765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Second MEDRIL workshop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russels, 25 november 2005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1125360"/>
            <a:ext cx="5184720" cy="621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eric.schmedding@az.vub.ac.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5334120"/>
            <a:ext cx="990360" cy="1523880"/>
            <a:chOff x="0" y="5334120"/>
            <a:chExt cx="990360" cy="1523880"/>
          </a:xfrm>
        </p:grpSpPr>
        <p:sp>
          <p:nvSpPr>
            <p:cNvPr id="309" name=""/>
            <p:cNvSpPr/>
            <p:nvPr/>
          </p:nvSpPr>
          <p:spPr>
            <a:xfrm>
              <a:off x="152280" y="5410440"/>
              <a:ext cx="76320" cy="7596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0" y="5334120"/>
              <a:ext cx="990360" cy="1523880"/>
              <a:chOff x="0" y="5334120"/>
              <a:chExt cx="990360" cy="1523880"/>
            </a:xfrm>
          </p:grpSpPr>
          <p:pic>
            <p:nvPicPr>
              <p:cNvPr id="3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548640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28600" y="5486400"/>
                <a:ext cx="0" cy="68580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6172200"/>
                <a:ext cx="76176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914400" y="5486040"/>
                <a:ext cx="0" cy="68580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28600" y="5486400"/>
                <a:ext cx="76176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152280" y="6172200"/>
                <a:ext cx="76320" cy="76320"/>
              </a:xfrm>
              <a:prstGeom prst="line">
                <a:avLst/>
              </a:prstGeom>
              <a:ln w="255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2280" y="5334120"/>
                <a:ext cx="0" cy="1523880"/>
              </a:xfrm>
              <a:prstGeom prst="line">
                <a:avLst/>
              </a:prstGeom>
              <a:ln w="7632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5334120"/>
                <a:ext cx="304560" cy="15228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1332000" y="5334120"/>
            <a:ext cx="1078560" cy="1523880"/>
            <a:chOff x="1332000" y="5334120"/>
            <a:chExt cx="1078560" cy="1523880"/>
          </a:xfrm>
        </p:grpSpPr>
        <p:sp>
          <p:nvSpPr>
            <p:cNvPr id="320" name=""/>
            <p:cNvSpPr/>
            <p:nvPr/>
          </p:nvSpPr>
          <p:spPr>
            <a:xfrm>
              <a:off x="1497600" y="5410440"/>
              <a:ext cx="83160" cy="7596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332000" y="5334120"/>
              <a:ext cx="1078560" cy="1523880"/>
              <a:chOff x="1332000" y="5334120"/>
              <a:chExt cx="1078560" cy="15238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0760" y="5486400"/>
                <a:ext cx="7470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1580760" y="5486400"/>
                <a:ext cx="0" cy="68580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580760" y="6172200"/>
                <a:ext cx="82980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328120" y="5486040"/>
                <a:ext cx="0" cy="68580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580400" y="5486400"/>
                <a:ext cx="82980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497600" y="6172200"/>
                <a:ext cx="82800" cy="76320"/>
              </a:xfrm>
              <a:prstGeom prst="line">
                <a:avLst/>
              </a:prstGeom>
              <a:ln w="255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497600" y="5334120"/>
                <a:ext cx="0" cy="1523880"/>
              </a:xfrm>
              <a:prstGeom prst="line">
                <a:avLst/>
              </a:prstGeom>
              <a:ln w="7632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32000" y="5334120"/>
                <a:ext cx="331560" cy="15228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1619280" y="5516640"/>
            <a:ext cx="649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b2b2b2"/>
                </a:solidFill>
                <a:latin typeface="Arial"/>
              </a:rPr>
              <a:t>Second Working Group on Epilepsy and Driving of the European Union: member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r Joël Valmain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Jaume Burcet Dar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Bernhard Gappma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rof Guenter Krae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John Kir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Mikael Oj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Nicole Marksch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Eric Schmed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Anders Sundqv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Elena Valdè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rof Hervé Vespigniani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Graham Wether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Jörgen Worm-Peter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92360" y="2057040"/>
            <a:ext cx="3165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ffic Bureau   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n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62064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61596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572000" y="3789360"/>
            <a:ext cx="581040" cy="861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724280"/>
            <a:ext cx="69048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500720" y="1773360"/>
            <a:ext cx="69048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454560" y="1268280"/>
            <a:ext cx="799920" cy="1059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668160" cy="914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57200" y="3124080"/>
            <a:ext cx="606600" cy="914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4572000" y="5805360"/>
            <a:ext cx="606600" cy="914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457200" y="5105520"/>
            <a:ext cx="577800" cy="914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32000" y="3573360"/>
            <a:ext cx="136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256536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2766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458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5589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652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00000" y="59500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99640" y="4941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00000" y="3933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00000" y="2924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Criteria for two types of risks 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787400"/>
            <a:ext cx="4033800" cy="352296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For the population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A” attributabl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= The % of the population at risk because of  the disease * ( R – 1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= P ( R – 1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3280" y="1787400"/>
            <a:ext cx="4034160" cy="352296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Arial"/>
              </a:rPr>
              <a:t>For the driver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R” relativ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 = a ratio of risk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isk of people with the disease /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isk of people without the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3106800">
            <a:off x="5778000" y="1205280"/>
            <a:ext cx="666720" cy="485640"/>
          </a:xfrm>
          <a:prstGeom prst="rightArrow">
            <a:avLst>
              <a:gd name="adj1" fmla="val 50000"/>
              <a:gd name="adj2" fmla="val 3432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346200">
            <a:off x="2690280" y="1206360"/>
            <a:ext cx="648000" cy="486000"/>
          </a:xfrm>
          <a:prstGeom prst="leftArrow">
            <a:avLst>
              <a:gd name="adj1" fmla="val 50000"/>
              <a:gd name="adj2" fmla="val 3333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516640"/>
            <a:ext cx="4032360" cy="642600"/>
          </a:xfrm>
          <a:prstGeom prst="rect">
            <a:avLst/>
          </a:prstGeom>
          <a:noFill/>
          <a:ln w="255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The risk for the population remains low as long as "R" is reaso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A = Attributable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A = P ( R – 1 )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P = 0.6*7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A = 0.42 ( 2.0 – 1 ) = 0.42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(no epileps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tal population with a li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A”: Risk for the popul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4653000"/>
            <a:ext cx="720720" cy="36036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653000"/>
            <a:ext cx="287964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292640"/>
            <a:ext cx="720720" cy="3650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4292640"/>
            <a:ext cx="144360" cy="36360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3600"/>
              <a:gd name="textAreaBottom" fmla="*/ 354240 h 36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4653000"/>
            <a:ext cx="144360" cy="36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4292640"/>
            <a:ext cx="147600" cy="649080"/>
          </a:xfrm>
          <a:custGeom>
            <a:avLst/>
            <a:gdLst>
              <a:gd name="textAreaLeft" fmla="*/ 94320 w 147600"/>
              <a:gd name="textAreaRight" fmla="*/ 147960 w 14760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737"/>
                </a:lnTo>
                <a:cubicBezTo>
                  <a:pt x="10800" y="4637"/>
                  <a:pt x="5400" y="5537"/>
                  <a:pt x="0" y="5537"/>
                </a:cubicBezTo>
                <a:cubicBezTo>
                  <a:pt x="5400" y="5537"/>
                  <a:pt x="10800" y="6437"/>
                  <a:pt x="10800" y="733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3860640"/>
            <a:ext cx="144360" cy="560520"/>
          </a:xfrm>
          <a:prstGeom prst="downArrow">
            <a:avLst>
              <a:gd name="adj1" fmla="val 50000"/>
              <a:gd name="adj2" fmla="val 9707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6021360"/>
            <a:ext cx="1695600" cy="144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51280" y="6021360"/>
            <a:ext cx="182880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5445000"/>
            <a:ext cx="44928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850920" y="5445000"/>
            <a:ext cx="30492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572000" y="5445000"/>
            <a:ext cx="129528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5445000"/>
            <a:ext cx="158436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571680"/>
            <a:ext cx="8001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b2b2b2"/>
                </a:solidFill>
                <a:latin typeface="Arial"/>
              </a:rPr>
              <a:t>How much is 0.42% ?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European Union 2001 accidents </a:t>
            </a:r>
            <a:r>
              <a:rPr b="0" lang="nl-BE" sz="2800" spc="-1" strike="noStrike" u="sng">
                <a:solidFill>
                  <a:srgbClr val="ffffff"/>
                </a:solidFill>
                <a:uFillTx/>
                <a:latin typeface="Arial"/>
              </a:rPr>
              <a:t>per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njury- accidents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34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Serious (+ fatal) accidents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710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So 0.42% would be: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seri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BE" sz="2800" spc="-1" strike="noStrike">
                <a:solidFill>
                  <a:srgbClr val="ffffff"/>
                </a:solidFill>
                <a:latin typeface="Arial"/>
              </a:rPr>
              <a:t>including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0.4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f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R”: who runs the ris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&gt; 60% of the risk is for th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urope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1% of all fatalities are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A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maining risk shared by the passengers &gt; = other roa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iv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engers  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0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ca 25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passengers are present, the risk for them rises up to the driver´s level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4365720"/>
            <a:ext cx="4343400" cy="2286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4365720"/>
            <a:ext cx="1828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20000" y="4365720"/>
            <a:ext cx="106668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b2b2b2"/>
                </a:solidFill>
                <a:latin typeface="Arial"/>
              </a:rPr>
              <a:t>The quest for a criterium</a:t>
            </a:r>
            <a:br>
              <a:rPr sz="4000"/>
            </a:br>
            <a:r>
              <a:rPr b="0" lang="nl-BE" sz="2800" spc="-1" strike="noStrike">
                <a:solidFill>
                  <a:srgbClr val="b2b2b2"/>
                </a:solidFill>
                <a:latin typeface="Arial"/>
              </a:rPr>
              <a:t>-population level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There are few data (but none from Europe) about the risk for the individual driver with epilepsy but theoretically the risk is low for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Two types of risk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787400"/>
            <a:ext cx="4033800" cy="352296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For the population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A” attributabl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= The % of the population at risk because of  the disease * ( R – 1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= P ( R – 1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1787400"/>
            <a:ext cx="4034160" cy="352296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Arial"/>
              </a:rPr>
              <a:t>For the driver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R” relativ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 = a ratio of risk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isk of people with the disease /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isk of people without the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3106800">
            <a:off x="5778000" y="1205280"/>
            <a:ext cx="666720" cy="485640"/>
          </a:xfrm>
          <a:prstGeom prst="rightArrow">
            <a:avLst>
              <a:gd name="adj1" fmla="val 50000"/>
              <a:gd name="adj2" fmla="val 3432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8346200">
            <a:off x="2690280" y="1206360"/>
            <a:ext cx="648000" cy="486000"/>
          </a:xfrm>
          <a:prstGeom prst="leftArrow">
            <a:avLst>
              <a:gd name="adj1" fmla="val 50000"/>
              <a:gd name="adj2" fmla="val 3333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5516640"/>
            <a:ext cx="4032360" cy="642600"/>
          </a:xfrm>
          <a:prstGeom prst="rect">
            <a:avLst/>
          </a:prstGeom>
          <a:noFill/>
          <a:ln w="255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The risk for the population remains low as long as "R" is reaso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5516640"/>
            <a:ext cx="4032360" cy="642600"/>
          </a:xfrm>
          <a:prstGeom prst="rect">
            <a:avLst/>
          </a:pr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A "R" of 2-3 is very acceptable and should not lead to inability to dr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2637000"/>
            <a:ext cx="4032000" cy="2663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9:31:25Z</dcterms:created>
  <dc:creator>neusge</dc:creator>
  <dc:description/>
  <dc:language>en-US</dc:language>
  <cp:lastModifiedBy>Nick Sanders</cp:lastModifiedBy>
  <dcterms:modified xsi:type="dcterms:W3CDTF">2005-12-06T15:23:52Z</dcterms:modified>
  <cp:revision>75</cp:revision>
  <dc:subject/>
  <dc:title>Confidentiality of these slides.</dc:title>
</cp:coreProperties>
</file>