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Custom Show 2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962-2E31-49E7-8ED6-8BC9E13B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93C-0C34-450A-9139-6E88DB9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BC5-F45A-48D2-B603-67CA7C08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847-3730-4643-9954-A3FD9166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57C-2F32-4EB4-8388-996EBB0D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E4A-44BD-486C-87E6-8BD13FE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F47-2546-4D6C-816D-E784690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10F-E9A1-4232-96EB-F25D8C4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CEE-8AF8-4B69-9D35-1B4F277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075-F413-4F95-8557-FA9652C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B88-FCAD-4E6E-8636-DF499FF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F32-F050-43C2-93D8-513A393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FB4D-8A7C-4C24-B0E0-83D9737A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sessing fitness to drive in Category B licence holder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Great Bri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r Heather 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nior Medical Adv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VLA  Swan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her.major@dvla.gsi.gov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f-declaration questions o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lep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urosurgic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urological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diac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 acuity/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sychiatric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cohol, Drug &amp; substance mis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piratory and Sleep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b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vestigation procedure* at DV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fic medical questionnaire and consent form sent to licence holder /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est for medical report from GP or c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+ /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ependent medical / optometr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for alcohol and/or drugs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for  specialist Consultant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erral to Disabled Drivers Assessment c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Free Driving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*DVLA  p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cence outcomes after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medic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application ref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licence rev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retained (till 70 or for 3 years over 70)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with/without  vehicle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nce re-issued for 1, 2 or 3 year durati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with/without  vehicle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d thereafter subject to repeat  medical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ce restricted  to certain types of vehicle / vehicle adaptatio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1520" y="579240"/>
            <a:ext cx="554976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ivers’ Appea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right to appe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gistrates Courts (England and Wales) within 6 months of  decision to refuse, revoke or restrict a lic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right of appeal but is limited under Scottish law to 21 days from date of decision, for appeal to be lo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formal reconsideration / “new information” process within  DV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eals data 2000-2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22440" y="22096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209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9720" y="579240"/>
            <a:ext cx="55198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urces of no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ce holder (pat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 - usually consultant/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/ fri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“3rd part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parency of the curr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ear on licence application - all application forms require full medical self-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going liability for licence holders  to notify. Elements of under-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, perhaps limited, awareness by both drivers and do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formation on DVLA website and leaf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ffectiveness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orough and fair for those entering the system, but liable to delays and ris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erns over risk of under-reporting with some conditions (eg. alcohol problems) but others (eg. diabetes) have high notifica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data on direct impact of medical licensing process on road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erage cost per case approx. €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693108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dical acceptability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s some of patient/doctor conflict over driving (especially for older driv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find our process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atrists (especially) and alcohol/drug treatment workers find medical process and standards conflict with patient’s 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octors feel driving issues not their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7772400" cy="1429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all effectiveness of the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2480" y="2425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s onus on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to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ht of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of under-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n as remote / no local “discre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can be slow and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ly focussed -case for functio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ivers Medical Group DV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33320" y="2597040"/>
          <a:ext cx="767232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2597040"/>
                    <a:ext cx="767232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tegory B medical caseload 2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57200" y="1981080"/>
          <a:ext cx="822960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82296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057400"/>
            <a:ext cx="28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5,119 tot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s of cat. B caseloa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2004) by medical 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57200" y="2057400"/>
          <a:ext cx="822960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6360" y="-30600"/>
            <a:ext cx="5813280" cy="209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ew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DVLA medical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eloped when local licensing centralised under one authority (DVLC) in 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urrently undergoing major independent review of the whol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asons for review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-morb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sing costs ( approx. € 20m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lance between road safety &amp;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tal UK Licence Hol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000080" y="2209680"/>
          <a:ext cx="7145280" cy="411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09680"/>
                    <a:ext cx="7145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sessment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tegory B lic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Minimum age 16 - mobility allow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 minimum age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iry at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-yearly renewal after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yesight checked at first driving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dical self declaration throug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driver’s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river has a legal duty* to notify DVLA 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evant or prospective disability, stat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ture &amp; extent of the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application for a lic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ing the period for which the licence remains in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1988 Road Traffic A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Doctor’s Duty To Patients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neral Medical Council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a patient has a relevant medical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doctor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vise the patient not to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sure the patient understands that the condition may impair their ability to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lain to patients their legal obligation to notify DV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he patient continues to drive against ad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o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follow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MC guidance to notify DVLA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ctor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 no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ave a legal requirement to notify DV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uthority arising from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Road Traffic 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drivers / applicants to notify / declare to DVLA any medical condition that may affect d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s DVLA powers to investi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ives the power to DVLA to issue, refuse or revoke licences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(not to the examining do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ation of lic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s licence holders and applicants the legal right of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Relevant &amp; Prospective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isabilities </a:t>
            </a:r>
            <a:br>
              <a:rPr sz="3600"/>
            </a:b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Road Traffic Act 1988 S.92(2)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evant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rescribed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y other disability likely to be a source of dange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the publ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when d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spective dis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 condition which by virtue of its progressive or intermittent nature or otherwise may become a relevant disability in the course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62120"/>
            <a:ext cx="6315120" cy="63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scribed Disabilities Grou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46000" y="1905120"/>
            <a:ext cx="7586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evere Mental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ability to meet the Prescribed Eyesight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gulation - “number plate t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ability to sudden attacks of disabling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ddiness or f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ability to sudden attacks of disabling giddiness caused by any disorder / defect of the heart such as require correction by an implanted device 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(eg. pacemaker/I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ersistent  misuse of drugs or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962840" y="0"/>
          <a:ext cx="1181160" cy="9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0"/>
                    <a:ext cx="118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5:36:24Z</dcterms:created>
  <dc:creator>majorh</dc:creator>
  <dc:description/>
  <dc:language>en-US</dc:language>
  <cp:lastModifiedBy>major</cp:lastModifiedBy>
  <cp:lastPrinted>2005-11-17T15:08:32Z</cp:lastPrinted>
  <dcterms:modified xsi:type="dcterms:W3CDTF">2005-11-17T15:09:55Z</dcterms:modified>
  <cp:revision>64</cp:revision>
  <dc:subject/>
  <dc:title>Excessive daytime sleepiness</dc:title>
</cp:coreProperties>
</file>