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Custom Show 2" id="0">
      <p:sldLst>
        <p:sld r:id="rId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E2EA-1CE5-4AE6-8F7E-73B6D8DE8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18F8-986C-4C08-9431-E6BE2F57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B11F-83AA-448E-B444-0008122DE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29B6-5FD1-4CDC-B6DC-2A3A05CBC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CC6F-7A12-4C26-91B2-746A75A0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4ABA-ECA8-42B3-82AA-DBA386F1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8512-1D2D-4D96-97CF-A237436A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979E-B6FE-4DB2-AD50-D5F0E7F2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5526-C5BF-4141-8F61-0F2B262D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65EB-C886-4A94-B8BF-2A93D90D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63DB-C92D-489D-BE22-872D76CC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A99E-09F5-4D68-8EBF-E12827C9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D48E-6157-4177-A1BD-89125754D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ssessing fitness to drive in Category B licence holders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n Great Brit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Dr Heather Maj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nior Medical Advi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VLA  Swanse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ather.major@dvla.gsi.gov.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962840" y="0"/>
          <a:ext cx="1181160" cy="90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62840" y="0"/>
                    <a:ext cx="11811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0" y="304812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elf-declaration questions on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pilep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urosurgical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urological dis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abe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rdiac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962840" y="0"/>
          <a:ext cx="1181160" cy="90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62840" y="0"/>
                    <a:ext cx="11811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isual acuity/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sychiatric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cohol, Drug &amp; substance mis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spiratory and Sleep Dis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mb dis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vestigation procedure* at DV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pecific medical questionnaire and consent form sent to licence holder / applic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quest for medical report from GP or consul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+ /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dependent medical / optometry assess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ferral for alcohol and/or drugs scr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ferral for  specialist Consultant opi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ferral to Disabled Drivers Assessment cent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Free Driving te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*DVLA  pay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962840" y="0"/>
          <a:ext cx="1181160" cy="90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62840" y="0"/>
                    <a:ext cx="11811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7962840" y="0"/>
          <a:ext cx="1181160" cy="90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62840" y="0"/>
                    <a:ext cx="11811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icence outcomes after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medical assessm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cence application ref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isting licence revo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cence retained (till 70 or for 3 years over 70)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* with/without  vehicle restr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cence re-issued for 1, 2 or 3 year duration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* with/without  vehicle restr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nd thereafter subject to repeat  medical revie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cence restricted  to certain types of vehicle / vehicle adaptation c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1520" y="579240"/>
            <a:ext cx="5549760" cy="1429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rivers’ Appeal righ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52480" y="242568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gal right to appe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Magistrates Courts (England and Wales) within 6 months of  decision to refuse, revoke or restrict a licenc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right of appeal but is limited under Scottish law to 21 days from date of decision, for appeal to be lod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so informal reconsideration / “new information” process within  DVL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962840" y="0"/>
          <a:ext cx="1181160" cy="90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62840" y="0"/>
                    <a:ext cx="11811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ppeals data 2000-200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22440" y="22096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22096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7962840" y="0"/>
          <a:ext cx="1181160" cy="905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62840" y="0"/>
                    <a:ext cx="11811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3505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128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5105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57800" y="5334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29720" y="579240"/>
            <a:ext cx="5519880" cy="1429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ources of not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52480" y="242568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cence holder (pati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cal  - usually consultant/G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l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mily / frie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 “3rd party”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962840" y="0"/>
          <a:ext cx="1181160" cy="90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62840" y="0"/>
                    <a:ext cx="11811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350640"/>
            <a:ext cx="6931080" cy="1429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ransparency of the current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52480" y="242568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lear on licence application - all application forms require full medical self-decl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ngoing liability for licence holders  to notify. Elements of under-rep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ariable, perhaps limited, awareness by both drivers and do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formation on DVLA website and leaf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962840" y="0"/>
          <a:ext cx="1181160" cy="90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62840" y="0"/>
                    <a:ext cx="11811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350640"/>
            <a:ext cx="6931080" cy="1429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ffectiveness of the proces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52480" y="242568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orough and fair for those entering the system, but liable to delays and rising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erns over risk of under-reporting with some conditions (eg. alcohol problems) but others (eg. diabetes) have high notification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 data on direct impact of medical licensing process on road acci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verage cost per case approx. €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962840" y="0"/>
          <a:ext cx="1181160" cy="90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62840" y="0"/>
                    <a:ext cx="11811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350640"/>
            <a:ext cx="6931080" cy="1429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dical acceptability of the proces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52480" y="242568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oves some of patient/doctor conflict over driving (especially for older driv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ctors find our process cumber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sychiatrists (especially) and alcohol/drug treatment workers find medical process and standards conflict with patient’s rehabil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doctors feel driving issues not their respons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62840" y="0"/>
          <a:ext cx="1181160" cy="90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62840" y="0"/>
                    <a:ext cx="11811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227880"/>
            <a:ext cx="7772400" cy="1429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verall effectiveness of the proces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52480" y="242568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962840" y="0"/>
          <a:ext cx="1181160" cy="90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62840" y="0"/>
                    <a:ext cx="11811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ar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s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ces onus on dri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e to dri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ght of app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gai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sk of under-rep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en as remote / no local “discre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cess can be slow and cumber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cally focussed -case for functional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rivers Medical Group DV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733320" y="2597040"/>
          <a:ext cx="7672320" cy="28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2597040"/>
                    <a:ext cx="7672320" cy="28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7962840" y="0"/>
          <a:ext cx="1181160" cy="905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62840" y="0"/>
                    <a:ext cx="11811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ategory B medical caseload 200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962840" y="0"/>
          <a:ext cx="1181160" cy="90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62840" y="0"/>
                    <a:ext cx="11811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57200" y="1981080"/>
          <a:ext cx="822960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81080"/>
                    <a:ext cx="822960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15000" y="2057400"/>
            <a:ext cx="2895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5,119 total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xamples of cat. B caseloa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(2004) by medical con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962840" y="0"/>
          <a:ext cx="1181160" cy="90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62840" y="0"/>
                    <a:ext cx="11811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457200" y="2057400"/>
          <a:ext cx="8229600" cy="419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057400"/>
                    <a:ext cx="82296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6360" y="-30600"/>
            <a:ext cx="5813280" cy="2099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view of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DVLA medical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205740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veloped when local licensing centralised under one authority (DVLC) in 197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Currently undergoing major independent review of the whole 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asons for review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ing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-morbid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ising costs ( approx. € 20m 20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alance between road safety &amp;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962840" y="0"/>
          <a:ext cx="1181160" cy="90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62840" y="0"/>
                    <a:ext cx="11811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otal UK Licence Hol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7962840" y="0"/>
          <a:ext cx="1181160" cy="90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62840" y="0"/>
                    <a:ext cx="11811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000080" y="2209680"/>
          <a:ext cx="7145280" cy="411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2209680"/>
                    <a:ext cx="714528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ssessment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ategory B lic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(Minimum age 16 - mobility allowa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ual minimum age 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iry at 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ree-yearly renewal after 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yesight checked at first driving te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edical self declaration through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7962840" y="0"/>
          <a:ext cx="1181160" cy="90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62840" y="0"/>
                    <a:ext cx="11811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 driver’s du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driver has a legal duty* to notify DVLA of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levant or prospective disability, stating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ature &amp; extent of the dis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 application for a lic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uring the period for which the licence remains in for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(1988 Road Traffic A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962840" y="0"/>
          <a:ext cx="1181160" cy="90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62840" y="0"/>
                    <a:ext cx="11811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 Doctor’s Duty To Patients</a:t>
            </a:r>
            <a:br>
              <a:rPr sz="36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eneral Medical Council guid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f a patient has a relevant medical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doctor shoul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vise the patient not to dr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ke sure the patient understands that the condition may impair their ability to dr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plain to patients their legal obligation to notify DV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f the patient continues to drive against advi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do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ould follow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MC guidance to notify DVLA direc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octors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do not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have a legal requirement to notify DV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962840" y="0"/>
          <a:ext cx="1181160" cy="90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62840" y="0"/>
                    <a:ext cx="11811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6858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uthority arising from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Road Traffic 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quires drivers / applicants to notify / declare to DVLA any medical condition that may affect dri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ives DVLA powers to investig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ives the power to DVLA to issue, refuse or revoke licences 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(not to the examining doc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uration of lic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ives licence holders and applicants the legal right of app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7962840" y="0"/>
          <a:ext cx="1181160" cy="90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62840" y="0"/>
                    <a:ext cx="11811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Relevant &amp; Prospective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Disabilities </a:t>
            </a:r>
            <a:br>
              <a:rPr sz="3600"/>
            </a:b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Road Traffic Act 1988 S.92(2)</a:t>
            </a: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levant dis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prescribed dis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ny other disability likely to be a source of danger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to the public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when dri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962840" y="0"/>
          <a:ext cx="1181160" cy="90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62840" y="0"/>
                    <a:ext cx="11811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7960" y="2362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spective dis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y condition which by virtue of its progressive or intermittent nature or otherwise may become a relevant disability in the course of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9040" y="762120"/>
            <a:ext cx="6315120" cy="637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escribed Disabilities Group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46000" y="1905120"/>
            <a:ext cx="758664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Epilep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Severe Mental Dis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Inability to meet the Prescribed Eyesight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regulation - “number plate tes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Liability to sudden attacks of disabling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iddiness or fai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Liability to sudden attacks of disabling giddiness caused by any disorder / defect of the heart such as require correction by an implanted device </a:t>
            </a: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(eg. pacemaker/IC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Persistent  misuse of drugs or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962840" y="0"/>
          <a:ext cx="1181160" cy="90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62840" y="0"/>
                    <a:ext cx="11811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15:36:24Z</dcterms:created>
  <dc:creator>majorh</dc:creator>
  <dc:description/>
  <dc:language>en-US</dc:language>
  <cp:lastModifiedBy>major</cp:lastModifiedBy>
  <cp:lastPrinted>2005-11-17T15:08:32Z</cp:lastPrinted>
  <dcterms:modified xsi:type="dcterms:W3CDTF">2005-11-17T15:09:55Z</dcterms:modified>
  <cp:revision>64</cp:revision>
  <dc:subject/>
  <dc:title>Excessive daytime sleepiness</dc:title>
</cp:coreProperties>
</file>