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6856-B2FF-43DE-B459-3A75C9F3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CC1B-24E5-469C-A852-ADE08425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A00C-785B-4DBE-B475-1B5468D88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7C0D-20A0-4FBB-B04F-AEF0EBA61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EC5D-1143-4EEA-A79D-C1A15291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54A0-E400-4EFA-832D-D1EE78FF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4887-1415-487C-A000-CAE10215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AC60-F1CB-4F01-91AE-6461F4F2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6D2D-28E1-4191-9C13-E13B77DA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D70D-179E-4333-B5CC-C0E007EE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7327-24F8-4FAC-B713-483AA791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9AD3-A639-4CE9-A567-B39D7DE9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03E5-8CE0-4D65-AFFB-7316DC82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E2B6-999C-4F1F-BEA8-69CC4F15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434E-516C-4E06-A21C-B172DF99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5549-D00D-41B8-9AC8-30D3E49E2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5932-7C7C-4628-9736-FC20DFA62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DC8E-AE9D-4710-95DB-241AC785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D274-3812-4F38-8A5E-415D4FF1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B8A1-D126-4670-9099-F9BC0BDE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DB0C-A739-4EB4-A43C-9F673554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D35F-1305-4351-BFE2-2306B93A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2132-8C05-4137-97F8-4EA10129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EAD8-2E27-468B-B615-0DC01AC4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16E0-91A5-4BC9-A78E-FA6F710C9233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9BD9-3B21-40DF-AA32-FF0CD8F21480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2060280"/>
            <a:ext cx="9144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cc66"/>
                </a:solidFill>
                <a:latin typeface="Arial"/>
              </a:rPr>
              <a:t>Medical testing for driver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cc66"/>
                </a:solidFill>
                <a:latin typeface="Arial"/>
              </a:rPr>
              <a:t>in F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23736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25 November 2005 – Jean-Pierre Fougère – co-vice-director of Road Safe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Logo Marianne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2793960" cy="1143000"/>
          </a:xfrm>
          <a:prstGeom prst="rect">
            <a:avLst/>
          </a:prstGeom>
          <a:ln w="0">
            <a:noFill/>
          </a:ln>
        </p:spPr>
      </p:pic>
      <p:pic>
        <p:nvPicPr>
          <p:cNvPr id="90" name="Logo SR" descr=""/>
          <p:cNvPicPr/>
          <p:nvPr/>
        </p:nvPicPr>
        <p:blipFill>
          <a:blip r:embed="rId2"/>
          <a:stretch/>
        </p:blipFill>
        <p:spPr>
          <a:xfrm>
            <a:off x="5148360" y="260280"/>
            <a:ext cx="3341520" cy="1143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58920" y="4365720"/>
            <a:ext cx="705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4508640"/>
            <a:ext cx="705816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Arial"/>
              </a:rPr>
              <a:t>MEDRIL Projec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Brussels ( 25/11/200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6858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00"/>
                </a:solidFill>
                <a:uFillTx/>
                <a:latin typeface="Arial"/>
              </a:rPr>
              <a:t>Right to appeal at departmental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Appeals committee: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 general practition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119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pecialist do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119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Chosen by the administ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119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Consisting of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119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* 3 general practition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119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* 3 specialist doctors(cardiologist, urologist, ophtalmologist, psychiatrist 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21337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05320" y="2133720"/>
            <a:ext cx="10666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29718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3429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1828800" y="304920"/>
            <a:ext cx="5335920" cy="457200"/>
            <a:chOff x="1828800" y="304920"/>
            <a:chExt cx="5335920" cy="457200"/>
          </a:xfrm>
        </p:grpSpPr>
        <p:sp>
          <p:nvSpPr>
            <p:cNvPr id="123" name=""/>
            <p:cNvSpPr/>
            <p:nvPr/>
          </p:nvSpPr>
          <p:spPr>
            <a:xfrm>
              <a:off x="1828800" y="304920"/>
              <a:ext cx="5335920" cy="4572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59920" y="457200"/>
              <a:ext cx="487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Licence candidate or driver subjected to medical testing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57200" y="1219320"/>
            <a:ext cx="2054160" cy="1447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« Caravan » licence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eavy goods licence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 licence after decla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48520" y="1295280"/>
            <a:ext cx="2209680" cy="1371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ffender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nstitutionalisation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xemption from wearing seatbelt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hysically handicapp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3124080"/>
            <a:ext cx="2094120" cy="68580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in medical committ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3200400"/>
            <a:ext cx="2057400" cy="68580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cognised GP 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lin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762120"/>
            <a:ext cx="251460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057040" y="762120"/>
            <a:ext cx="251460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26668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91520" y="26668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2514600"/>
            <a:ext cx="13716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Possible opinion of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specialist doc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56000" y="2514600"/>
            <a:ext cx="1739880" cy="770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Possible specialist opIn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of appeals committe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828440" y="2819520"/>
            <a:ext cx="60948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6095520" y="2895120"/>
            <a:ext cx="838440" cy="2286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64000" y="3429000"/>
            <a:ext cx="1368360" cy="57636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annot determin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itn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438280" y="3573360"/>
            <a:ext cx="112572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32360" y="3573360"/>
            <a:ext cx="146844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38680" y="4038480"/>
            <a:ext cx="990720" cy="3812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it-to-dr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4038480"/>
            <a:ext cx="1066680" cy="3812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emp. fitn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½ to 5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153280" y="4038480"/>
            <a:ext cx="990720" cy="3812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f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4724280"/>
            <a:ext cx="175248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48006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f challeng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934320" y="5486400"/>
            <a:ext cx="2054160" cy="6858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dical appeals committ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5105520"/>
            <a:ext cx="1981440" cy="12952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5334120"/>
            <a:ext cx="19814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or renew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of licen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86200" y="6019920"/>
            <a:ext cx="2590920" cy="5331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ssible involvement of on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f 2 national committe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388620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361960" y="4419720"/>
            <a:ext cx="32763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91520" y="3809880"/>
            <a:ext cx="0" cy="22860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362320" y="4419720"/>
            <a:ext cx="495288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15200" y="4419720"/>
            <a:ext cx="609480" cy="304560"/>
          </a:xfrm>
          <a:prstGeom prst="line">
            <a:avLst/>
          </a:prstGeom>
          <a:ln w="93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7924320" y="4419720"/>
            <a:ext cx="762120" cy="304560"/>
          </a:xfrm>
          <a:prstGeom prst="line">
            <a:avLst/>
          </a:prstGeom>
          <a:ln w="93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91520" y="3809880"/>
            <a:ext cx="1295280" cy="228600"/>
          </a:xfrm>
          <a:prstGeom prst="line">
            <a:avLst/>
          </a:prstGeom>
          <a:ln w="93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171840" y="3809880"/>
            <a:ext cx="12193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924680" y="5181480"/>
            <a:ext cx="0" cy="304920"/>
          </a:xfrm>
          <a:prstGeom prst="line">
            <a:avLst/>
          </a:prstGeom>
          <a:ln w="93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6477120" y="6095880"/>
            <a:ext cx="838080" cy="152640"/>
          </a:xfrm>
          <a:prstGeom prst="line">
            <a:avLst/>
          </a:prstGeom>
          <a:ln w="93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cc66"/>
                </a:solidFill>
                <a:latin typeface="Arial"/>
              </a:rPr>
              <a:t>National medical bod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The</a:t>
            </a:r>
            <a:r>
              <a:rPr b="0" lang="fr-FR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 </a:t>
            </a:r>
            <a:r>
              <a:rPr b="1" lang="fr-FR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C.P.I.P.</a:t>
            </a:r>
            <a:r>
              <a:rPr b="0" lang="fr-FR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 </a:t>
            </a:r>
            <a:r>
              <a:rPr b="0" lang="fr-FR" sz="2600" spc="-1" strike="noStrike">
                <a:solidFill>
                  <a:srgbClr val="ffff00"/>
                </a:solidFill>
                <a:latin typeface="Arial"/>
                <a:ea typeface="Arial Unicode MS"/>
              </a:rPr>
              <a:t>(Permanent Commission for Physical Disabilities</a:t>
            </a:r>
            <a:r>
              <a:rPr b="1" lang="fr-FR" sz="26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)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00"/>
                </a:solidFill>
                <a:latin typeface="Arial"/>
                <a:ea typeface="Arial Unicode MS"/>
              </a:rPr>
              <a:t>- Government and medical representatives 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00"/>
                </a:solidFill>
                <a:latin typeface="Arial"/>
                <a:ea typeface="Arial Unicode MS"/>
              </a:rPr>
              <a:t>- Chaired by the Director of Road Traffic &amp; Safety 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00"/>
                </a:solidFill>
                <a:latin typeface="Arial"/>
                <a:ea typeface="Arial Unicode MS"/>
              </a:rPr>
              <a:t>- the vice-President is responsible for overseeing medical testing in France 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00"/>
                </a:solidFill>
                <a:latin typeface="Arial"/>
                <a:ea typeface="Arial Unicode MS"/>
              </a:rPr>
              <a:t>- Establishes a list of physical disabilities 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00"/>
                </a:solidFill>
                <a:latin typeface="Arial"/>
                <a:ea typeface="Arial Unicode MS"/>
              </a:rPr>
              <a:t>- Is the last body for resolving delicate cases which cannot be resolved at more local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The C.N.E. </a:t>
            </a:r>
            <a:r>
              <a:rPr b="0" lang="fr-FR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(National Testing Committee)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  </a:t>
            </a:r>
            <a:r>
              <a:rPr b="0" lang="fr-FR" sz="2200" spc="-1" strike="noStrike">
                <a:solidFill>
                  <a:srgbClr val="ffff00"/>
                </a:solidFill>
                <a:latin typeface="Arial"/>
                <a:ea typeface="Arial Unicode MS"/>
              </a:rPr>
              <a:t>-  </a:t>
            </a:r>
            <a:r>
              <a:rPr b="0" lang="fr-FR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examines persons with amputations or with locomotor disorders 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  </a:t>
            </a:r>
            <a:r>
              <a:rPr b="0" lang="fr-FR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-</a:t>
            </a:r>
            <a:r>
              <a:rPr b="1" lang="fr-FR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  </a:t>
            </a:r>
            <a:r>
              <a:rPr b="0" lang="fr-FR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can depart from the rules</a:t>
            </a:r>
            <a:r>
              <a:rPr b="0" lang="fr-FR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.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Logo SR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6324480" cy="216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2349360"/>
            <a:ext cx="91440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f category B for professional usage  (taxis, ambulances, public transport of persons and for picking up school children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Of categories B+E (light vehicles) and C, D, C+E and D+E (heavy vehicles)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Who have lost sight in one eye or who wear corrective lenses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34136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Driving licence candidates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4479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333360"/>
            <a:ext cx="864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413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3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INITIAL MEDICAL TES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292392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  <a:ea typeface="Arial Unicode MS"/>
              </a:rPr>
              <a:t>-  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who have declared, on registration, an impairment which may be incompatible with driving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-   have a handicap in one or several limb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-   are registered invalids for civil or military reasons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as a result of observations made by the examiner during the driving test.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612720" y="1052640"/>
            <a:ext cx="97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Arial"/>
              </a:rPr>
              <a:t>Driving licence candidat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89000"/>
            <a:ext cx="914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INITIAL MEDICAL TES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Arial"/>
              </a:rPr>
              <a:t>Ongoing medical tes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Who are holders of category B licences for professional reasons, categories B+E (light vehicles), C, C+E, D and D+E (heavy vehicles) for renewing their licences at the following tim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199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- under 60 years old : every 5 years ;</a:t>
            </a:r>
            <a:br>
              <a:rPr sz="2400"/>
            </a:b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- from 60 to 76 : every 2 years ;</a:t>
            </a:r>
            <a:br>
              <a:rPr sz="2400"/>
            </a:b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- 76+ : every ye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199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( </a:t>
            </a:r>
            <a:r>
              <a:rPr b="0" i="1" lang="fr-FR" sz="2000" spc="-1" strike="noStrike">
                <a:solidFill>
                  <a:srgbClr val="ff0000"/>
                </a:solidFill>
                <a:latin typeface="Arial"/>
              </a:rPr>
              <a:t>This frequency can be reduced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199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-   Who are category B licence holders with a temporary validity (6 months to 5 years) for medical reasons, following the declaration made when registrering for the initial driving licen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981000"/>
            <a:ext cx="49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Arial"/>
              </a:rPr>
              <a:t>Drivers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Arial"/>
              </a:rPr>
              <a:t>Occasional medical tes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-   suffering from a temporary or permanent condition which is incompatible with driving, and gained after the licence was obtained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who have had their licences withdrawn by a judge or following loss of all penalty points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-   subjected to a suspension of the licence for longer than 1 month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-   Hospitalised according to the law of 27 June 1990 (opinion of a psychiatrist)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333360"/>
            <a:ext cx="882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197000"/>
            <a:ext cx="52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Arial"/>
              </a:rPr>
              <a:t>Driv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-  Drivers in accidents with personal injury involving speed, or consumption of alcohol or drugs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-  If the regional administration obtains information (from government, family) pertaining to a medical condition of a driver which may be incompatible with driv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Occasional medical testing ( 2 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00"/>
                </a:solidFill>
                <a:latin typeface="Arial"/>
              </a:rPr>
              <a:t>Medical bodies at departmental leve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Two possibilities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0" lang="fr-FR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 </a:t>
            </a:r>
            <a:r>
              <a:rPr b="0" lang="fr-FR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- general practitioners 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0" lang="fr-FR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 </a:t>
            </a:r>
            <a:r>
              <a:rPr b="0" lang="fr-FR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- medical committe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ffff00"/>
                </a:solidFill>
                <a:uFillTx/>
                <a:latin typeface="Arial"/>
                <a:ea typeface="Arial Unicode MS"/>
              </a:rPr>
              <a:t>General practitioners :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- recognised by regional government  (subject to renewal every 2 years)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- who have received special training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Scope of responsbility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only for </a:t>
            </a:r>
            <a:r>
              <a:rPr b="0" lang="fr-FR" sz="2400" spc="-1" strike="noStrike" u="sng">
                <a:solidFill>
                  <a:srgbClr val="ffff00"/>
                </a:solidFill>
                <a:uFillTx/>
                <a:latin typeface="Arial"/>
                <a:ea typeface="Arial Unicode MS"/>
              </a:rPr>
              <a:t>preventative measures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, namely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 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.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Candidates for  categories B+E, C, C+E, D, D+E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.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Renewal of the above licences and category B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  for professional us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      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.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 In application of legal texts (decree of 7 May 199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.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 No way of departing from the r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924280"/>
            <a:ext cx="685800" cy="228600"/>
          </a:xfrm>
          <a:custGeom>
            <a:avLst/>
            <a:gdLst>
              <a:gd name="textAreaLeft" fmla="*/ 8568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-152280" y="152280"/>
            <a:ext cx="952488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ffff00"/>
                </a:solidFill>
                <a:uFillTx/>
                <a:latin typeface="Arial"/>
              </a:rPr>
              <a:t>Medical committees at departmental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Arial Unicode MS"/>
              </a:rPr>
              <a:t>Consisting of two accredited doctor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Arial Unicode MS"/>
              </a:rPr>
              <a:t>Based in government building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Arial Unicode MS"/>
              </a:rPr>
              <a:t>must apply the relevant laws (decree of 7 May 199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Arial Unicode MS"/>
              </a:rPr>
              <a:t>     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Arial Unicode MS"/>
              </a:rPr>
              <a:t>-  no way of departing from the rul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Arial Unicode MS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Arial Unicode MS"/>
              </a:rPr>
              <a:t>-   may request the opinion of a specialist doctor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Arial Unicode MS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Arial Unicode MS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Arial Unicode MS"/>
              </a:rPr>
              <a:t>-   conveys their final decision to the administr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0T12:12:03Z</dcterms:created>
  <dc:creator>Baron</dc:creator>
  <dc:description/>
  <dc:language>en-US</dc:language>
  <cp:lastModifiedBy>Nick Sanders</cp:lastModifiedBy>
  <dcterms:modified xsi:type="dcterms:W3CDTF">2005-11-24T09:49:43Z</dcterms:modified>
  <cp:revision>117</cp:revision>
  <dc:subject/>
  <dc:title>Présentation PowerPoint</dc:title>
</cp:coreProperties>
</file>