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2F71-61E1-44B9-A701-5D81781FF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62BC-2119-42B0-8FE8-A2E7C342E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CE69-3558-47CA-8192-5B738FE5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9000" y="4107240"/>
            <a:ext cx="8583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2C1A-6C47-4A8A-8BDF-D87ABA5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9000" y="41072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41072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EA3D-A1DB-4255-95C7-B2BF33AC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1320" y="15998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3640" y="15998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9000" y="41072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1320" y="41072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3640" y="4107240"/>
            <a:ext cx="2763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F9FC-6A20-4523-8561-272E15EB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1A43-5B3E-4198-8CCC-5ACBCCFF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3FB3-4C5D-4019-8252-CA2766A1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4188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88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06FA-870D-4380-A1FD-E18977D2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28A5-5C0A-401E-96CB-06ACAF1A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39400" y="228600"/>
            <a:ext cx="4675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A6B4-E304-40F2-84ED-1B4F5912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88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9000" y="41072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EA5D-4CD5-4968-BD1A-65BE6DCA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4188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41072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5BC1-D3CD-4283-A21C-81D5B757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88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9000" y="4107240"/>
            <a:ext cx="8583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2177-B29C-48B4-B0DB-D5FD5CF2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355640" y="6629400"/>
            <a:ext cx="13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5D1F4B97-8DAA-4AA1-8B6E-78CAB83AE3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141120" y="1371600"/>
            <a:ext cx="886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714640" y="66294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5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5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10 Driver Competence Seminar, Brussels, Belgiu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28760" y="6629400"/>
            <a:ext cx="39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30" descr="academy_web_ppt"/>
          <p:cNvPicPr/>
          <p:nvPr/>
        </p:nvPicPr>
        <p:blipFill>
          <a:blip r:embed="rId2"/>
          <a:stretch/>
        </p:blipFill>
        <p:spPr>
          <a:xfrm>
            <a:off x="271440" y="115920"/>
            <a:ext cx="132408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rkestrafiken.se/Ny_i_branschen/Yrkeskompetensbevis/Utbildare-med-tillstand-att-bedriva-utbildning-for-yrkesforarkompetens/" TargetMode="External"/><Relationship Id="rId2" Type="http://schemas.openxmlformats.org/officeDocument/2006/relationships/hyperlink" Target="http://www.mkm.ee/index.php?id=326251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ieca.be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167520" y="6629400"/>
            <a:ext cx="288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© International Road Transport Union (IRU)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146160" y="6629400"/>
            <a:ext cx="36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2010 Driver Competence Seminar, Brussels, Belgiu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4572000" y="6629400"/>
            <a:ext cx="13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Page </a:t>
            </a:r>
            <a:fld id="{83A4C805-8DA2-4127-A55A-AFD4BBA68E67}" type="slidenum">
              <a:rPr b="0" lang="en-GB" sz="10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1280" y="282600"/>
            <a:ext cx="5448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IRU Academy Driver Competence Seminar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17520" y="1628640"/>
            <a:ext cx="8508960" cy="27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OMPARATIVE OVER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f the implementation of the Direc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2003/59/EC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716040" y="4738680"/>
            <a:ext cx="791028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 algn="ctr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ussels, 28 January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84320" y="5656320"/>
            <a:ext cx="7113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niel Vandenberg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CIECA Business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1"/>
          <a:stretch/>
        </p:blipFill>
        <p:spPr>
          <a:xfrm>
            <a:off x="7229520" y="333360"/>
            <a:ext cx="161928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846440" y="380880"/>
            <a:ext cx="5516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00"/>
                </a:solidFill>
                <a:latin typeface="Arial"/>
              </a:rPr>
              <a:t>Initial qualification – Who bears the c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81080" y="1484280"/>
            <a:ext cx="91440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urse attendance and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zech Republic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500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inee / Financing arrangements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om employement agency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enmark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ublic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stonia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ublic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inland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6000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ublic funding in 95% of the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ance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2500-4500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inee / Financing arrangements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om employement 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rmany (acc.)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190-3500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inee /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ithuania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580-868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inee / Financing arrangements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om employement 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Norway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8600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inee / employer /government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work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weden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3800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ublic funding in 50 % of the cases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Other 50% paid by trainee /emplo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Initial qualification – Who bears the cost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1600" y="1412640"/>
            <a:ext cx="894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Test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stri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Company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elgium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60-420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Company No generalised financing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ypru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eat Britai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70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Compan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ungary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5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reland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7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tvi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90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No generalised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 / Company funds (SOO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rthern Ireland 250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loveni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00-600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n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Periodic training - co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2181240" y="2209680"/>
          <a:ext cx="696276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1240" y="2209680"/>
                    <a:ext cx="69627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141120" y="2438280"/>
            <a:ext cx="2179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neral re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35 hr training cost is in general set by training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Unknown how market will re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Periodic training – who bears the cost?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61960" y="1774800"/>
          <a:ext cx="7948440" cy="3548160"/>
        </p:xfrm>
        <a:graphic>
          <a:graphicData uri="http://schemas.openxmlformats.org/drawingml/2006/table">
            <a:tbl>
              <a:tblPr/>
              <a:tblGrid>
                <a:gridCol w="2145240"/>
                <a:gridCol w="3341160"/>
                <a:gridCol w="24620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ri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 driver &amp; employ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prus, Czech Republic, Latvia, Malta (env.), Northern Ireland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gium, Croatia, Estonia, Germany, Great Britain, Hungary, Ireland, Lithuania, The Netherlands, Norway, Poland, Slovenia, Switzerlan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land: in 95% of the cases, Sweden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Oval 134"/>
          <p:cNvSpPr/>
          <p:nvPr/>
        </p:nvSpPr>
        <p:spPr>
          <a:xfrm>
            <a:off x="252360" y="1700280"/>
            <a:ext cx="5648400" cy="685800"/>
          </a:xfrm>
          <a:prstGeom prst="ellipse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Periodic training - organisation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Listing of organisations that deliver periodic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Example Sweden: </a:t>
            </a:r>
            <a:r>
              <a:rPr b="0" lang="nl-NL" sz="2800" spc="-1" strike="noStrike" u="sng">
                <a:solidFill>
                  <a:srgbClr val="ffcc00"/>
                </a:solidFill>
                <a:uFillTx/>
                <a:latin typeface="Calibri"/>
                <a:hlinkClick r:id="rId1"/>
              </a:rPr>
              <a:t>http://www.yrkestrafiken.se/Ny_i_branschen/Yrkeskompetensbevis/Utbildare-med-tillstand-att-bedriva-utbildning-for-yrkesforarkompetens/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Example Estonia: </a:t>
            </a:r>
            <a:r>
              <a:rPr b="0" lang="nl-NL" sz="2800" spc="-1" strike="noStrike" u="sng">
                <a:solidFill>
                  <a:srgbClr val="ffcc00"/>
                </a:solidFill>
                <a:uFillTx/>
                <a:latin typeface="Calibri"/>
                <a:hlinkClick r:id="rId2"/>
              </a:rPr>
              <a:t>www.mkm.ee/index.php?id=3262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39760" y="228600"/>
            <a:ext cx="7104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Evidence of (partial) periodic training carried out in other member 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557000"/>
            <a:ext cx="4221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ccepted, but evidence will be check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yp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reat Britain and Northern Ire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a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he Net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1480" y="1599840"/>
            <a:ext cx="422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Not accep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Belgium (parti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ain reasons 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ack of checking validity, comparing subject modules, etc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Distribution of training day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All drivers will need to complete a minimum of 35 hours of periodic training within every five year peri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Surveyed members propose a free distribution of periodic training into annual courses of 7 hours per day, to be dristruted over 5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Stricter version of this sytem:  completed within six months (e.g. Norway), or at one occasion (e.g. Eston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French system of splitting 35 hours into two blocks (2-day/3-day) or on one occ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Test after the periodic training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759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Croatia, Cyprus, Estonia and Hungary have the periodic training followed by a t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All other surveyed countries require course attendance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n Northern Ireland this will depend from the training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Periodic training/working tim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41120" y="1447920"/>
          <a:ext cx="8791920" cy="5352840"/>
        </p:xfrm>
        <a:graphic>
          <a:graphicData uri="http://schemas.openxmlformats.org/drawingml/2006/table">
            <a:tbl>
              <a:tblPr/>
              <a:tblGrid>
                <a:gridCol w="1547280"/>
                <a:gridCol w="1641240"/>
                <a:gridCol w="2054160"/>
                <a:gridCol w="3549240"/>
              </a:tblGrid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s as working t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not count as working ti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 /employee agre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gulated/ under discus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en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etherlan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giu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at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zech Republ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o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 Briatin and Northern Ire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nag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e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wa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v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l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eden: discussion not closed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eden refers to Directive 561/2006 concerning break and rest period times, affecting drivers engaged in national and international trans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ADR training part of periodic training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0640" y="2209320"/>
            <a:ext cx="422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DR training as separate qual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Hungar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Irel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63760" indent="-157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41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1640" y="2209320"/>
            <a:ext cx="4219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DR training as part of periodic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Finland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Great Britain (possiblity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Switzerland (one day - basic cours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Question comes from several CIECA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I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Brussels based international driver testing umbrella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9 members (Mostly authorities) from 40 countries world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of experience and good practice with regar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17244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iver train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16680" indent="-17244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iver testing (theory and practic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16680" indent="-17244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neral licensing issu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6388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Training syllabu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9360" y="1599840"/>
            <a:ext cx="4221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Most countries surveyed referred to Annex 1 of the Dir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In general all have in some form developed a learning plan with training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1480" y="1599840"/>
            <a:ext cx="422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No detailed syllabus provided to training supp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Great Britain and Northen Irel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Pol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Sloveni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Regulating periodic training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9360" y="1599840"/>
            <a:ext cx="4221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General rule: few countries have mechanisms in place that regulate periodic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Good relations between stak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6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1764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Denmark: birth day syste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0000" indent="-1764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Estonia: minimum number of participa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0000" indent="-1764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Ireland: one day a yea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0000" indent="-1764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Norway/poland: Expiry/issue data of the licen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1480" y="1599840"/>
            <a:ext cx="422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mark:  Periodic training carried out step by step according to the drivers’ birthd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720" indent="-16884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ivers born on the 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Certificate before July 2009/2010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03720" indent="-16884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ivers born on the 4,5,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Certificate before Dec 2009/2010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03720" indent="-16884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03720" indent="-16884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ivers born on the 29,30,31            Certificate before Sep 10. 2013/2014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58120" indent="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2"/>
          <p:cNvSpPr/>
          <p:nvPr/>
        </p:nvSpPr>
        <p:spPr>
          <a:xfrm>
            <a:off x="6167520" y="6629400"/>
            <a:ext cx="288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© International Road Transport Union (IRU) 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46160" y="6629400"/>
            <a:ext cx="36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2010 Driver Competence Seminar, Brussels, Belgiu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4572000" y="6629400"/>
            <a:ext cx="13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Page </a:t>
            </a:r>
            <a:fld id="{B0C17806-DF41-4ECB-A0DD-408C1AEFEB5D}" type="slidenum">
              <a:rPr b="0" lang="en-GB" sz="10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ulators – periodic train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most all surveyed countrie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llo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imulators during periodic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stria and Lithuania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do not allo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imulators during periodic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of simulator for periodic training is not wide spread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84120" y="1916280"/>
            <a:ext cx="8442360" cy="39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ffffff"/>
                </a:solidFill>
                <a:latin typeface="Arial"/>
              </a:rPr>
              <a:t>Closing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urvey Report will be made available on </a:t>
            </a:r>
            <a:r>
              <a:rPr b="0" lang="fr-BE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ieca.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0"/>
          <p:cNvSpPr/>
          <p:nvPr/>
        </p:nvSpPr>
        <p:spPr>
          <a:xfrm>
            <a:off x="4356000" y="6629400"/>
            <a:ext cx="13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B5CFC811-2D07-4BC3-8160-392E6DE4FB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ooter Placeholder 13"/>
          <p:cNvSpPr/>
          <p:nvPr/>
        </p:nvSpPr>
        <p:spPr>
          <a:xfrm>
            <a:off x="5715000" y="66294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2010 Driver Competence Seminar, Brussels, Belgiu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6" descr=""/>
          <p:cNvPicPr/>
          <p:nvPr/>
        </p:nvPicPr>
        <p:blipFill>
          <a:blip r:embed="rId1"/>
          <a:stretch/>
        </p:blipFill>
        <p:spPr>
          <a:xfrm>
            <a:off x="7229520" y="214200"/>
            <a:ext cx="1619280" cy="7239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1677960" y="3429000"/>
            <a:ext cx="578808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010 Driver Competence Seminar, Brussels, Belgi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802240" y="2071800"/>
            <a:ext cx="3504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00"/>
                </a:solidFill>
                <a:latin typeface="Arial"/>
              </a:rPr>
              <a:t>THANK YOU</a:t>
            </a: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hr-HR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ffffff"/>
                </a:solidFill>
                <a:latin typeface="Arial"/>
              </a:rPr>
              <a:t>Scope of this present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urvey (n=26) was established </a:t>
            </a: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General inform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Initial qualific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50840" indent="-19692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Course attendance and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lnSpc>
                <a:spcPct val="105000"/>
              </a:lnSpc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Test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Periodic train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Recording of initial qualification and periodic train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Approval of IQ/PT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Use of simulato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ffffff"/>
                </a:solidFill>
                <a:latin typeface="Arial"/>
              </a:rPr>
              <a:t>General inform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anguage availability of IQ and 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IQ: Generalised requirement of cat. B lic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Exemptions from CPC qualificati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No further exceptions then those listed in the Directive, b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Belgium, Finland and the Netherlan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50840" indent="-19692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</a:rPr>
              <a:t>Example Belgium: the Maximum Allowed Mass (MAM) of the vehicle of the incidental driver may not pass 7,5 tonn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ffffff"/>
                </a:solidFill>
                <a:latin typeface="Arial"/>
              </a:rPr>
              <a:t>Initial qualification proces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itial CPC though course attendance and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have a minimum period of training hours of 280 hou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ccelerated training option with a minimum period of 140 hours (dependant upon the age of the driver and size of the vehicl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written or oral test covering all of the relevant objectives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itial CPC through system of tests only (Annex 1, Section 2 of the Direct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ocuses on assessment of competence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-1857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t involves tests totalling 6 hours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c emphasis on road safety and rationalisation of fuel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rmonisation with ages in Driving License Direc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1130"/>
          <p:cNvSpPr/>
          <p:nvPr/>
        </p:nvSpPr>
        <p:spPr>
          <a:xfrm>
            <a:off x="3429000" y="5130720"/>
            <a:ext cx="1765440" cy="151128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205" h="952">
                <a:moveTo>
                  <a:pt x="1180" y="352"/>
                </a:moveTo>
                <a:lnTo>
                  <a:pt x="1154" y="336"/>
                </a:lnTo>
                <a:lnTo>
                  <a:pt x="1095" y="320"/>
                </a:lnTo>
                <a:lnTo>
                  <a:pt x="1036" y="296"/>
                </a:lnTo>
                <a:lnTo>
                  <a:pt x="969" y="288"/>
                </a:lnTo>
                <a:lnTo>
                  <a:pt x="910" y="280"/>
                </a:lnTo>
                <a:lnTo>
                  <a:pt x="893" y="256"/>
                </a:lnTo>
                <a:lnTo>
                  <a:pt x="859" y="232"/>
                </a:lnTo>
                <a:lnTo>
                  <a:pt x="817" y="224"/>
                </a:lnTo>
                <a:lnTo>
                  <a:pt x="784" y="192"/>
                </a:lnTo>
                <a:lnTo>
                  <a:pt x="733" y="152"/>
                </a:lnTo>
                <a:lnTo>
                  <a:pt x="716" y="144"/>
                </a:lnTo>
                <a:lnTo>
                  <a:pt x="699" y="144"/>
                </a:lnTo>
                <a:lnTo>
                  <a:pt x="666" y="136"/>
                </a:lnTo>
                <a:lnTo>
                  <a:pt x="632" y="120"/>
                </a:lnTo>
                <a:lnTo>
                  <a:pt x="598" y="128"/>
                </a:lnTo>
                <a:lnTo>
                  <a:pt x="556" y="104"/>
                </a:lnTo>
                <a:lnTo>
                  <a:pt x="522" y="104"/>
                </a:lnTo>
                <a:lnTo>
                  <a:pt x="480" y="96"/>
                </a:lnTo>
                <a:lnTo>
                  <a:pt x="387" y="64"/>
                </a:lnTo>
                <a:lnTo>
                  <a:pt x="362" y="48"/>
                </a:lnTo>
                <a:lnTo>
                  <a:pt x="320" y="48"/>
                </a:lnTo>
                <a:lnTo>
                  <a:pt x="227" y="32"/>
                </a:lnTo>
                <a:lnTo>
                  <a:pt x="202" y="16"/>
                </a:lnTo>
                <a:lnTo>
                  <a:pt x="185" y="0"/>
                </a:lnTo>
                <a:lnTo>
                  <a:pt x="168" y="0"/>
                </a:lnTo>
                <a:lnTo>
                  <a:pt x="143" y="0"/>
                </a:lnTo>
                <a:lnTo>
                  <a:pt x="135" y="8"/>
                </a:lnTo>
                <a:lnTo>
                  <a:pt x="126" y="24"/>
                </a:lnTo>
                <a:lnTo>
                  <a:pt x="109" y="24"/>
                </a:lnTo>
                <a:lnTo>
                  <a:pt x="59" y="32"/>
                </a:lnTo>
                <a:lnTo>
                  <a:pt x="17" y="48"/>
                </a:lnTo>
                <a:lnTo>
                  <a:pt x="25" y="80"/>
                </a:lnTo>
                <a:lnTo>
                  <a:pt x="25" y="88"/>
                </a:lnTo>
                <a:lnTo>
                  <a:pt x="25" y="104"/>
                </a:lnTo>
                <a:lnTo>
                  <a:pt x="34" y="128"/>
                </a:lnTo>
                <a:lnTo>
                  <a:pt x="17" y="184"/>
                </a:lnTo>
                <a:lnTo>
                  <a:pt x="67" y="176"/>
                </a:lnTo>
                <a:lnTo>
                  <a:pt x="84" y="184"/>
                </a:lnTo>
                <a:lnTo>
                  <a:pt x="84" y="200"/>
                </a:lnTo>
                <a:lnTo>
                  <a:pt x="76" y="208"/>
                </a:lnTo>
                <a:lnTo>
                  <a:pt x="93" y="216"/>
                </a:lnTo>
                <a:lnTo>
                  <a:pt x="126" y="216"/>
                </a:lnTo>
                <a:lnTo>
                  <a:pt x="143" y="232"/>
                </a:lnTo>
                <a:lnTo>
                  <a:pt x="168" y="232"/>
                </a:lnTo>
                <a:lnTo>
                  <a:pt x="194" y="224"/>
                </a:lnTo>
                <a:lnTo>
                  <a:pt x="227" y="240"/>
                </a:lnTo>
                <a:lnTo>
                  <a:pt x="236" y="256"/>
                </a:lnTo>
                <a:lnTo>
                  <a:pt x="236" y="264"/>
                </a:lnTo>
                <a:lnTo>
                  <a:pt x="253" y="272"/>
                </a:lnTo>
                <a:lnTo>
                  <a:pt x="261" y="288"/>
                </a:lnTo>
                <a:lnTo>
                  <a:pt x="261" y="296"/>
                </a:lnTo>
                <a:lnTo>
                  <a:pt x="227" y="312"/>
                </a:lnTo>
                <a:lnTo>
                  <a:pt x="202" y="328"/>
                </a:lnTo>
                <a:lnTo>
                  <a:pt x="168" y="344"/>
                </a:lnTo>
                <a:lnTo>
                  <a:pt x="177" y="368"/>
                </a:lnTo>
                <a:lnTo>
                  <a:pt x="160" y="400"/>
                </a:lnTo>
                <a:lnTo>
                  <a:pt x="160" y="424"/>
                </a:lnTo>
                <a:lnTo>
                  <a:pt x="152" y="432"/>
                </a:lnTo>
                <a:lnTo>
                  <a:pt x="143" y="432"/>
                </a:lnTo>
                <a:lnTo>
                  <a:pt x="143" y="464"/>
                </a:lnTo>
                <a:lnTo>
                  <a:pt x="126" y="480"/>
                </a:lnTo>
                <a:lnTo>
                  <a:pt x="101" y="488"/>
                </a:lnTo>
                <a:lnTo>
                  <a:pt x="76" y="488"/>
                </a:lnTo>
                <a:lnTo>
                  <a:pt x="93" y="552"/>
                </a:lnTo>
                <a:lnTo>
                  <a:pt x="109" y="568"/>
                </a:lnTo>
                <a:lnTo>
                  <a:pt x="109" y="576"/>
                </a:lnTo>
                <a:lnTo>
                  <a:pt x="101" y="584"/>
                </a:lnTo>
                <a:lnTo>
                  <a:pt x="76" y="592"/>
                </a:lnTo>
                <a:lnTo>
                  <a:pt x="67" y="608"/>
                </a:lnTo>
                <a:lnTo>
                  <a:pt x="59" y="632"/>
                </a:lnTo>
                <a:lnTo>
                  <a:pt x="67" y="656"/>
                </a:lnTo>
                <a:lnTo>
                  <a:pt x="76" y="672"/>
                </a:lnTo>
                <a:lnTo>
                  <a:pt x="84" y="672"/>
                </a:lnTo>
                <a:lnTo>
                  <a:pt x="59" y="696"/>
                </a:lnTo>
                <a:lnTo>
                  <a:pt x="17" y="720"/>
                </a:lnTo>
                <a:lnTo>
                  <a:pt x="8" y="752"/>
                </a:lnTo>
                <a:lnTo>
                  <a:pt x="0" y="784"/>
                </a:lnTo>
                <a:lnTo>
                  <a:pt x="17" y="784"/>
                </a:lnTo>
                <a:lnTo>
                  <a:pt x="59" y="792"/>
                </a:lnTo>
                <a:lnTo>
                  <a:pt x="93" y="816"/>
                </a:lnTo>
                <a:lnTo>
                  <a:pt x="109" y="840"/>
                </a:lnTo>
                <a:lnTo>
                  <a:pt x="109" y="880"/>
                </a:lnTo>
                <a:lnTo>
                  <a:pt x="118" y="920"/>
                </a:lnTo>
                <a:lnTo>
                  <a:pt x="152" y="952"/>
                </a:lnTo>
                <a:lnTo>
                  <a:pt x="219" y="928"/>
                </a:lnTo>
                <a:lnTo>
                  <a:pt x="253" y="920"/>
                </a:lnTo>
                <a:lnTo>
                  <a:pt x="295" y="912"/>
                </a:lnTo>
                <a:lnTo>
                  <a:pt x="337" y="896"/>
                </a:lnTo>
                <a:lnTo>
                  <a:pt x="379" y="904"/>
                </a:lnTo>
                <a:lnTo>
                  <a:pt x="463" y="920"/>
                </a:lnTo>
                <a:lnTo>
                  <a:pt x="539" y="928"/>
                </a:lnTo>
                <a:lnTo>
                  <a:pt x="573" y="928"/>
                </a:lnTo>
                <a:lnTo>
                  <a:pt x="598" y="904"/>
                </a:lnTo>
                <a:lnTo>
                  <a:pt x="615" y="872"/>
                </a:lnTo>
                <a:lnTo>
                  <a:pt x="649" y="856"/>
                </a:lnTo>
                <a:lnTo>
                  <a:pt x="733" y="848"/>
                </a:lnTo>
                <a:lnTo>
                  <a:pt x="725" y="824"/>
                </a:lnTo>
                <a:lnTo>
                  <a:pt x="733" y="800"/>
                </a:lnTo>
                <a:lnTo>
                  <a:pt x="784" y="752"/>
                </a:lnTo>
                <a:lnTo>
                  <a:pt x="842" y="720"/>
                </a:lnTo>
                <a:lnTo>
                  <a:pt x="809" y="664"/>
                </a:lnTo>
                <a:lnTo>
                  <a:pt x="809" y="624"/>
                </a:lnTo>
                <a:lnTo>
                  <a:pt x="842" y="592"/>
                </a:lnTo>
                <a:lnTo>
                  <a:pt x="885" y="536"/>
                </a:lnTo>
                <a:lnTo>
                  <a:pt x="927" y="504"/>
                </a:lnTo>
                <a:lnTo>
                  <a:pt x="935" y="504"/>
                </a:lnTo>
                <a:lnTo>
                  <a:pt x="944" y="472"/>
                </a:lnTo>
                <a:lnTo>
                  <a:pt x="977" y="448"/>
                </a:lnTo>
                <a:lnTo>
                  <a:pt x="1019" y="440"/>
                </a:lnTo>
                <a:lnTo>
                  <a:pt x="1095" y="432"/>
                </a:lnTo>
                <a:lnTo>
                  <a:pt x="1196" y="376"/>
                </a:lnTo>
                <a:lnTo>
                  <a:pt x="1205" y="376"/>
                </a:lnTo>
                <a:lnTo>
                  <a:pt x="1205" y="368"/>
                </a:lnTo>
                <a:lnTo>
                  <a:pt x="1205" y="344"/>
                </a:lnTo>
                <a:lnTo>
                  <a:pt x="1180" y="3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1131"/>
          <p:cNvSpPr/>
          <p:nvPr/>
        </p:nvSpPr>
        <p:spPr>
          <a:xfrm>
            <a:off x="3193920" y="5410080"/>
            <a:ext cx="617760" cy="978120"/>
          </a:xfrm>
          <a:custGeom>
            <a:avLst/>
            <a:gdLst>
              <a:gd name="textAreaLeft" fmla="*/ 0 w 617760"/>
              <a:gd name="textAreaRight" fmla="*/ 617760 w 61776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421" h="616">
                <a:moveTo>
                  <a:pt x="413" y="96"/>
                </a:moveTo>
                <a:lnTo>
                  <a:pt x="396" y="88"/>
                </a:lnTo>
                <a:lnTo>
                  <a:pt x="396" y="80"/>
                </a:lnTo>
                <a:lnTo>
                  <a:pt x="387" y="64"/>
                </a:lnTo>
                <a:lnTo>
                  <a:pt x="354" y="48"/>
                </a:lnTo>
                <a:lnTo>
                  <a:pt x="328" y="56"/>
                </a:lnTo>
                <a:lnTo>
                  <a:pt x="303" y="56"/>
                </a:lnTo>
                <a:lnTo>
                  <a:pt x="286" y="40"/>
                </a:lnTo>
                <a:lnTo>
                  <a:pt x="253" y="40"/>
                </a:lnTo>
                <a:lnTo>
                  <a:pt x="236" y="32"/>
                </a:lnTo>
                <a:lnTo>
                  <a:pt x="244" y="24"/>
                </a:lnTo>
                <a:lnTo>
                  <a:pt x="244" y="8"/>
                </a:lnTo>
                <a:lnTo>
                  <a:pt x="227" y="0"/>
                </a:lnTo>
                <a:lnTo>
                  <a:pt x="177" y="8"/>
                </a:lnTo>
                <a:lnTo>
                  <a:pt x="177" y="40"/>
                </a:lnTo>
                <a:lnTo>
                  <a:pt x="160" y="112"/>
                </a:lnTo>
                <a:lnTo>
                  <a:pt x="143" y="144"/>
                </a:lnTo>
                <a:lnTo>
                  <a:pt x="126" y="208"/>
                </a:lnTo>
                <a:lnTo>
                  <a:pt x="92" y="256"/>
                </a:lnTo>
                <a:lnTo>
                  <a:pt x="42" y="304"/>
                </a:lnTo>
                <a:lnTo>
                  <a:pt x="17" y="352"/>
                </a:lnTo>
                <a:lnTo>
                  <a:pt x="8" y="368"/>
                </a:lnTo>
                <a:lnTo>
                  <a:pt x="17" y="376"/>
                </a:lnTo>
                <a:lnTo>
                  <a:pt x="34" y="384"/>
                </a:lnTo>
                <a:lnTo>
                  <a:pt x="25" y="400"/>
                </a:lnTo>
                <a:lnTo>
                  <a:pt x="25" y="408"/>
                </a:lnTo>
                <a:lnTo>
                  <a:pt x="34" y="416"/>
                </a:lnTo>
                <a:lnTo>
                  <a:pt x="67" y="416"/>
                </a:lnTo>
                <a:lnTo>
                  <a:pt x="42" y="480"/>
                </a:lnTo>
                <a:lnTo>
                  <a:pt x="42" y="512"/>
                </a:lnTo>
                <a:lnTo>
                  <a:pt x="25" y="544"/>
                </a:lnTo>
                <a:lnTo>
                  <a:pt x="8" y="576"/>
                </a:lnTo>
                <a:lnTo>
                  <a:pt x="0" y="592"/>
                </a:lnTo>
                <a:lnTo>
                  <a:pt x="8" y="592"/>
                </a:lnTo>
                <a:lnTo>
                  <a:pt x="50" y="592"/>
                </a:lnTo>
                <a:lnTo>
                  <a:pt x="84" y="600"/>
                </a:lnTo>
                <a:lnTo>
                  <a:pt x="126" y="616"/>
                </a:lnTo>
                <a:lnTo>
                  <a:pt x="160" y="608"/>
                </a:lnTo>
                <a:lnTo>
                  <a:pt x="168" y="576"/>
                </a:lnTo>
                <a:lnTo>
                  <a:pt x="177" y="544"/>
                </a:lnTo>
                <a:lnTo>
                  <a:pt x="219" y="520"/>
                </a:lnTo>
                <a:lnTo>
                  <a:pt x="244" y="496"/>
                </a:lnTo>
                <a:lnTo>
                  <a:pt x="236" y="496"/>
                </a:lnTo>
                <a:lnTo>
                  <a:pt x="227" y="480"/>
                </a:lnTo>
                <a:lnTo>
                  <a:pt x="219" y="456"/>
                </a:lnTo>
                <a:lnTo>
                  <a:pt x="227" y="432"/>
                </a:lnTo>
                <a:lnTo>
                  <a:pt x="236" y="416"/>
                </a:lnTo>
                <a:lnTo>
                  <a:pt x="261" y="408"/>
                </a:lnTo>
                <a:lnTo>
                  <a:pt x="269" y="400"/>
                </a:lnTo>
                <a:lnTo>
                  <a:pt x="269" y="392"/>
                </a:lnTo>
                <a:lnTo>
                  <a:pt x="253" y="376"/>
                </a:lnTo>
                <a:lnTo>
                  <a:pt x="236" y="312"/>
                </a:lnTo>
                <a:lnTo>
                  <a:pt x="261" y="312"/>
                </a:lnTo>
                <a:lnTo>
                  <a:pt x="286" y="304"/>
                </a:lnTo>
                <a:lnTo>
                  <a:pt x="303" y="288"/>
                </a:lnTo>
                <a:lnTo>
                  <a:pt x="303" y="256"/>
                </a:lnTo>
                <a:lnTo>
                  <a:pt x="312" y="256"/>
                </a:lnTo>
                <a:lnTo>
                  <a:pt x="320" y="248"/>
                </a:lnTo>
                <a:lnTo>
                  <a:pt x="320" y="224"/>
                </a:lnTo>
                <a:lnTo>
                  <a:pt x="337" y="192"/>
                </a:lnTo>
                <a:lnTo>
                  <a:pt x="328" y="168"/>
                </a:lnTo>
                <a:lnTo>
                  <a:pt x="362" y="152"/>
                </a:lnTo>
                <a:lnTo>
                  <a:pt x="387" y="136"/>
                </a:lnTo>
                <a:lnTo>
                  <a:pt x="421" y="120"/>
                </a:lnTo>
                <a:lnTo>
                  <a:pt x="421" y="112"/>
                </a:lnTo>
                <a:lnTo>
                  <a:pt x="413" y="9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1132"/>
          <p:cNvSpPr/>
          <p:nvPr/>
        </p:nvSpPr>
        <p:spPr>
          <a:xfrm>
            <a:off x="3429000" y="5130720"/>
            <a:ext cx="1765440" cy="151128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205" h="952">
                <a:moveTo>
                  <a:pt x="1180" y="352"/>
                </a:moveTo>
                <a:lnTo>
                  <a:pt x="1154" y="336"/>
                </a:lnTo>
                <a:lnTo>
                  <a:pt x="1095" y="320"/>
                </a:lnTo>
                <a:lnTo>
                  <a:pt x="1036" y="296"/>
                </a:lnTo>
                <a:lnTo>
                  <a:pt x="969" y="288"/>
                </a:lnTo>
                <a:lnTo>
                  <a:pt x="910" y="280"/>
                </a:lnTo>
                <a:lnTo>
                  <a:pt x="893" y="256"/>
                </a:lnTo>
                <a:lnTo>
                  <a:pt x="859" y="232"/>
                </a:lnTo>
                <a:lnTo>
                  <a:pt x="817" y="224"/>
                </a:lnTo>
                <a:lnTo>
                  <a:pt x="784" y="192"/>
                </a:lnTo>
                <a:lnTo>
                  <a:pt x="733" y="152"/>
                </a:lnTo>
                <a:lnTo>
                  <a:pt x="716" y="144"/>
                </a:lnTo>
                <a:lnTo>
                  <a:pt x="699" y="144"/>
                </a:lnTo>
                <a:lnTo>
                  <a:pt x="666" y="136"/>
                </a:lnTo>
                <a:lnTo>
                  <a:pt x="632" y="120"/>
                </a:lnTo>
                <a:lnTo>
                  <a:pt x="598" y="128"/>
                </a:lnTo>
                <a:lnTo>
                  <a:pt x="556" y="104"/>
                </a:lnTo>
                <a:lnTo>
                  <a:pt x="522" y="104"/>
                </a:lnTo>
                <a:lnTo>
                  <a:pt x="480" y="96"/>
                </a:lnTo>
                <a:lnTo>
                  <a:pt x="387" y="64"/>
                </a:lnTo>
                <a:lnTo>
                  <a:pt x="362" y="48"/>
                </a:lnTo>
                <a:lnTo>
                  <a:pt x="320" y="48"/>
                </a:lnTo>
                <a:lnTo>
                  <a:pt x="227" y="32"/>
                </a:lnTo>
                <a:lnTo>
                  <a:pt x="202" y="16"/>
                </a:lnTo>
                <a:lnTo>
                  <a:pt x="185" y="0"/>
                </a:lnTo>
                <a:lnTo>
                  <a:pt x="168" y="0"/>
                </a:lnTo>
                <a:lnTo>
                  <a:pt x="143" y="0"/>
                </a:lnTo>
                <a:lnTo>
                  <a:pt x="135" y="8"/>
                </a:lnTo>
                <a:lnTo>
                  <a:pt x="126" y="24"/>
                </a:lnTo>
                <a:lnTo>
                  <a:pt x="109" y="24"/>
                </a:lnTo>
                <a:lnTo>
                  <a:pt x="59" y="32"/>
                </a:lnTo>
                <a:lnTo>
                  <a:pt x="17" y="48"/>
                </a:lnTo>
                <a:lnTo>
                  <a:pt x="25" y="80"/>
                </a:lnTo>
                <a:lnTo>
                  <a:pt x="25" y="88"/>
                </a:lnTo>
                <a:lnTo>
                  <a:pt x="25" y="104"/>
                </a:lnTo>
                <a:lnTo>
                  <a:pt x="34" y="128"/>
                </a:lnTo>
                <a:lnTo>
                  <a:pt x="17" y="184"/>
                </a:lnTo>
                <a:lnTo>
                  <a:pt x="67" y="176"/>
                </a:lnTo>
                <a:lnTo>
                  <a:pt x="84" y="184"/>
                </a:lnTo>
                <a:lnTo>
                  <a:pt x="84" y="200"/>
                </a:lnTo>
                <a:lnTo>
                  <a:pt x="76" y="208"/>
                </a:lnTo>
                <a:lnTo>
                  <a:pt x="93" y="216"/>
                </a:lnTo>
                <a:lnTo>
                  <a:pt x="126" y="216"/>
                </a:lnTo>
                <a:lnTo>
                  <a:pt x="143" y="232"/>
                </a:lnTo>
                <a:lnTo>
                  <a:pt x="168" y="232"/>
                </a:lnTo>
                <a:lnTo>
                  <a:pt x="194" y="224"/>
                </a:lnTo>
                <a:lnTo>
                  <a:pt x="227" y="240"/>
                </a:lnTo>
                <a:lnTo>
                  <a:pt x="236" y="256"/>
                </a:lnTo>
                <a:lnTo>
                  <a:pt x="236" y="264"/>
                </a:lnTo>
                <a:lnTo>
                  <a:pt x="253" y="272"/>
                </a:lnTo>
                <a:lnTo>
                  <a:pt x="261" y="288"/>
                </a:lnTo>
                <a:lnTo>
                  <a:pt x="261" y="296"/>
                </a:lnTo>
                <a:lnTo>
                  <a:pt x="227" y="312"/>
                </a:lnTo>
                <a:lnTo>
                  <a:pt x="202" y="328"/>
                </a:lnTo>
                <a:lnTo>
                  <a:pt x="168" y="344"/>
                </a:lnTo>
                <a:lnTo>
                  <a:pt x="177" y="368"/>
                </a:lnTo>
                <a:lnTo>
                  <a:pt x="160" y="400"/>
                </a:lnTo>
                <a:lnTo>
                  <a:pt x="160" y="424"/>
                </a:lnTo>
                <a:lnTo>
                  <a:pt x="152" y="432"/>
                </a:lnTo>
                <a:lnTo>
                  <a:pt x="143" y="432"/>
                </a:lnTo>
                <a:lnTo>
                  <a:pt x="143" y="464"/>
                </a:lnTo>
                <a:lnTo>
                  <a:pt x="126" y="480"/>
                </a:lnTo>
                <a:lnTo>
                  <a:pt x="101" y="488"/>
                </a:lnTo>
                <a:lnTo>
                  <a:pt x="76" y="488"/>
                </a:lnTo>
                <a:lnTo>
                  <a:pt x="93" y="552"/>
                </a:lnTo>
                <a:lnTo>
                  <a:pt x="109" y="568"/>
                </a:lnTo>
                <a:lnTo>
                  <a:pt x="109" y="576"/>
                </a:lnTo>
                <a:lnTo>
                  <a:pt x="101" y="584"/>
                </a:lnTo>
                <a:lnTo>
                  <a:pt x="76" y="592"/>
                </a:lnTo>
                <a:lnTo>
                  <a:pt x="67" y="608"/>
                </a:lnTo>
                <a:lnTo>
                  <a:pt x="59" y="632"/>
                </a:lnTo>
                <a:lnTo>
                  <a:pt x="67" y="656"/>
                </a:lnTo>
                <a:lnTo>
                  <a:pt x="76" y="672"/>
                </a:lnTo>
                <a:lnTo>
                  <a:pt x="84" y="672"/>
                </a:lnTo>
                <a:lnTo>
                  <a:pt x="59" y="696"/>
                </a:lnTo>
                <a:lnTo>
                  <a:pt x="17" y="720"/>
                </a:lnTo>
                <a:lnTo>
                  <a:pt x="8" y="752"/>
                </a:lnTo>
                <a:lnTo>
                  <a:pt x="0" y="784"/>
                </a:lnTo>
                <a:lnTo>
                  <a:pt x="17" y="784"/>
                </a:lnTo>
                <a:lnTo>
                  <a:pt x="59" y="792"/>
                </a:lnTo>
                <a:lnTo>
                  <a:pt x="93" y="816"/>
                </a:lnTo>
                <a:lnTo>
                  <a:pt x="109" y="840"/>
                </a:lnTo>
                <a:lnTo>
                  <a:pt x="109" y="880"/>
                </a:lnTo>
                <a:lnTo>
                  <a:pt x="118" y="920"/>
                </a:lnTo>
                <a:lnTo>
                  <a:pt x="152" y="952"/>
                </a:lnTo>
                <a:lnTo>
                  <a:pt x="219" y="928"/>
                </a:lnTo>
                <a:lnTo>
                  <a:pt x="253" y="920"/>
                </a:lnTo>
                <a:lnTo>
                  <a:pt x="295" y="912"/>
                </a:lnTo>
                <a:lnTo>
                  <a:pt x="337" y="896"/>
                </a:lnTo>
                <a:lnTo>
                  <a:pt x="379" y="904"/>
                </a:lnTo>
                <a:lnTo>
                  <a:pt x="463" y="920"/>
                </a:lnTo>
                <a:lnTo>
                  <a:pt x="539" y="928"/>
                </a:lnTo>
                <a:lnTo>
                  <a:pt x="573" y="928"/>
                </a:lnTo>
                <a:lnTo>
                  <a:pt x="598" y="904"/>
                </a:lnTo>
                <a:lnTo>
                  <a:pt x="615" y="872"/>
                </a:lnTo>
                <a:lnTo>
                  <a:pt x="649" y="856"/>
                </a:lnTo>
                <a:lnTo>
                  <a:pt x="733" y="848"/>
                </a:lnTo>
                <a:lnTo>
                  <a:pt x="725" y="824"/>
                </a:lnTo>
                <a:lnTo>
                  <a:pt x="733" y="800"/>
                </a:lnTo>
                <a:lnTo>
                  <a:pt x="784" y="752"/>
                </a:lnTo>
                <a:lnTo>
                  <a:pt x="842" y="720"/>
                </a:lnTo>
                <a:lnTo>
                  <a:pt x="809" y="664"/>
                </a:lnTo>
                <a:lnTo>
                  <a:pt x="809" y="624"/>
                </a:lnTo>
                <a:lnTo>
                  <a:pt x="842" y="592"/>
                </a:lnTo>
                <a:lnTo>
                  <a:pt x="885" y="536"/>
                </a:lnTo>
                <a:lnTo>
                  <a:pt x="927" y="504"/>
                </a:lnTo>
                <a:lnTo>
                  <a:pt x="935" y="504"/>
                </a:lnTo>
                <a:lnTo>
                  <a:pt x="944" y="472"/>
                </a:lnTo>
                <a:lnTo>
                  <a:pt x="944" y="472"/>
                </a:lnTo>
                <a:lnTo>
                  <a:pt x="944" y="472"/>
                </a:lnTo>
                <a:lnTo>
                  <a:pt x="977" y="448"/>
                </a:lnTo>
                <a:lnTo>
                  <a:pt x="1019" y="440"/>
                </a:lnTo>
                <a:lnTo>
                  <a:pt x="1095" y="432"/>
                </a:lnTo>
                <a:lnTo>
                  <a:pt x="1196" y="376"/>
                </a:lnTo>
                <a:lnTo>
                  <a:pt x="1205" y="376"/>
                </a:lnTo>
                <a:lnTo>
                  <a:pt x="1205" y="368"/>
                </a:lnTo>
                <a:lnTo>
                  <a:pt x="1205" y="344"/>
                </a:lnTo>
                <a:lnTo>
                  <a:pt x="1205" y="344"/>
                </a:lnTo>
                <a:lnTo>
                  <a:pt x="1180" y="35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reeform 1133"/>
          <p:cNvSpPr/>
          <p:nvPr/>
        </p:nvSpPr>
        <p:spPr>
          <a:xfrm>
            <a:off x="3193920" y="5410080"/>
            <a:ext cx="617760" cy="978120"/>
          </a:xfrm>
          <a:custGeom>
            <a:avLst/>
            <a:gdLst>
              <a:gd name="textAreaLeft" fmla="*/ 0 w 617760"/>
              <a:gd name="textAreaRight" fmla="*/ 617760 w 61776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421" h="616">
                <a:moveTo>
                  <a:pt x="413" y="96"/>
                </a:moveTo>
                <a:lnTo>
                  <a:pt x="396" y="88"/>
                </a:lnTo>
                <a:lnTo>
                  <a:pt x="396" y="80"/>
                </a:lnTo>
                <a:lnTo>
                  <a:pt x="387" y="64"/>
                </a:lnTo>
                <a:lnTo>
                  <a:pt x="354" y="48"/>
                </a:lnTo>
                <a:lnTo>
                  <a:pt x="328" y="56"/>
                </a:lnTo>
                <a:lnTo>
                  <a:pt x="303" y="56"/>
                </a:lnTo>
                <a:lnTo>
                  <a:pt x="286" y="40"/>
                </a:lnTo>
                <a:lnTo>
                  <a:pt x="253" y="40"/>
                </a:lnTo>
                <a:lnTo>
                  <a:pt x="236" y="32"/>
                </a:lnTo>
                <a:lnTo>
                  <a:pt x="244" y="24"/>
                </a:lnTo>
                <a:lnTo>
                  <a:pt x="244" y="8"/>
                </a:lnTo>
                <a:lnTo>
                  <a:pt x="227" y="0"/>
                </a:lnTo>
                <a:lnTo>
                  <a:pt x="177" y="8"/>
                </a:lnTo>
                <a:lnTo>
                  <a:pt x="177" y="40"/>
                </a:lnTo>
                <a:lnTo>
                  <a:pt x="160" y="112"/>
                </a:lnTo>
                <a:lnTo>
                  <a:pt x="143" y="144"/>
                </a:lnTo>
                <a:lnTo>
                  <a:pt x="126" y="208"/>
                </a:lnTo>
                <a:lnTo>
                  <a:pt x="92" y="256"/>
                </a:lnTo>
                <a:lnTo>
                  <a:pt x="42" y="304"/>
                </a:lnTo>
                <a:lnTo>
                  <a:pt x="17" y="352"/>
                </a:lnTo>
                <a:lnTo>
                  <a:pt x="8" y="368"/>
                </a:lnTo>
                <a:lnTo>
                  <a:pt x="17" y="376"/>
                </a:lnTo>
                <a:lnTo>
                  <a:pt x="34" y="384"/>
                </a:lnTo>
                <a:lnTo>
                  <a:pt x="25" y="400"/>
                </a:lnTo>
                <a:lnTo>
                  <a:pt x="25" y="408"/>
                </a:lnTo>
                <a:lnTo>
                  <a:pt x="34" y="416"/>
                </a:lnTo>
                <a:lnTo>
                  <a:pt x="67" y="416"/>
                </a:lnTo>
                <a:lnTo>
                  <a:pt x="42" y="480"/>
                </a:lnTo>
                <a:lnTo>
                  <a:pt x="42" y="512"/>
                </a:lnTo>
                <a:lnTo>
                  <a:pt x="25" y="544"/>
                </a:lnTo>
                <a:lnTo>
                  <a:pt x="8" y="576"/>
                </a:lnTo>
                <a:lnTo>
                  <a:pt x="0" y="592"/>
                </a:lnTo>
                <a:lnTo>
                  <a:pt x="8" y="592"/>
                </a:lnTo>
                <a:lnTo>
                  <a:pt x="50" y="592"/>
                </a:lnTo>
                <a:lnTo>
                  <a:pt x="84" y="600"/>
                </a:lnTo>
                <a:lnTo>
                  <a:pt x="126" y="616"/>
                </a:lnTo>
                <a:lnTo>
                  <a:pt x="160" y="608"/>
                </a:lnTo>
                <a:lnTo>
                  <a:pt x="160" y="608"/>
                </a:lnTo>
                <a:lnTo>
                  <a:pt x="168" y="576"/>
                </a:lnTo>
                <a:lnTo>
                  <a:pt x="177" y="544"/>
                </a:lnTo>
                <a:lnTo>
                  <a:pt x="219" y="520"/>
                </a:lnTo>
                <a:lnTo>
                  <a:pt x="244" y="496"/>
                </a:lnTo>
                <a:lnTo>
                  <a:pt x="236" y="496"/>
                </a:lnTo>
                <a:lnTo>
                  <a:pt x="227" y="480"/>
                </a:lnTo>
                <a:lnTo>
                  <a:pt x="219" y="456"/>
                </a:lnTo>
                <a:lnTo>
                  <a:pt x="227" y="432"/>
                </a:lnTo>
                <a:lnTo>
                  <a:pt x="236" y="416"/>
                </a:lnTo>
                <a:lnTo>
                  <a:pt x="261" y="408"/>
                </a:lnTo>
                <a:lnTo>
                  <a:pt x="269" y="400"/>
                </a:lnTo>
                <a:lnTo>
                  <a:pt x="269" y="392"/>
                </a:lnTo>
                <a:lnTo>
                  <a:pt x="253" y="376"/>
                </a:lnTo>
                <a:lnTo>
                  <a:pt x="236" y="312"/>
                </a:lnTo>
                <a:lnTo>
                  <a:pt x="261" y="312"/>
                </a:lnTo>
                <a:lnTo>
                  <a:pt x="286" y="304"/>
                </a:lnTo>
                <a:lnTo>
                  <a:pt x="303" y="288"/>
                </a:lnTo>
                <a:lnTo>
                  <a:pt x="303" y="256"/>
                </a:lnTo>
                <a:lnTo>
                  <a:pt x="312" y="256"/>
                </a:lnTo>
                <a:lnTo>
                  <a:pt x="320" y="248"/>
                </a:lnTo>
                <a:lnTo>
                  <a:pt x="320" y="224"/>
                </a:lnTo>
                <a:lnTo>
                  <a:pt x="337" y="192"/>
                </a:lnTo>
                <a:lnTo>
                  <a:pt x="328" y="168"/>
                </a:lnTo>
                <a:lnTo>
                  <a:pt x="362" y="152"/>
                </a:lnTo>
                <a:lnTo>
                  <a:pt x="387" y="136"/>
                </a:lnTo>
                <a:lnTo>
                  <a:pt x="421" y="120"/>
                </a:lnTo>
                <a:lnTo>
                  <a:pt x="421" y="112"/>
                </a:lnTo>
                <a:lnTo>
                  <a:pt x="413" y="96"/>
                </a:lnTo>
                <a:lnTo>
                  <a:pt x="413" y="96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1134"/>
          <p:cNvSpPr/>
          <p:nvPr/>
        </p:nvSpPr>
        <p:spPr>
          <a:xfrm>
            <a:off x="3762360" y="2997360"/>
            <a:ext cx="579600" cy="647640"/>
          </a:xfrm>
          <a:custGeom>
            <a:avLst/>
            <a:gdLst>
              <a:gd name="textAreaLeft" fmla="*/ 0 w 579600"/>
              <a:gd name="textAreaRight" fmla="*/ 579960 w 5796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396" h="408">
                <a:moveTo>
                  <a:pt x="363" y="160"/>
                </a:moveTo>
                <a:lnTo>
                  <a:pt x="354" y="136"/>
                </a:lnTo>
                <a:lnTo>
                  <a:pt x="329" y="120"/>
                </a:lnTo>
                <a:lnTo>
                  <a:pt x="295" y="144"/>
                </a:lnTo>
                <a:lnTo>
                  <a:pt x="262" y="96"/>
                </a:lnTo>
                <a:lnTo>
                  <a:pt x="278" y="80"/>
                </a:lnTo>
                <a:lnTo>
                  <a:pt x="278" y="64"/>
                </a:lnTo>
                <a:lnTo>
                  <a:pt x="312" y="64"/>
                </a:lnTo>
                <a:lnTo>
                  <a:pt x="321" y="48"/>
                </a:lnTo>
                <a:lnTo>
                  <a:pt x="329" y="32"/>
                </a:lnTo>
                <a:lnTo>
                  <a:pt x="346" y="24"/>
                </a:lnTo>
                <a:lnTo>
                  <a:pt x="354" y="0"/>
                </a:lnTo>
                <a:lnTo>
                  <a:pt x="329" y="0"/>
                </a:lnTo>
                <a:lnTo>
                  <a:pt x="304" y="8"/>
                </a:lnTo>
                <a:lnTo>
                  <a:pt x="262" y="8"/>
                </a:lnTo>
                <a:lnTo>
                  <a:pt x="253" y="32"/>
                </a:lnTo>
                <a:lnTo>
                  <a:pt x="219" y="56"/>
                </a:lnTo>
                <a:lnTo>
                  <a:pt x="219" y="80"/>
                </a:lnTo>
                <a:lnTo>
                  <a:pt x="186" y="96"/>
                </a:lnTo>
                <a:lnTo>
                  <a:pt x="127" y="72"/>
                </a:lnTo>
                <a:lnTo>
                  <a:pt x="93" y="104"/>
                </a:lnTo>
                <a:lnTo>
                  <a:pt x="110" y="136"/>
                </a:lnTo>
                <a:lnTo>
                  <a:pt x="76" y="160"/>
                </a:lnTo>
                <a:lnTo>
                  <a:pt x="110" y="192"/>
                </a:lnTo>
                <a:lnTo>
                  <a:pt x="152" y="208"/>
                </a:lnTo>
                <a:lnTo>
                  <a:pt x="144" y="224"/>
                </a:lnTo>
                <a:lnTo>
                  <a:pt x="118" y="224"/>
                </a:lnTo>
                <a:lnTo>
                  <a:pt x="102" y="256"/>
                </a:lnTo>
                <a:lnTo>
                  <a:pt x="51" y="272"/>
                </a:lnTo>
                <a:lnTo>
                  <a:pt x="51" y="304"/>
                </a:lnTo>
                <a:lnTo>
                  <a:pt x="9" y="312"/>
                </a:lnTo>
                <a:lnTo>
                  <a:pt x="26" y="328"/>
                </a:lnTo>
                <a:lnTo>
                  <a:pt x="0" y="368"/>
                </a:lnTo>
                <a:lnTo>
                  <a:pt x="26" y="376"/>
                </a:lnTo>
                <a:lnTo>
                  <a:pt x="26" y="400"/>
                </a:lnTo>
                <a:lnTo>
                  <a:pt x="59" y="408"/>
                </a:lnTo>
                <a:lnTo>
                  <a:pt x="160" y="408"/>
                </a:lnTo>
                <a:lnTo>
                  <a:pt x="228" y="376"/>
                </a:lnTo>
                <a:lnTo>
                  <a:pt x="287" y="376"/>
                </a:lnTo>
                <a:lnTo>
                  <a:pt x="329" y="392"/>
                </a:lnTo>
                <a:lnTo>
                  <a:pt x="329" y="360"/>
                </a:lnTo>
                <a:lnTo>
                  <a:pt x="354" y="328"/>
                </a:lnTo>
                <a:lnTo>
                  <a:pt x="371" y="304"/>
                </a:lnTo>
                <a:lnTo>
                  <a:pt x="388" y="232"/>
                </a:lnTo>
                <a:lnTo>
                  <a:pt x="380" y="208"/>
                </a:lnTo>
                <a:lnTo>
                  <a:pt x="371" y="176"/>
                </a:lnTo>
                <a:lnTo>
                  <a:pt x="396" y="168"/>
                </a:lnTo>
                <a:lnTo>
                  <a:pt x="380" y="160"/>
                </a:lnTo>
                <a:lnTo>
                  <a:pt x="363" y="16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1135"/>
          <p:cNvSpPr/>
          <p:nvPr/>
        </p:nvSpPr>
        <p:spPr>
          <a:xfrm>
            <a:off x="4145040" y="3035160"/>
            <a:ext cx="296640" cy="228600"/>
          </a:xfrm>
          <a:custGeom>
            <a:avLst/>
            <a:gdLst>
              <a:gd name="textAreaLeft" fmla="*/ 0 w 296640"/>
              <a:gd name="textAreaRight" fmla="*/ 296640 w 296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2" h="144">
                <a:moveTo>
                  <a:pt x="185" y="72"/>
                </a:moveTo>
                <a:lnTo>
                  <a:pt x="177" y="48"/>
                </a:lnTo>
                <a:lnTo>
                  <a:pt x="177" y="16"/>
                </a:lnTo>
                <a:lnTo>
                  <a:pt x="151" y="0"/>
                </a:lnTo>
                <a:lnTo>
                  <a:pt x="126" y="0"/>
                </a:lnTo>
                <a:lnTo>
                  <a:pt x="109" y="0"/>
                </a:lnTo>
                <a:lnTo>
                  <a:pt x="84" y="0"/>
                </a:lnTo>
                <a:lnTo>
                  <a:pt x="84" y="8"/>
                </a:lnTo>
                <a:lnTo>
                  <a:pt x="84" y="0"/>
                </a:lnTo>
                <a:lnTo>
                  <a:pt x="67" y="8"/>
                </a:lnTo>
                <a:lnTo>
                  <a:pt x="59" y="24"/>
                </a:lnTo>
                <a:lnTo>
                  <a:pt x="50" y="40"/>
                </a:lnTo>
                <a:lnTo>
                  <a:pt x="16" y="40"/>
                </a:lnTo>
                <a:lnTo>
                  <a:pt x="16" y="56"/>
                </a:lnTo>
                <a:lnTo>
                  <a:pt x="0" y="72"/>
                </a:lnTo>
                <a:lnTo>
                  <a:pt x="33" y="120"/>
                </a:lnTo>
                <a:lnTo>
                  <a:pt x="67" y="96"/>
                </a:lnTo>
                <a:lnTo>
                  <a:pt x="92" y="112"/>
                </a:lnTo>
                <a:lnTo>
                  <a:pt x="101" y="136"/>
                </a:lnTo>
                <a:lnTo>
                  <a:pt x="118" y="136"/>
                </a:lnTo>
                <a:lnTo>
                  <a:pt x="134" y="144"/>
                </a:lnTo>
                <a:lnTo>
                  <a:pt x="143" y="144"/>
                </a:lnTo>
                <a:lnTo>
                  <a:pt x="168" y="128"/>
                </a:lnTo>
                <a:lnTo>
                  <a:pt x="193" y="120"/>
                </a:lnTo>
                <a:lnTo>
                  <a:pt x="202" y="88"/>
                </a:lnTo>
                <a:lnTo>
                  <a:pt x="185" y="7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1136"/>
          <p:cNvSpPr/>
          <p:nvPr/>
        </p:nvSpPr>
        <p:spPr>
          <a:xfrm>
            <a:off x="4219560" y="2438280"/>
            <a:ext cx="974880" cy="1613160"/>
          </a:xfrm>
          <a:custGeom>
            <a:avLst/>
            <a:gdLst>
              <a:gd name="textAreaLeft" fmla="*/ 0 w 974880"/>
              <a:gd name="textAreaRight" fmla="*/ 975240 w 97488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1137"/>
          <p:cNvSpPr/>
          <p:nvPr/>
        </p:nvSpPr>
        <p:spPr>
          <a:xfrm>
            <a:off x="4145040" y="3035160"/>
            <a:ext cx="296640" cy="228600"/>
          </a:xfrm>
          <a:custGeom>
            <a:avLst/>
            <a:gdLst>
              <a:gd name="textAreaLeft" fmla="*/ 0 w 296640"/>
              <a:gd name="textAreaRight" fmla="*/ 296640 w 296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2" h="144">
                <a:moveTo>
                  <a:pt x="185" y="72"/>
                </a:moveTo>
                <a:lnTo>
                  <a:pt x="177" y="48"/>
                </a:lnTo>
                <a:lnTo>
                  <a:pt x="177" y="16"/>
                </a:lnTo>
                <a:lnTo>
                  <a:pt x="151" y="0"/>
                </a:lnTo>
                <a:lnTo>
                  <a:pt x="126" y="0"/>
                </a:lnTo>
                <a:lnTo>
                  <a:pt x="109" y="0"/>
                </a:lnTo>
                <a:lnTo>
                  <a:pt x="84" y="0"/>
                </a:lnTo>
                <a:lnTo>
                  <a:pt x="84" y="8"/>
                </a:lnTo>
                <a:lnTo>
                  <a:pt x="84" y="0"/>
                </a:lnTo>
                <a:lnTo>
                  <a:pt x="67" y="8"/>
                </a:lnTo>
                <a:lnTo>
                  <a:pt x="59" y="24"/>
                </a:lnTo>
                <a:lnTo>
                  <a:pt x="50" y="40"/>
                </a:lnTo>
                <a:lnTo>
                  <a:pt x="16" y="40"/>
                </a:lnTo>
                <a:lnTo>
                  <a:pt x="16" y="56"/>
                </a:lnTo>
                <a:lnTo>
                  <a:pt x="0" y="72"/>
                </a:lnTo>
                <a:lnTo>
                  <a:pt x="33" y="120"/>
                </a:lnTo>
                <a:lnTo>
                  <a:pt x="67" y="96"/>
                </a:lnTo>
                <a:lnTo>
                  <a:pt x="92" y="112"/>
                </a:lnTo>
                <a:lnTo>
                  <a:pt x="101" y="136"/>
                </a:lnTo>
                <a:lnTo>
                  <a:pt x="118" y="136"/>
                </a:lnTo>
                <a:lnTo>
                  <a:pt x="134" y="144"/>
                </a:lnTo>
                <a:lnTo>
                  <a:pt x="143" y="144"/>
                </a:lnTo>
                <a:lnTo>
                  <a:pt x="143" y="144"/>
                </a:lnTo>
                <a:lnTo>
                  <a:pt x="168" y="128"/>
                </a:lnTo>
                <a:lnTo>
                  <a:pt x="193" y="120"/>
                </a:lnTo>
                <a:lnTo>
                  <a:pt x="202" y="88"/>
                </a:lnTo>
                <a:lnTo>
                  <a:pt x="185" y="72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Freeform 1138"/>
          <p:cNvSpPr/>
          <p:nvPr/>
        </p:nvSpPr>
        <p:spPr>
          <a:xfrm>
            <a:off x="4219560" y="2438280"/>
            <a:ext cx="974880" cy="1613160"/>
          </a:xfrm>
          <a:custGeom>
            <a:avLst/>
            <a:gdLst>
              <a:gd name="textAreaLeft" fmla="*/ 0 w 974880"/>
              <a:gd name="textAreaRight" fmla="*/ 975240 w 97488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1139"/>
          <p:cNvSpPr/>
          <p:nvPr/>
        </p:nvSpPr>
        <p:spPr>
          <a:xfrm>
            <a:off x="3317760" y="1143000"/>
            <a:ext cx="863640" cy="673200"/>
          </a:xfrm>
          <a:custGeom>
            <a:avLst/>
            <a:gdLst>
              <a:gd name="textAreaLeft" fmla="*/ 0 w 863640"/>
              <a:gd name="textAreaRight" fmla="*/ 864000 w 86364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590" h="424">
                <a:moveTo>
                  <a:pt x="101" y="320"/>
                </a:moveTo>
                <a:lnTo>
                  <a:pt x="135" y="384"/>
                </a:lnTo>
                <a:lnTo>
                  <a:pt x="202" y="424"/>
                </a:lnTo>
                <a:lnTo>
                  <a:pt x="253" y="424"/>
                </a:lnTo>
                <a:lnTo>
                  <a:pt x="287" y="416"/>
                </a:lnTo>
                <a:lnTo>
                  <a:pt x="346" y="424"/>
                </a:lnTo>
                <a:lnTo>
                  <a:pt x="430" y="392"/>
                </a:lnTo>
                <a:lnTo>
                  <a:pt x="463" y="400"/>
                </a:lnTo>
                <a:lnTo>
                  <a:pt x="506" y="376"/>
                </a:lnTo>
                <a:lnTo>
                  <a:pt x="556" y="352"/>
                </a:lnTo>
                <a:lnTo>
                  <a:pt x="590" y="272"/>
                </a:lnTo>
                <a:lnTo>
                  <a:pt x="565" y="256"/>
                </a:lnTo>
                <a:lnTo>
                  <a:pt x="556" y="224"/>
                </a:lnTo>
                <a:lnTo>
                  <a:pt x="565" y="192"/>
                </a:lnTo>
                <a:lnTo>
                  <a:pt x="573" y="160"/>
                </a:lnTo>
                <a:lnTo>
                  <a:pt x="531" y="160"/>
                </a:lnTo>
                <a:lnTo>
                  <a:pt x="506" y="120"/>
                </a:lnTo>
                <a:lnTo>
                  <a:pt x="480" y="144"/>
                </a:lnTo>
                <a:lnTo>
                  <a:pt x="472" y="160"/>
                </a:lnTo>
                <a:lnTo>
                  <a:pt x="447" y="152"/>
                </a:lnTo>
                <a:lnTo>
                  <a:pt x="413" y="160"/>
                </a:lnTo>
                <a:lnTo>
                  <a:pt x="405" y="128"/>
                </a:lnTo>
                <a:lnTo>
                  <a:pt x="379" y="128"/>
                </a:lnTo>
                <a:lnTo>
                  <a:pt x="371" y="152"/>
                </a:lnTo>
                <a:lnTo>
                  <a:pt x="354" y="112"/>
                </a:lnTo>
                <a:lnTo>
                  <a:pt x="312" y="120"/>
                </a:lnTo>
                <a:lnTo>
                  <a:pt x="295" y="144"/>
                </a:lnTo>
                <a:lnTo>
                  <a:pt x="278" y="144"/>
                </a:lnTo>
                <a:lnTo>
                  <a:pt x="270" y="88"/>
                </a:lnTo>
                <a:lnTo>
                  <a:pt x="253" y="96"/>
                </a:lnTo>
                <a:lnTo>
                  <a:pt x="244" y="152"/>
                </a:lnTo>
                <a:lnTo>
                  <a:pt x="228" y="152"/>
                </a:lnTo>
                <a:lnTo>
                  <a:pt x="219" y="128"/>
                </a:lnTo>
                <a:lnTo>
                  <a:pt x="177" y="160"/>
                </a:lnTo>
                <a:lnTo>
                  <a:pt x="185" y="112"/>
                </a:lnTo>
                <a:lnTo>
                  <a:pt x="211" y="88"/>
                </a:lnTo>
                <a:lnTo>
                  <a:pt x="185" y="16"/>
                </a:lnTo>
                <a:lnTo>
                  <a:pt x="143" y="0"/>
                </a:lnTo>
                <a:lnTo>
                  <a:pt x="152" y="64"/>
                </a:lnTo>
                <a:lnTo>
                  <a:pt x="118" y="16"/>
                </a:lnTo>
                <a:lnTo>
                  <a:pt x="93" y="32"/>
                </a:lnTo>
                <a:lnTo>
                  <a:pt x="76" y="48"/>
                </a:lnTo>
                <a:lnTo>
                  <a:pt x="93" y="64"/>
                </a:lnTo>
                <a:lnTo>
                  <a:pt x="59" y="48"/>
                </a:lnTo>
                <a:lnTo>
                  <a:pt x="51" y="64"/>
                </a:lnTo>
                <a:lnTo>
                  <a:pt x="25" y="64"/>
                </a:lnTo>
                <a:lnTo>
                  <a:pt x="42" y="88"/>
                </a:lnTo>
                <a:lnTo>
                  <a:pt x="101" y="96"/>
                </a:lnTo>
                <a:lnTo>
                  <a:pt x="143" y="128"/>
                </a:lnTo>
                <a:lnTo>
                  <a:pt x="110" y="144"/>
                </a:lnTo>
                <a:lnTo>
                  <a:pt x="126" y="160"/>
                </a:lnTo>
                <a:lnTo>
                  <a:pt x="143" y="176"/>
                </a:lnTo>
                <a:lnTo>
                  <a:pt x="126" y="184"/>
                </a:lnTo>
                <a:lnTo>
                  <a:pt x="8" y="144"/>
                </a:lnTo>
                <a:lnTo>
                  <a:pt x="0" y="168"/>
                </a:lnTo>
                <a:lnTo>
                  <a:pt x="93" y="192"/>
                </a:lnTo>
                <a:lnTo>
                  <a:pt x="84" y="216"/>
                </a:lnTo>
                <a:lnTo>
                  <a:pt x="84" y="256"/>
                </a:lnTo>
                <a:lnTo>
                  <a:pt x="67" y="280"/>
                </a:lnTo>
                <a:lnTo>
                  <a:pt x="34" y="280"/>
                </a:lnTo>
                <a:lnTo>
                  <a:pt x="17" y="296"/>
                </a:lnTo>
                <a:lnTo>
                  <a:pt x="101" y="3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reeform 1140"/>
          <p:cNvSpPr/>
          <p:nvPr/>
        </p:nvSpPr>
        <p:spPr>
          <a:xfrm>
            <a:off x="6157800" y="3149640"/>
            <a:ext cx="98640" cy="101520"/>
          </a:xfrm>
          <a:custGeom>
            <a:avLst/>
            <a:gdLst>
              <a:gd name="textAreaLeft" fmla="*/ 0 w 98640"/>
              <a:gd name="textAreaRight" fmla="*/ 99000 w 986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7" h="64">
                <a:moveTo>
                  <a:pt x="0" y="24"/>
                </a:moveTo>
                <a:lnTo>
                  <a:pt x="17" y="56"/>
                </a:lnTo>
                <a:lnTo>
                  <a:pt x="51" y="64"/>
                </a:lnTo>
                <a:lnTo>
                  <a:pt x="67" y="48"/>
                </a:lnTo>
                <a:lnTo>
                  <a:pt x="59" y="0"/>
                </a:lnTo>
                <a:lnTo>
                  <a:pt x="0" y="8"/>
                </a:lnTo>
                <a:lnTo>
                  <a:pt x="0" y="24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reeform 1141"/>
          <p:cNvSpPr/>
          <p:nvPr/>
        </p:nvSpPr>
        <p:spPr>
          <a:xfrm>
            <a:off x="3317760" y="1143000"/>
            <a:ext cx="863640" cy="673200"/>
          </a:xfrm>
          <a:custGeom>
            <a:avLst/>
            <a:gdLst>
              <a:gd name="textAreaLeft" fmla="*/ 0 w 863640"/>
              <a:gd name="textAreaRight" fmla="*/ 864000 w 86364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590" h="424">
                <a:moveTo>
                  <a:pt x="101" y="320"/>
                </a:moveTo>
                <a:lnTo>
                  <a:pt x="135" y="384"/>
                </a:lnTo>
                <a:lnTo>
                  <a:pt x="202" y="424"/>
                </a:lnTo>
                <a:lnTo>
                  <a:pt x="253" y="424"/>
                </a:lnTo>
                <a:lnTo>
                  <a:pt x="287" y="416"/>
                </a:lnTo>
                <a:lnTo>
                  <a:pt x="346" y="424"/>
                </a:lnTo>
                <a:lnTo>
                  <a:pt x="430" y="392"/>
                </a:lnTo>
                <a:lnTo>
                  <a:pt x="463" y="400"/>
                </a:lnTo>
                <a:lnTo>
                  <a:pt x="506" y="376"/>
                </a:lnTo>
                <a:lnTo>
                  <a:pt x="556" y="352"/>
                </a:lnTo>
                <a:lnTo>
                  <a:pt x="590" y="272"/>
                </a:lnTo>
                <a:lnTo>
                  <a:pt x="565" y="256"/>
                </a:lnTo>
                <a:lnTo>
                  <a:pt x="556" y="224"/>
                </a:lnTo>
                <a:lnTo>
                  <a:pt x="565" y="192"/>
                </a:lnTo>
                <a:lnTo>
                  <a:pt x="573" y="160"/>
                </a:lnTo>
                <a:lnTo>
                  <a:pt x="531" y="160"/>
                </a:lnTo>
                <a:lnTo>
                  <a:pt x="506" y="120"/>
                </a:lnTo>
                <a:lnTo>
                  <a:pt x="480" y="144"/>
                </a:lnTo>
                <a:lnTo>
                  <a:pt x="472" y="160"/>
                </a:lnTo>
                <a:lnTo>
                  <a:pt x="447" y="152"/>
                </a:lnTo>
                <a:lnTo>
                  <a:pt x="413" y="160"/>
                </a:lnTo>
                <a:lnTo>
                  <a:pt x="405" y="128"/>
                </a:lnTo>
                <a:lnTo>
                  <a:pt x="379" y="128"/>
                </a:lnTo>
                <a:lnTo>
                  <a:pt x="371" y="152"/>
                </a:lnTo>
                <a:lnTo>
                  <a:pt x="354" y="112"/>
                </a:lnTo>
                <a:lnTo>
                  <a:pt x="312" y="120"/>
                </a:lnTo>
                <a:lnTo>
                  <a:pt x="295" y="144"/>
                </a:lnTo>
                <a:lnTo>
                  <a:pt x="278" y="144"/>
                </a:lnTo>
                <a:lnTo>
                  <a:pt x="270" y="88"/>
                </a:lnTo>
                <a:lnTo>
                  <a:pt x="253" y="96"/>
                </a:lnTo>
                <a:lnTo>
                  <a:pt x="244" y="152"/>
                </a:lnTo>
                <a:lnTo>
                  <a:pt x="228" y="152"/>
                </a:lnTo>
                <a:lnTo>
                  <a:pt x="219" y="128"/>
                </a:lnTo>
                <a:lnTo>
                  <a:pt x="177" y="160"/>
                </a:lnTo>
                <a:lnTo>
                  <a:pt x="185" y="112"/>
                </a:lnTo>
                <a:lnTo>
                  <a:pt x="211" y="88"/>
                </a:lnTo>
                <a:lnTo>
                  <a:pt x="185" y="16"/>
                </a:lnTo>
                <a:lnTo>
                  <a:pt x="143" y="0"/>
                </a:lnTo>
                <a:lnTo>
                  <a:pt x="152" y="64"/>
                </a:lnTo>
                <a:lnTo>
                  <a:pt x="118" y="16"/>
                </a:lnTo>
                <a:lnTo>
                  <a:pt x="93" y="32"/>
                </a:lnTo>
                <a:lnTo>
                  <a:pt x="76" y="48"/>
                </a:lnTo>
                <a:lnTo>
                  <a:pt x="93" y="64"/>
                </a:lnTo>
                <a:lnTo>
                  <a:pt x="59" y="48"/>
                </a:lnTo>
                <a:lnTo>
                  <a:pt x="51" y="64"/>
                </a:lnTo>
                <a:lnTo>
                  <a:pt x="25" y="64"/>
                </a:lnTo>
                <a:lnTo>
                  <a:pt x="42" y="88"/>
                </a:lnTo>
                <a:lnTo>
                  <a:pt x="101" y="96"/>
                </a:lnTo>
                <a:lnTo>
                  <a:pt x="143" y="128"/>
                </a:lnTo>
                <a:lnTo>
                  <a:pt x="110" y="144"/>
                </a:lnTo>
                <a:lnTo>
                  <a:pt x="126" y="160"/>
                </a:lnTo>
                <a:lnTo>
                  <a:pt x="143" y="176"/>
                </a:lnTo>
                <a:lnTo>
                  <a:pt x="126" y="184"/>
                </a:lnTo>
                <a:lnTo>
                  <a:pt x="8" y="144"/>
                </a:lnTo>
                <a:lnTo>
                  <a:pt x="0" y="168"/>
                </a:lnTo>
                <a:lnTo>
                  <a:pt x="93" y="192"/>
                </a:lnTo>
                <a:lnTo>
                  <a:pt x="84" y="216"/>
                </a:lnTo>
                <a:lnTo>
                  <a:pt x="84" y="256"/>
                </a:lnTo>
                <a:lnTo>
                  <a:pt x="67" y="280"/>
                </a:lnTo>
                <a:lnTo>
                  <a:pt x="34" y="280"/>
                </a:lnTo>
                <a:lnTo>
                  <a:pt x="17" y="296"/>
                </a:lnTo>
                <a:lnTo>
                  <a:pt x="101" y="32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reeform 1142"/>
          <p:cNvSpPr/>
          <p:nvPr/>
        </p:nvSpPr>
        <p:spPr>
          <a:xfrm>
            <a:off x="6157800" y="3149640"/>
            <a:ext cx="98640" cy="101520"/>
          </a:xfrm>
          <a:custGeom>
            <a:avLst/>
            <a:gdLst>
              <a:gd name="textAreaLeft" fmla="*/ 0 w 98640"/>
              <a:gd name="textAreaRight" fmla="*/ 99000 w 986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7" h="64">
                <a:moveTo>
                  <a:pt x="0" y="24"/>
                </a:moveTo>
                <a:lnTo>
                  <a:pt x="17" y="56"/>
                </a:lnTo>
                <a:lnTo>
                  <a:pt x="51" y="64"/>
                </a:lnTo>
                <a:lnTo>
                  <a:pt x="67" y="48"/>
                </a:lnTo>
                <a:lnTo>
                  <a:pt x="59" y="0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Freeform 1143"/>
          <p:cNvSpPr/>
          <p:nvPr/>
        </p:nvSpPr>
        <p:spPr>
          <a:xfrm>
            <a:off x="6157800" y="3149640"/>
            <a:ext cx="98640" cy="101520"/>
          </a:xfrm>
          <a:custGeom>
            <a:avLst/>
            <a:gdLst>
              <a:gd name="textAreaLeft" fmla="*/ 0 w 98640"/>
              <a:gd name="textAreaRight" fmla="*/ 99000 w 986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7" h="64">
                <a:moveTo>
                  <a:pt x="0" y="24"/>
                </a:moveTo>
                <a:lnTo>
                  <a:pt x="17" y="56"/>
                </a:lnTo>
                <a:lnTo>
                  <a:pt x="51" y="64"/>
                </a:lnTo>
                <a:lnTo>
                  <a:pt x="67" y="48"/>
                </a:lnTo>
                <a:lnTo>
                  <a:pt x="59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Freeform 1144"/>
          <p:cNvSpPr/>
          <p:nvPr/>
        </p:nvSpPr>
        <p:spPr>
          <a:xfrm>
            <a:off x="6294600" y="3048120"/>
            <a:ext cx="158760" cy="279360"/>
          </a:xfrm>
          <a:custGeom>
            <a:avLst/>
            <a:gdLst>
              <a:gd name="textAreaLeft" fmla="*/ 0 w 158760"/>
              <a:gd name="textAreaRight" fmla="*/ 159120 w 1587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09" h="176">
                <a:moveTo>
                  <a:pt x="0" y="168"/>
                </a:moveTo>
                <a:lnTo>
                  <a:pt x="50" y="176"/>
                </a:lnTo>
                <a:lnTo>
                  <a:pt x="76" y="144"/>
                </a:lnTo>
                <a:lnTo>
                  <a:pt x="76" y="112"/>
                </a:lnTo>
                <a:lnTo>
                  <a:pt x="109" y="96"/>
                </a:lnTo>
                <a:lnTo>
                  <a:pt x="92" y="72"/>
                </a:lnTo>
                <a:lnTo>
                  <a:pt x="109" y="64"/>
                </a:lnTo>
                <a:lnTo>
                  <a:pt x="101" y="8"/>
                </a:lnTo>
                <a:lnTo>
                  <a:pt x="84" y="0"/>
                </a:lnTo>
                <a:lnTo>
                  <a:pt x="67" y="16"/>
                </a:lnTo>
                <a:lnTo>
                  <a:pt x="59" y="48"/>
                </a:lnTo>
                <a:lnTo>
                  <a:pt x="42" y="16"/>
                </a:lnTo>
                <a:lnTo>
                  <a:pt x="8" y="40"/>
                </a:lnTo>
                <a:lnTo>
                  <a:pt x="0" y="48"/>
                </a:lnTo>
                <a:lnTo>
                  <a:pt x="8" y="72"/>
                </a:lnTo>
                <a:lnTo>
                  <a:pt x="42" y="88"/>
                </a:lnTo>
                <a:lnTo>
                  <a:pt x="50" y="112"/>
                </a:lnTo>
                <a:lnTo>
                  <a:pt x="33" y="144"/>
                </a:lnTo>
                <a:lnTo>
                  <a:pt x="8" y="136"/>
                </a:lnTo>
                <a:lnTo>
                  <a:pt x="0" y="168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reeform 1146"/>
          <p:cNvSpPr/>
          <p:nvPr/>
        </p:nvSpPr>
        <p:spPr>
          <a:xfrm>
            <a:off x="6294600" y="3048120"/>
            <a:ext cx="158760" cy="279360"/>
          </a:xfrm>
          <a:custGeom>
            <a:avLst/>
            <a:gdLst>
              <a:gd name="textAreaLeft" fmla="*/ 0 w 158760"/>
              <a:gd name="textAreaRight" fmla="*/ 159120 w 1587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09" h="176">
                <a:moveTo>
                  <a:pt x="0" y="168"/>
                </a:moveTo>
                <a:lnTo>
                  <a:pt x="50" y="176"/>
                </a:lnTo>
                <a:lnTo>
                  <a:pt x="76" y="144"/>
                </a:lnTo>
                <a:lnTo>
                  <a:pt x="76" y="112"/>
                </a:lnTo>
                <a:lnTo>
                  <a:pt x="109" y="96"/>
                </a:lnTo>
                <a:lnTo>
                  <a:pt x="92" y="72"/>
                </a:lnTo>
                <a:lnTo>
                  <a:pt x="109" y="64"/>
                </a:lnTo>
                <a:lnTo>
                  <a:pt x="101" y="8"/>
                </a:lnTo>
                <a:lnTo>
                  <a:pt x="84" y="0"/>
                </a:lnTo>
                <a:lnTo>
                  <a:pt x="67" y="16"/>
                </a:lnTo>
                <a:lnTo>
                  <a:pt x="59" y="48"/>
                </a:lnTo>
                <a:lnTo>
                  <a:pt x="42" y="16"/>
                </a:lnTo>
                <a:lnTo>
                  <a:pt x="8" y="40"/>
                </a:lnTo>
                <a:lnTo>
                  <a:pt x="0" y="48"/>
                </a:lnTo>
                <a:lnTo>
                  <a:pt x="8" y="72"/>
                </a:lnTo>
                <a:lnTo>
                  <a:pt x="42" y="88"/>
                </a:lnTo>
                <a:lnTo>
                  <a:pt x="50" y="112"/>
                </a:lnTo>
                <a:lnTo>
                  <a:pt x="33" y="144"/>
                </a:lnTo>
                <a:lnTo>
                  <a:pt x="8" y="136"/>
                </a:lnTo>
                <a:lnTo>
                  <a:pt x="0" y="16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reeform 1147"/>
          <p:cNvSpPr/>
          <p:nvPr/>
        </p:nvSpPr>
        <p:spPr>
          <a:xfrm>
            <a:off x="6578640" y="6426360"/>
            <a:ext cx="479520" cy="330120"/>
          </a:xfrm>
          <a:custGeom>
            <a:avLst/>
            <a:gdLst>
              <a:gd name="textAreaLeft" fmla="*/ 0 w 479520"/>
              <a:gd name="textAreaRight" fmla="*/ 479880 w 4795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328" h="208">
                <a:moveTo>
                  <a:pt x="0" y="80"/>
                </a:moveTo>
                <a:lnTo>
                  <a:pt x="0" y="56"/>
                </a:lnTo>
                <a:lnTo>
                  <a:pt x="25" y="32"/>
                </a:lnTo>
                <a:lnTo>
                  <a:pt x="50" y="48"/>
                </a:lnTo>
                <a:lnTo>
                  <a:pt x="67" y="32"/>
                </a:lnTo>
                <a:lnTo>
                  <a:pt x="92" y="24"/>
                </a:lnTo>
                <a:lnTo>
                  <a:pt x="101" y="32"/>
                </a:lnTo>
                <a:lnTo>
                  <a:pt x="117" y="40"/>
                </a:lnTo>
                <a:lnTo>
                  <a:pt x="134" y="48"/>
                </a:lnTo>
                <a:lnTo>
                  <a:pt x="160" y="40"/>
                </a:lnTo>
                <a:lnTo>
                  <a:pt x="210" y="40"/>
                </a:lnTo>
                <a:lnTo>
                  <a:pt x="235" y="32"/>
                </a:lnTo>
                <a:lnTo>
                  <a:pt x="252" y="16"/>
                </a:lnTo>
                <a:lnTo>
                  <a:pt x="261" y="16"/>
                </a:lnTo>
                <a:lnTo>
                  <a:pt x="286" y="24"/>
                </a:lnTo>
                <a:lnTo>
                  <a:pt x="294" y="8"/>
                </a:lnTo>
                <a:lnTo>
                  <a:pt x="320" y="0"/>
                </a:lnTo>
                <a:lnTo>
                  <a:pt x="328" y="16"/>
                </a:lnTo>
                <a:lnTo>
                  <a:pt x="311" y="56"/>
                </a:lnTo>
                <a:lnTo>
                  <a:pt x="303" y="80"/>
                </a:lnTo>
                <a:lnTo>
                  <a:pt x="286" y="104"/>
                </a:lnTo>
                <a:lnTo>
                  <a:pt x="286" y="112"/>
                </a:lnTo>
                <a:lnTo>
                  <a:pt x="303" y="128"/>
                </a:lnTo>
                <a:lnTo>
                  <a:pt x="320" y="160"/>
                </a:lnTo>
                <a:lnTo>
                  <a:pt x="303" y="176"/>
                </a:lnTo>
                <a:lnTo>
                  <a:pt x="303" y="208"/>
                </a:lnTo>
                <a:lnTo>
                  <a:pt x="269" y="200"/>
                </a:lnTo>
                <a:lnTo>
                  <a:pt x="227" y="192"/>
                </a:lnTo>
                <a:lnTo>
                  <a:pt x="202" y="152"/>
                </a:lnTo>
                <a:lnTo>
                  <a:pt x="168" y="160"/>
                </a:lnTo>
                <a:lnTo>
                  <a:pt x="143" y="144"/>
                </a:lnTo>
                <a:lnTo>
                  <a:pt x="126" y="128"/>
                </a:lnTo>
                <a:lnTo>
                  <a:pt x="109" y="128"/>
                </a:lnTo>
                <a:lnTo>
                  <a:pt x="84" y="112"/>
                </a:lnTo>
                <a:lnTo>
                  <a:pt x="67" y="112"/>
                </a:lnTo>
                <a:lnTo>
                  <a:pt x="50" y="96"/>
                </a:lnTo>
                <a:lnTo>
                  <a:pt x="25" y="104"/>
                </a:lnTo>
                <a:lnTo>
                  <a:pt x="0" y="8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1148"/>
          <p:cNvSpPr/>
          <p:nvPr/>
        </p:nvSpPr>
        <p:spPr>
          <a:xfrm>
            <a:off x="8405640" y="6667560"/>
            <a:ext cx="455760" cy="114120"/>
          </a:xfrm>
          <a:custGeom>
            <a:avLst/>
            <a:gdLst>
              <a:gd name="textAreaLeft" fmla="*/ 0 w 455760"/>
              <a:gd name="textAreaRight" fmla="*/ 456120 w 4557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311" h="72">
                <a:moveTo>
                  <a:pt x="0" y="24"/>
                </a:moveTo>
                <a:lnTo>
                  <a:pt x="8" y="56"/>
                </a:lnTo>
                <a:lnTo>
                  <a:pt x="33" y="64"/>
                </a:lnTo>
                <a:lnTo>
                  <a:pt x="67" y="64"/>
                </a:lnTo>
                <a:lnTo>
                  <a:pt x="126" y="56"/>
                </a:lnTo>
                <a:lnTo>
                  <a:pt x="143" y="56"/>
                </a:lnTo>
                <a:lnTo>
                  <a:pt x="143" y="72"/>
                </a:lnTo>
                <a:lnTo>
                  <a:pt x="193" y="72"/>
                </a:lnTo>
                <a:lnTo>
                  <a:pt x="219" y="56"/>
                </a:lnTo>
                <a:lnTo>
                  <a:pt x="252" y="56"/>
                </a:lnTo>
                <a:lnTo>
                  <a:pt x="278" y="40"/>
                </a:lnTo>
                <a:lnTo>
                  <a:pt x="311" y="32"/>
                </a:lnTo>
                <a:lnTo>
                  <a:pt x="311" y="0"/>
                </a:lnTo>
                <a:lnTo>
                  <a:pt x="286" y="16"/>
                </a:lnTo>
                <a:lnTo>
                  <a:pt x="269" y="24"/>
                </a:lnTo>
                <a:lnTo>
                  <a:pt x="252" y="24"/>
                </a:lnTo>
                <a:lnTo>
                  <a:pt x="244" y="8"/>
                </a:lnTo>
                <a:lnTo>
                  <a:pt x="219" y="16"/>
                </a:lnTo>
                <a:lnTo>
                  <a:pt x="168" y="24"/>
                </a:lnTo>
                <a:lnTo>
                  <a:pt x="168" y="8"/>
                </a:lnTo>
                <a:lnTo>
                  <a:pt x="84" y="40"/>
                </a:lnTo>
                <a:lnTo>
                  <a:pt x="75" y="16"/>
                </a:lnTo>
                <a:lnTo>
                  <a:pt x="59" y="8"/>
                </a:lnTo>
                <a:lnTo>
                  <a:pt x="59" y="24"/>
                </a:lnTo>
                <a:lnTo>
                  <a:pt x="33" y="24"/>
                </a:lnTo>
                <a:lnTo>
                  <a:pt x="16" y="0"/>
                </a:lnTo>
                <a:lnTo>
                  <a:pt x="16" y="16"/>
                </a:lnTo>
                <a:lnTo>
                  <a:pt x="0" y="24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1150"/>
          <p:cNvSpPr/>
          <p:nvPr/>
        </p:nvSpPr>
        <p:spPr>
          <a:xfrm>
            <a:off x="8405640" y="6667560"/>
            <a:ext cx="455760" cy="114120"/>
          </a:xfrm>
          <a:custGeom>
            <a:avLst/>
            <a:gdLst>
              <a:gd name="textAreaLeft" fmla="*/ 0 w 455760"/>
              <a:gd name="textAreaRight" fmla="*/ 456120 w 4557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311" h="72">
                <a:moveTo>
                  <a:pt x="0" y="24"/>
                </a:moveTo>
                <a:lnTo>
                  <a:pt x="8" y="56"/>
                </a:lnTo>
                <a:lnTo>
                  <a:pt x="33" y="64"/>
                </a:lnTo>
                <a:lnTo>
                  <a:pt x="67" y="64"/>
                </a:lnTo>
                <a:lnTo>
                  <a:pt x="126" y="56"/>
                </a:lnTo>
                <a:lnTo>
                  <a:pt x="143" y="56"/>
                </a:lnTo>
                <a:lnTo>
                  <a:pt x="143" y="72"/>
                </a:lnTo>
                <a:lnTo>
                  <a:pt x="193" y="72"/>
                </a:lnTo>
                <a:lnTo>
                  <a:pt x="219" y="56"/>
                </a:lnTo>
                <a:lnTo>
                  <a:pt x="252" y="56"/>
                </a:lnTo>
                <a:lnTo>
                  <a:pt x="278" y="40"/>
                </a:lnTo>
                <a:lnTo>
                  <a:pt x="311" y="32"/>
                </a:lnTo>
                <a:lnTo>
                  <a:pt x="311" y="0"/>
                </a:lnTo>
                <a:lnTo>
                  <a:pt x="286" y="16"/>
                </a:lnTo>
                <a:lnTo>
                  <a:pt x="269" y="24"/>
                </a:lnTo>
                <a:lnTo>
                  <a:pt x="252" y="24"/>
                </a:lnTo>
                <a:lnTo>
                  <a:pt x="244" y="8"/>
                </a:lnTo>
                <a:lnTo>
                  <a:pt x="219" y="16"/>
                </a:lnTo>
                <a:lnTo>
                  <a:pt x="168" y="24"/>
                </a:lnTo>
                <a:lnTo>
                  <a:pt x="168" y="8"/>
                </a:lnTo>
                <a:lnTo>
                  <a:pt x="84" y="40"/>
                </a:lnTo>
                <a:lnTo>
                  <a:pt x="75" y="16"/>
                </a:lnTo>
                <a:lnTo>
                  <a:pt x="59" y="8"/>
                </a:lnTo>
                <a:lnTo>
                  <a:pt x="59" y="24"/>
                </a:lnTo>
                <a:lnTo>
                  <a:pt x="33" y="24"/>
                </a:lnTo>
                <a:lnTo>
                  <a:pt x="16" y="0"/>
                </a:lnTo>
                <a:lnTo>
                  <a:pt x="16" y="16"/>
                </a:lnTo>
                <a:lnTo>
                  <a:pt x="0" y="24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reeform 1151"/>
          <p:cNvSpPr/>
          <p:nvPr/>
        </p:nvSpPr>
        <p:spPr>
          <a:xfrm>
            <a:off x="5911920" y="5892840"/>
            <a:ext cx="245880" cy="457200"/>
          </a:xfrm>
          <a:custGeom>
            <a:avLst/>
            <a:gdLst>
              <a:gd name="textAreaLeft" fmla="*/ 0 w 245880"/>
              <a:gd name="textAreaRight" fmla="*/ 246240 w 245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68" h="288">
                <a:moveTo>
                  <a:pt x="0" y="40"/>
                </a:moveTo>
                <a:lnTo>
                  <a:pt x="33" y="48"/>
                </a:lnTo>
                <a:lnTo>
                  <a:pt x="59" y="40"/>
                </a:lnTo>
                <a:lnTo>
                  <a:pt x="101" y="8"/>
                </a:lnTo>
                <a:lnTo>
                  <a:pt x="109" y="0"/>
                </a:lnTo>
                <a:lnTo>
                  <a:pt x="143" y="16"/>
                </a:lnTo>
                <a:lnTo>
                  <a:pt x="143" y="32"/>
                </a:lnTo>
                <a:lnTo>
                  <a:pt x="168" y="96"/>
                </a:lnTo>
                <a:lnTo>
                  <a:pt x="151" y="120"/>
                </a:lnTo>
                <a:lnTo>
                  <a:pt x="168" y="152"/>
                </a:lnTo>
                <a:lnTo>
                  <a:pt x="143" y="256"/>
                </a:lnTo>
                <a:lnTo>
                  <a:pt x="117" y="248"/>
                </a:lnTo>
                <a:lnTo>
                  <a:pt x="92" y="248"/>
                </a:lnTo>
                <a:lnTo>
                  <a:pt x="84" y="264"/>
                </a:lnTo>
                <a:lnTo>
                  <a:pt x="67" y="280"/>
                </a:lnTo>
                <a:lnTo>
                  <a:pt x="42" y="288"/>
                </a:lnTo>
                <a:lnTo>
                  <a:pt x="25" y="248"/>
                </a:lnTo>
                <a:lnTo>
                  <a:pt x="25" y="200"/>
                </a:lnTo>
                <a:lnTo>
                  <a:pt x="33" y="176"/>
                </a:lnTo>
                <a:lnTo>
                  <a:pt x="25" y="160"/>
                </a:lnTo>
                <a:lnTo>
                  <a:pt x="33" y="136"/>
                </a:lnTo>
                <a:lnTo>
                  <a:pt x="33" y="112"/>
                </a:lnTo>
                <a:lnTo>
                  <a:pt x="25" y="80"/>
                </a:lnTo>
                <a:lnTo>
                  <a:pt x="0" y="72"/>
                </a:lnTo>
                <a:lnTo>
                  <a:pt x="0" y="4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reeform 1152"/>
          <p:cNvSpPr/>
          <p:nvPr/>
        </p:nvSpPr>
        <p:spPr>
          <a:xfrm>
            <a:off x="5972040" y="5549760"/>
            <a:ext cx="149400" cy="304920"/>
          </a:xfrm>
          <a:custGeom>
            <a:avLst/>
            <a:gdLst>
              <a:gd name="textAreaLeft" fmla="*/ 0 w 149400"/>
              <a:gd name="textAreaRight" fmla="*/ 149760 w 1494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1" h="192">
                <a:moveTo>
                  <a:pt x="75" y="32"/>
                </a:moveTo>
                <a:lnTo>
                  <a:pt x="75" y="0"/>
                </a:lnTo>
                <a:lnTo>
                  <a:pt x="92" y="0"/>
                </a:lnTo>
                <a:lnTo>
                  <a:pt x="92" y="40"/>
                </a:lnTo>
                <a:lnTo>
                  <a:pt x="101" y="56"/>
                </a:lnTo>
                <a:lnTo>
                  <a:pt x="101" y="104"/>
                </a:lnTo>
                <a:lnTo>
                  <a:pt x="92" y="120"/>
                </a:lnTo>
                <a:lnTo>
                  <a:pt x="92" y="152"/>
                </a:lnTo>
                <a:lnTo>
                  <a:pt x="67" y="192"/>
                </a:lnTo>
                <a:lnTo>
                  <a:pt x="50" y="192"/>
                </a:lnTo>
                <a:lnTo>
                  <a:pt x="25" y="176"/>
                </a:lnTo>
                <a:lnTo>
                  <a:pt x="33" y="160"/>
                </a:lnTo>
                <a:lnTo>
                  <a:pt x="17" y="152"/>
                </a:lnTo>
                <a:lnTo>
                  <a:pt x="33" y="136"/>
                </a:lnTo>
                <a:lnTo>
                  <a:pt x="8" y="128"/>
                </a:lnTo>
                <a:lnTo>
                  <a:pt x="25" y="112"/>
                </a:lnTo>
                <a:lnTo>
                  <a:pt x="8" y="96"/>
                </a:lnTo>
                <a:lnTo>
                  <a:pt x="0" y="72"/>
                </a:lnTo>
                <a:lnTo>
                  <a:pt x="17" y="64"/>
                </a:lnTo>
                <a:lnTo>
                  <a:pt x="17" y="48"/>
                </a:lnTo>
                <a:lnTo>
                  <a:pt x="42" y="40"/>
                </a:lnTo>
                <a:lnTo>
                  <a:pt x="75" y="3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153"/>
          <p:cNvSpPr/>
          <p:nvPr/>
        </p:nvSpPr>
        <p:spPr>
          <a:xfrm>
            <a:off x="5972040" y="5549760"/>
            <a:ext cx="149400" cy="304920"/>
          </a:xfrm>
          <a:custGeom>
            <a:avLst/>
            <a:gdLst>
              <a:gd name="textAreaLeft" fmla="*/ 0 w 149400"/>
              <a:gd name="textAreaRight" fmla="*/ 149760 w 1494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1" h="192">
                <a:moveTo>
                  <a:pt x="75" y="32"/>
                </a:moveTo>
                <a:lnTo>
                  <a:pt x="75" y="0"/>
                </a:lnTo>
                <a:lnTo>
                  <a:pt x="92" y="0"/>
                </a:lnTo>
                <a:lnTo>
                  <a:pt x="92" y="40"/>
                </a:lnTo>
                <a:lnTo>
                  <a:pt x="101" y="56"/>
                </a:lnTo>
                <a:lnTo>
                  <a:pt x="101" y="104"/>
                </a:lnTo>
                <a:lnTo>
                  <a:pt x="92" y="120"/>
                </a:lnTo>
                <a:lnTo>
                  <a:pt x="92" y="152"/>
                </a:lnTo>
                <a:lnTo>
                  <a:pt x="67" y="192"/>
                </a:lnTo>
                <a:lnTo>
                  <a:pt x="50" y="192"/>
                </a:lnTo>
                <a:lnTo>
                  <a:pt x="25" y="176"/>
                </a:lnTo>
                <a:lnTo>
                  <a:pt x="33" y="160"/>
                </a:lnTo>
                <a:lnTo>
                  <a:pt x="17" y="152"/>
                </a:lnTo>
                <a:lnTo>
                  <a:pt x="33" y="136"/>
                </a:lnTo>
                <a:lnTo>
                  <a:pt x="8" y="128"/>
                </a:lnTo>
                <a:lnTo>
                  <a:pt x="25" y="112"/>
                </a:lnTo>
                <a:lnTo>
                  <a:pt x="8" y="96"/>
                </a:lnTo>
                <a:lnTo>
                  <a:pt x="0" y="72"/>
                </a:lnTo>
                <a:lnTo>
                  <a:pt x="17" y="64"/>
                </a:lnTo>
                <a:lnTo>
                  <a:pt x="17" y="48"/>
                </a:lnTo>
                <a:lnTo>
                  <a:pt x="42" y="40"/>
                </a:lnTo>
                <a:lnTo>
                  <a:pt x="75" y="3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1155"/>
          <p:cNvSpPr/>
          <p:nvPr/>
        </p:nvSpPr>
        <p:spPr>
          <a:xfrm>
            <a:off x="4268880" y="3962520"/>
            <a:ext cx="1679400" cy="17269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1146" h="1088">
                <a:moveTo>
                  <a:pt x="1011" y="616"/>
                </a:moveTo>
                <a:lnTo>
                  <a:pt x="969" y="600"/>
                </a:lnTo>
                <a:lnTo>
                  <a:pt x="935" y="616"/>
                </a:lnTo>
                <a:lnTo>
                  <a:pt x="944" y="584"/>
                </a:lnTo>
                <a:lnTo>
                  <a:pt x="977" y="544"/>
                </a:lnTo>
                <a:lnTo>
                  <a:pt x="986" y="520"/>
                </a:lnTo>
                <a:lnTo>
                  <a:pt x="1011" y="504"/>
                </a:lnTo>
                <a:lnTo>
                  <a:pt x="1019" y="472"/>
                </a:lnTo>
                <a:lnTo>
                  <a:pt x="1053" y="464"/>
                </a:lnTo>
                <a:lnTo>
                  <a:pt x="1087" y="448"/>
                </a:lnTo>
                <a:lnTo>
                  <a:pt x="1104" y="360"/>
                </a:lnTo>
                <a:lnTo>
                  <a:pt x="1112" y="320"/>
                </a:lnTo>
                <a:lnTo>
                  <a:pt x="1146" y="288"/>
                </a:lnTo>
                <a:lnTo>
                  <a:pt x="1095" y="272"/>
                </a:lnTo>
                <a:lnTo>
                  <a:pt x="1036" y="256"/>
                </a:lnTo>
                <a:lnTo>
                  <a:pt x="1011" y="248"/>
                </a:lnTo>
                <a:lnTo>
                  <a:pt x="986" y="216"/>
                </a:lnTo>
                <a:lnTo>
                  <a:pt x="927" y="208"/>
                </a:lnTo>
                <a:lnTo>
                  <a:pt x="868" y="168"/>
                </a:lnTo>
                <a:lnTo>
                  <a:pt x="851" y="136"/>
                </a:lnTo>
                <a:lnTo>
                  <a:pt x="809" y="144"/>
                </a:lnTo>
                <a:lnTo>
                  <a:pt x="809" y="112"/>
                </a:lnTo>
                <a:lnTo>
                  <a:pt x="767" y="96"/>
                </a:lnTo>
                <a:lnTo>
                  <a:pt x="767" y="88"/>
                </a:lnTo>
                <a:lnTo>
                  <a:pt x="733" y="72"/>
                </a:lnTo>
                <a:lnTo>
                  <a:pt x="708" y="48"/>
                </a:lnTo>
                <a:lnTo>
                  <a:pt x="682" y="16"/>
                </a:lnTo>
                <a:lnTo>
                  <a:pt x="666" y="0"/>
                </a:lnTo>
                <a:lnTo>
                  <a:pt x="623" y="8"/>
                </a:lnTo>
                <a:lnTo>
                  <a:pt x="598" y="24"/>
                </a:lnTo>
                <a:lnTo>
                  <a:pt x="581" y="88"/>
                </a:lnTo>
                <a:lnTo>
                  <a:pt x="564" y="104"/>
                </a:lnTo>
                <a:lnTo>
                  <a:pt x="539" y="120"/>
                </a:lnTo>
                <a:lnTo>
                  <a:pt x="489" y="136"/>
                </a:lnTo>
                <a:lnTo>
                  <a:pt x="463" y="144"/>
                </a:lnTo>
                <a:lnTo>
                  <a:pt x="455" y="168"/>
                </a:lnTo>
                <a:lnTo>
                  <a:pt x="446" y="184"/>
                </a:lnTo>
                <a:lnTo>
                  <a:pt x="413" y="184"/>
                </a:lnTo>
                <a:lnTo>
                  <a:pt x="362" y="168"/>
                </a:lnTo>
                <a:lnTo>
                  <a:pt x="345" y="160"/>
                </a:lnTo>
                <a:lnTo>
                  <a:pt x="328" y="144"/>
                </a:lnTo>
                <a:lnTo>
                  <a:pt x="269" y="144"/>
                </a:lnTo>
                <a:lnTo>
                  <a:pt x="295" y="200"/>
                </a:lnTo>
                <a:lnTo>
                  <a:pt x="303" y="256"/>
                </a:lnTo>
                <a:lnTo>
                  <a:pt x="253" y="248"/>
                </a:lnTo>
                <a:lnTo>
                  <a:pt x="211" y="240"/>
                </a:lnTo>
                <a:lnTo>
                  <a:pt x="194" y="248"/>
                </a:lnTo>
                <a:lnTo>
                  <a:pt x="177" y="232"/>
                </a:lnTo>
                <a:lnTo>
                  <a:pt x="152" y="208"/>
                </a:lnTo>
                <a:lnTo>
                  <a:pt x="126" y="208"/>
                </a:lnTo>
                <a:lnTo>
                  <a:pt x="109" y="216"/>
                </a:lnTo>
                <a:lnTo>
                  <a:pt x="84" y="216"/>
                </a:lnTo>
                <a:lnTo>
                  <a:pt x="34" y="216"/>
                </a:lnTo>
                <a:lnTo>
                  <a:pt x="8" y="232"/>
                </a:lnTo>
                <a:lnTo>
                  <a:pt x="0" y="240"/>
                </a:lnTo>
                <a:lnTo>
                  <a:pt x="8" y="248"/>
                </a:lnTo>
                <a:lnTo>
                  <a:pt x="50" y="272"/>
                </a:lnTo>
                <a:lnTo>
                  <a:pt x="25" y="272"/>
                </a:lnTo>
                <a:lnTo>
                  <a:pt x="17" y="280"/>
                </a:lnTo>
                <a:lnTo>
                  <a:pt x="17" y="288"/>
                </a:lnTo>
                <a:lnTo>
                  <a:pt x="25" y="304"/>
                </a:lnTo>
                <a:lnTo>
                  <a:pt x="42" y="312"/>
                </a:lnTo>
                <a:lnTo>
                  <a:pt x="76" y="320"/>
                </a:lnTo>
                <a:lnTo>
                  <a:pt x="109" y="328"/>
                </a:lnTo>
                <a:lnTo>
                  <a:pt x="135" y="352"/>
                </a:lnTo>
                <a:lnTo>
                  <a:pt x="160" y="368"/>
                </a:lnTo>
                <a:lnTo>
                  <a:pt x="185" y="376"/>
                </a:lnTo>
                <a:lnTo>
                  <a:pt x="194" y="400"/>
                </a:lnTo>
                <a:lnTo>
                  <a:pt x="219" y="424"/>
                </a:lnTo>
                <a:lnTo>
                  <a:pt x="211" y="448"/>
                </a:lnTo>
                <a:lnTo>
                  <a:pt x="244" y="512"/>
                </a:lnTo>
                <a:lnTo>
                  <a:pt x="269" y="536"/>
                </a:lnTo>
                <a:lnTo>
                  <a:pt x="286" y="560"/>
                </a:lnTo>
                <a:lnTo>
                  <a:pt x="278" y="584"/>
                </a:lnTo>
                <a:lnTo>
                  <a:pt x="253" y="592"/>
                </a:lnTo>
                <a:lnTo>
                  <a:pt x="295" y="640"/>
                </a:lnTo>
                <a:lnTo>
                  <a:pt x="269" y="632"/>
                </a:lnTo>
                <a:lnTo>
                  <a:pt x="236" y="776"/>
                </a:lnTo>
                <a:lnTo>
                  <a:pt x="202" y="848"/>
                </a:lnTo>
                <a:lnTo>
                  <a:pt x="177" y="872"/>
                </a:lnTo>
                <a:lnTo>
                  <a:pt x="143" y="880"/>
                </a:lnTo>
                <a:lnTo>
                  <a:pt x="160" y="888"/>
                </a:lnTo>
                <a:lnTo>
                  <a:pt x="211" y="928"/>
                </a:lnTo>
                <a:lnTo>
                  <a:pt x="244" y="960"/>
                </a:lnTo>
                <a:lnTo>
                  <a:pt x="278" y="968"/>
                </a:lnTo>
                <a:lnTo>
                  <a:pt x="320" y="992"/>
                </a:lnTo>
                <a:lnTo>
                  <a:pt x="337" y="1016"/>
                </a:lnTo>
                <a:lnTo>
                  <a:pt x="396" y="1024"/>
                </a:lnTo>
                <a:lnTo>
                  <a:pt x="463" y="1032"/>
                </a:lnTo>
                <a:lnTo>
                  <a:pt x="522" y="1056"/>
                </a:lnTo>
                <a:lnTo>
                  <a:pt x="581" y="1072"/>
                </a:lnTo>
                <a:lnTo>
                  <a:pt x="607" y="1088"/>
                </a:lnTo>
                <a:lnTo>
                  <a:pt x="632" y="1080"/>
                </a:lnTo>
                <a:lnTo>
                  <a:pt x="640" y="1064"/>
                </a:lnTo>
                <a:lnTo>
                  <a:pt x="623" y="1032"/>
                </a:lnTo>
                <a:lnTo>
                  <a:pt x="632" y="992"/>
                </a:lnTo>
                <a:lnTo>
                  <a:pt x="649" y="968"/>
                </a:lnTo>
                <a:lnTo>
                  <a:pt x="682" y="944"/>
                </a:lnTo>
                <a:lnTo>
                  <a:pt x="716" y="928"/>
                </a:lnTo>
                <a:lnTo>
                  <a:pt x="750" y="928"/>
                </a:lnTo>
                <a:lnTo>
                  <a:pt x="842" y="952"/>
                </a:lnTo>
                <a:lnTo>
                  <a:pt x="876" y="968"/>
                </a:lnTo>
                <a:lnTo>
                  <a:pt x="910" y="984"/>
                </a:lnTo>
                <a:lnTo>
                  <a:pt x="944" y="984"/>
                </a:lnTo>
                <a:lnTo>
                  <a:pt x="960" y="976"/>
                </a:lnTo>
                <a:lnTo>
                  <a:pt x="969" y="968"/>
                </a:lnTo>
                <a:lnTo>
                  <a:pt x="977" y="960"/>
                </a:lnTo>
                <a:lnTo>
                  <a:pt x="1019" y="928"/>
                </a:lnTo>
                <a:lnTo>
                  <a:pt x="1070" y="904"/>
                </a:lnTo>
                <a:lnTo>
                  <a:pt x="1087" y="864"/>
                </a:lnTo>
                <a:lnTo>
                  <a:pt x="1011" y="832"/>
                </a:lnTo>
                <a:lnTo>
                  <a:pt x="1019" y="784"/>
                </a:lnTo>
                <a:lnTo>
                  <a:pt x="994" y="744"/>
                </a:lnTo>
                <a:lnTo>
                  <a:pt x="1036" y="720"/>
                </a:lnTo>
                <a:lnTo>
                  <a:pt x="1019" y="656"/>
                </a:lnTo>
                <a:lnTo>
                  <a:pt x="1036" y="656"/>
                </a:lnTo>
                <a:lnTo>
                  <a:pt x="1019" y="632"/>
                </a:lnTo>
                <a:lnTo>
                  <a:pt x="1011" y="6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reeform 1156"/>
          <p:cNvSpPr/>
          <p:nvPr/>
        </p:nvSpPr>
        <p:spPr>
          <a:xfrm>
            <a:off x="5724360" y="4775040"/>
            <a:ext cx="1730520" cy="171468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1180" h="1080">
                <a:moveTo>
                  <a:pt x="1155" y="752"/>
                </a:moveTo>
                <a:lnTo>
                  <a:pt x="1121" y="728"/>
                </a:lnTo>
                <a:lnTo>
                  <a:pt x="1087" y="712"/>
                </a:lnTo>
                <a:lnTo>
                  <a:pt x="1003" y="672"/>
                </a:lnTo>
                <a:lnTo>
                  <a:pt x="919" y="632"/>
                </a:lnTo>
                <a:lnTo>
                  <a:pt x="935" y="616"/>
                </a:lnTo>
                <a:lnTo>
                  <a:pt x="927" y="600"/>
                </a:lnTo>
                <a:lnTo>
                  <a:pt x="902" y="584"/>
                </a:lnTo>
                <a:lnTo>
                  <a:pt x="868" y="592"/>
                </a:lnTo>
                <a:lnTo>
                  <a:pt x="817" y="592"/>
                </a:lnTo>
                <a:lnTo>
                  <a:pt x="775" y="568"/>
                </a:lnTo>
                <a:lnTo>
                  <a:pt x="733" y="528"/>
                </a:lnTo>
                <a:lnTo>
                  <a:pt x="708" y="488"/>
                </a:lnTo>
                <a:lnTo>
                  <a:pt x="683" y="448"/>
                </a:lnTo>
                <a:lnTo>
                  <a:pt x="641" y="408"/>
                </a:lnTo>
                <a:lnTo>
                  <a:pt x="556" y="344"/>
                </a:lnTo>
                <a:lnTo>
                  <a:pt x="523" y="296"/>
                </a:lnTo>
                <a:lnTo>
                  <a:pt x="523" y="280"/>
                </a:lnTo>
                <a:lnTo>
                  <a:pt x="539" y="256"/>
                </a:lnTo>
                <a:lnTo>
                  <a:pt x="548" y="240"/>
                </a:lnTo>
                <a:lnTo>
                  <a:pt x="539" y="224"/>
                </a:lnTo>
                <a:lnTo>
                  <a:pt x="531" y="216"/>
                </a:lnTo>
                <a:lnTo>
                  <a:pt x="531" y="200"/>
                </a:lnTo>
                <a:lnTo>
                  <a:pt x="556" y="184"/>
                </a:lnTo>
                <a:lnTo>
                  <a:pt x="641" y="152"/>
                </a:lnTo>
                <a:lnTo>
                  <a:pt x="649" y="144"/>
                </a:lnTo>
                <a:lnTo>
                  <a:pt x="641" y="88"/>
                </a:lnTo>
                <a:lnTo>
                  <a:pt x="649" y="56"/>
                </a:lnTo>
                <a:lnTo>
                  <a:pt x="531" y="24"/>
                </a:lnTo>
                <a:lnTo>
                  <a:pt x="514" y="0"/>
                </a:lnTo>
                <a:lnTo>
                  <a:pt x="438" y="8"/>
                </a:lnTo>
                <a:lnTo>
                  <a:pt x="405" y="40"/>
                </a:lnTo>
                <a:lnTo>
                  <a:pt x="371" y="32"/>
                </a:lnTo>
                <a:lnTo>
                  <a:pt x="354" y="64"/>
                </a:lnTo>
                <a:lnTo>
                  <a:pt x="320" y="64"/>
                </a:lnTo>
                <a:lnTo>
                  <a:pt x="295" y="80"/>
                </a:lnTo>
                <a:lnTo>
                  <a:pt x="253" y="72"/>
                </a:lnTo>
                <a:lnTo>
                  <a:pt x="228" y="152"/>
                </a:lnTo>
                <a:lnTo>
                  <a:pt x="160" y="72"/>
                </a:lnTo>
                <a:lnTo>
                  <a:pt x="118" y="136"/>
                </a:lnTo>
                <a:lnTo>
                  <a:pt x="25" y="144"/>
                </a:lnTo>
                <a:lnTo>
                  <a:pt x="42" y="208"/>
                </a:lnTo>
                <a:lnTo>
                  <a:pt x="0" y="232"/>
                </a:lnTo>
                <a:lnTo>
                  <a:pt x="25" y="272"/>
                </a:lnTo>
                <a:lnTo>
                  <a:pt x="17" y="320"/>
                </a:lnTo>
                <a:lnTo>
                  <a:pt x="93" y="352"/>
                </a:lnTo>
                <a:lnTo>
                  <a:pt x="76" y="392"/>
                </a:lnTo>
                <a:lnTo>
                  <a:pt x="93" y="392"/>
                </a:lnTo>
                <a:lnTo>
                  <a:pt x="135" y="376"/>
                </a:lnTo>
                <a:lnTo>
                  <a:pt x="160" y="344"/>
                </a:lnTo>
                <a:lnTo>
                  <a:pt x="177" y="328"/>
                </a:lnTo>
                <a:lnTo>
                  <a:pt x="202" y="320"/>
                </a:lnTo>
                <a:lnTo>
                  <a:pt x="244" y="336"/>
                </a:lnTo>
                <a:lnTo>
                  <a:pt x="261" y="352"/>
                </a:lnTo>
                <a:lnTo>
                  <a:pt x="278" y="368"/>
                </a:lnTo>
                <a:lnTo>
                  <a:pt x="312" y="368"/>
                </a:lnTo>
                <a:lnTo>
                  <a:pt x="329" y="384"/>
                </a:lnTo>
                <a:lnTo>
                  <a:pt x="337" y="424"/>
                </a:lnTo>
                <a:lnTo>
                  <a:pt x="362" y="472"/>
                </a:lnTo>
                <a:lnTo>
                  <a:pt x="371" y="496"/>
                </a:lnTo>
                <a:lnTo>
                  <a:pt x="396" y="512"/>
                </a:lnTo>
                <a:lnTo>
                  <a:pt x="430" y="552"/>
                </a:lnTo>
                <a:lnTo>
                  <a:pt x="472" y="576"/>
                </a:lnTo>
                <a:lnTo>
                  <a:pt x="497" y="592"/>
                </a:lnTo>
                <a:lnTo>
                  <a:pt x="514" y="608"/>
                </a:lnTo>
                <a:lnTo>
                  <a:pt x="607" y="680"/>
                </a:lnTo>
                <a:lnTo>
                  <a:pt x="624" y="696"/>
                </a:lnTo>
                <a:lnTo>
                  <a:pt x="649" y="688"/>
                </a:lnTo>
                <a:lnTo>
                  <a:pt x="708" y="712"/>
                </a:lnTo>
                <a:lnTo>
                  <a:pt x="742" y="744"/>
                </a:lnTo>
                <a:lnTo>
                  <a:pt x="767" y="744"/>
                </a:lnTo>
                <a:lnTo>
                  <a:pt x="775" y="752"/>
                </a:lnTo>
                <a:lnTo>
                  <a:pt x="775" y="768"/>
                </a:lnTo>
                <a:lnTo>
                  <a:pt x="809" y="768"/>
                </a:lnTo>
                <a:lnTo>
                  <a:pt x="826" y="800"/>
                </a:lnTo>
                <a:lnTo>
                  <a:pt x="851" y="824"/>
                </a:lnTo>
                <a:lnTo>
                  <a:pt x="893" y="840"/>
                </a:lnTo>
                <a:lnTo>
                  <a:pt x="927" y="856"/>
                </a:lnTo>
                <a:lnTo>
                  <a:pt x="944" y="904"/>
                </a:lnTo>
                <a:lnTo>
                  <a:pt x="978" y="984"/>
                </a:lnTo>
                <a:lnTo>
                  <a:pt x="952" y="984"/>
                </a:lnTo>
                <a:lnTo>
                  <a:pt x="935" y="1000"/>
                </a:lnTo>
                <a:lnTo>
                  <a:pt x="935" y="1016"/>
                </a:lnTo>
                <a:lnTo>
                  <a:pt x="927" y="1040"/>
                </a:lnTo>
                <a:lnTo>
                  <a:pt x="919" y="1056"/>
                </a:lnTo>
                <a:lnTo>
                  <a:pt x="935" y="1072"/>
                </a:lnTo>
                <a:lnTo>
                  <a:pt x="952" y="1080"/>
                </a:lnTo>
                <a:lnTo>
                  <a:pt x="978" y="1072"/>
                </a:lnTo>
                <a:lnTo>
                  <a:pt x="994" y="1040"/>
                </a:lnTo>
                <a:lnTo>
                  <a:pt x="1011" y="1000"/>
                </a:lnTo>
                <a:lnTo>
                  <a:pt x="1028" y="960"/>
                </a:lnTo>
                <a:lnTo>
                  <a:pt x="1070" y="952"/>
                </a:lnTo>
                <a:lnTo>
                  <a:pt x="1070" y="904"/>
                </a:lnTo>
                <a:lnTo>
                  <a:pt x="1053" y="888"/>
                </a:lnTo>
                <a:lnTo>
                  <a:pt x="1028" y="880"/>
                </a:lnTo>
                <a:lnTo>
                  <a:pt x="1003" y="864"/>
                </a:lnTo>
                <a:lnTo>
                  <a:pt x="994" y="848"/>
                </a:lnTo>
                <a:lnTo>
                  <a:pt x="1011" y="800"/>
                </a:lnTo>
                <a:lnTo>
                  <a:pt x="1028" y="776"/>
                </a:lnTo>
                <a:lnTo>
                  <a:pt x="1045" y="768"/>
                </a:lnTo>
                <a:lnTo>
                  <a:pt x="1104" y="776"/>
                </a:lnTo>
                <a:lnTo>
                  <a:pt x="1146" y="792"/>
                </a:lnTo>
                <a:lnTo>
                  <a:pt x="1180" y="824"/>
                </a:lnTo>
                <a:lnTo>
                  <a:pt x="1180" y="784"/>
                </a:lnTo>
                <a:lnTo>
                  <a:pt x="1155" y="752"/>
                </a:lnTo>
                <a:lnTo>
                  <a:pt x="1155" y="75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reeform 1157"/>
          <p:cNvSpPr/>
          <p:nvPr/>
        </p:nvSpPr>
        <p:spPr>
          <a:xfrm>
            <a:off x="4268880" y="3962520"/>
            <a:ext cx="1679400" cy="17269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1146" h="1088">
                <a:moveTo>
                  <a:pt x="1011" y="616"/>
                </a:moveTo>
                <a:lnTo>
                  <a:pt x="969" y="600"/>
                </a:lnTo>
                <a:lnTo>
                  <a:pt x="935" y="616"/>
                </a:lnTo>
                <a:lnTo>
                  <a:pt x="944" y="584"/>
                </a:lnTo>
                <a:lnTo>
                  <a:pt x="977" y="544"/>
                </a:lnTo>
                <a:lnTo>
                  <a:pt x="986" y="520"/>
                </a:lnTo>
                <a:lnTo>
                  <a:pt x="1011" y="504"/>
                </a:lnTo>
                <a:lnTo>
                  <a:pt x="1019" y="472"/>
                </a:lnTo>
                <a:lnTo>
                  <a:pt x="1053" y="464"/>
                </a:lnTo>
                <a:lnTo>
                  <a:pt x="1087" y="448"/>
                </a:lnTo>
                <a:lnTo>
                  <a:pt x="1104" y="360"/>
                </a:lnTo>
                <a:lnTo>
                  <a:pt x="1112" y="320"/>
                </a:lnTo>
                <a:lnTo>
                  <a:pt x="1146" y="288"/>
                </a:lnTo>
                <a:lnTo>
                  <a:pt x="1095" y="272"/>
                </a:lnTo>
                <a:lnTo>
                  <a:pt x="1036" y="256"/>
                </a:lnTo>
                <a:lnTo>
                  <a:pt x="1011" y="248"/>
                </a:lnTo>
                <a:lnTo>
                  <a:pt x="986" y="216"/>
                </a:lnTo>
                <a:lnTo>
                  <a:pt x="927" y="208"/>
                </a:lnTo>
                <a:lnTo>
                  <a:pt x="868" y="168"/>
                </a:lnTo>
                <a:lnTo>
                  <a:pt x="851" y="136"/>
                </a:lnTo>
                <a:lnTo>
                  <a:pt x="809" y="144"/>
                </a:lnTo>
                <a:lnTo>
                  <a:pt x="809" y="112"/>
                </a:lnTo>
                <a:lnTo>
                  <a:pt x="767" y="96"/>
                </a:lnTo>
                <a:lnTo>
                  <a:pt x="767" y="88"/>
                </a:lnTo>
                <a:lnTo>
                  <a:pt x="733" y="72"/>
                </a:lnTo>
                <a:lnTo>
                  <a:pt x="708" y="48"/>
                </a:lnTo>
                <a:lnTo>
                  <a:pt x="682" y="16"/>
                </a:lnTo>
                <a:lnTo>
                  <a:pt x="666" y="0"/>
                </a:lnTo>
                <a:lnTo>
                  <a:pt x="623" y="8"/>
                </a:lnTo>
                <a:lnTo>
                  <a:pt x="598" y="24"/>
                </a:lnTo>
                <a:lnTo>
                  <a:pt x="581" y="88"/>
                </a:lnTo>
                <a:lnTo>
                  <a:pt x="564" y="104"/>
                </a:lnTo>
                <a:lnTo>
                  <a:pt x="539" y="120"/>
                </a:lnTo>
                <a:lnTo>
                  <a:pt x="489" y="136"/>
                </a:lnTo>
                <a:lnTo>
                  <a:pt x="463" y="144"/>
                </a:lnTo>
                <a:lnTo>
                  <a:pt x="455" y="168"/>
                </a:lnTo>
                <a:lnTo>
                  <a:pt x="446" y="184"/>
                </a:lnTo>
                <a:lnTo>
                  <a:pt x="413" y="184"/>
                </a:lnTo>
                <a:lnTo>
                  <a:pt x="362" y="168"/>
                </a:lnTo>
                <a:lnTo>
                  <a:pt x="345" y="160"/>
                </a:lnTo>
                <a:lnTo>
                  <a:pt x="328" y="144"/>
                </a:lnTo>
                <a:lnTo>
                  <a:pt x="269" y="144"/>
                </a:lnTo>
                <a:lnTo>
                  <a:pt x="295" y="200"/>
                </a:lnTo>
                <a:lnTo>
                  <a:pt x="303" y="256"/>
                </a:lnTo>
                <a:lnTo>
                  <a:pt x="253" y="248"/>
                </a:lnTo>
                <a:lnTo>
                  <a:pt x="211" y="240"/>
                </a:lnTo>
                <a:lnTo>
                  <a:pt x="194" y="248"/>
                </a:lnTo>
                <a:lnTo>
                  <a:pt x="177" y="232"/>
                </a:lnTo>
                <a:lnTo>
                  <a:pt x="152" y="208"/>
                </a:lnTo>
                <a:lnTo>
                  <a:pt x="126" y="208"/>
                </a:lnTo>
                <a:lnTo>
                  <a:pt x="109" y="216"/>
                </a:lnTo>
                <a:lnTo>
                  <a:pt x="84" y="216"/>
                </a:lnTo>
                <a:lnTo>
                  <a:pt x="34" y="216"/>
                </a:lnTo>
                <a:lnTo>
                  <a:pt x="8" y="232"/>
                </a:lnTo>
                <a:lnTo>
                  <a:pt x="0" y="240"/>
                </a:lnTo>
                <a:lnTo>
                  <a:pt x="8" y="248"/>
                </a:lnTo>
                <a:lnTo>
                  <a:pt x="50" y="272"/>
                </a:lnTo>
                <a:lnTo>
                  <a:pt x="25" y="272"/>
                </a:lnTo>
                <a:lnTo>
                  <a:pt x="17" y="280"/>
                </a:lnTo>
                <a:lnTo>
                  <a:pt x="17" y="288"/>
                </a:lnTo>
                <a:lnTo>
                  <a:pt x="25" y="304"/>
                </a:lnTo>
                <a:lnTo>
                  <a:pt x="42" y="312"/>
                </a:lnTo>
                <a:lnTo>
                  <a:pt x="76" y="320"/>
                </a:lnTo>
                <a:lnTo>
                  <a:pt x="109" y="328"/>
                </a:lnTo>
                <a:lnTo>
                  <a:pt x="135" y="352"/>
                </a:lnTo>
                <a:lnTo>
                  <a:pt x="160" y="368"/>
                </a:lnTo>
                <a:lnTo>
                  <a:pt x="185" y="376"/>
                </a:lnTo>
                <a:lnTo>
                  <a:pt x="194" y="400"/>
                </a:lnTo>
                <a:lnTo>
                  <a:pt x="219" y="424"/>
                </a:lnTo>
                <a:lnTo>
                  <a:pt x="211" y="448"/>
                </a:lnTo>
                <a:lnTo>
                  <a:pt x="244" y="512"/>
                </a:lnTo>
                <a:lnTo>
                  <a:pt x="269" y="536"/>
                </a:lnTo>
                <a:lnTo>
                  <a:pt x="286" y="560"/>
                </a:lnTo>
                <a:lnTo>
                  <a:pt x="278" y="584"/>
                </a:lnTo>
                <a:lnTo>
                  <a:pt x="253" y="592"/>
                </a:lnTo>
                <a:lnTo>
                  <a:pt x="295" y="640"/>
                </a:lnTo>
                <a:lnTo>
                  <a:pt x="269" y="632"/>
                </a:lnTo>
                <a:lnTo>
                  <a:pt x="236" y="776"/>
                </a:lnTo>
                <a:lnTo>
                  <a:pt x="202" y="848"/>
                </a:lnTo>
                <a:lnTo>
                  <a:pt x="177" y="872"/>
                </a:lnTo>
                <a:lnTo>
                  <a:pt x="143" y="880"/>
                </a:lnTo>
                <a:lnTo>
                  <a:pt x="160" y="888"/>
                </a:lnTo>
                <a:lnTo>
                  <a:pt x="211" y="928"/>
                </a:lnTo>
                <a:lnTo>
                  <a:pt x="244" y="960"/>
                </a:lnTo>
                <a:lnTo>
                  <a:pt x="278" y="968"/>
                </a:lnTo>
                <a:lnTo>
                  <a:pt x="320" y="992"/>
                </a:lnTo>
                <a:lnTo>
                  <a:pt x="337" y="1016"/>
                </a:lnTo>
                <a:lnTo>
                  <a:pt x="396" y="1024"/>
                </a:lnTo>
                <a:lnTo>
                  <a:pt x="463" y="1032"/>
                </a:lnTo>
                <a:lnTo>
                  <a:pt x="522" y="1056"/>
                </a:lnTo>
                <a:lnTo>
                  <a:pt x="581" y="1072"/>
                </a:lnTo>
                <a:lnTo>
                  <a:pt x="607" y="1088"/>
                </a:lnTo>
                <a:lnTo>
                  <a:pt x="632" y="1080"/>
                </a:lnTo>
                <a:lnTo>
                  <a:pt x="632" y="1080"/>
                </a:lnTo>
                <a:lnTo>
                  <a:pt x="640" y="1064"/>
                </a:lnTo>
                <a:lnTo>
                  <a:pt x="623" y="1032"/>
                </a:lnTo>
                <a:lnTo>
                  <a:pt x="632" y="992"/>
                </a:lnTo>
                <a:lnTo>
                  <a:pt x="649" y="968"/>
                </a:lnTo>
                <a:lnTo>
                  <a:pt x="682" y="944"/>
                </a:lnTo>
                <a:lnTo>
                  <a:pt x="716" y="928"/>
                </a:lnTo>
                <a:lnTo>
                  <a:pt x="750" y="928"/>
                </a:lnTo>
                <a:lnTo>
                  <a:pt x="842" y="952"/>
                </a:lnTo>
                <a:lnTo>
                  <a:pt x="876" y="968"/>
                </a:lnTo>
                <a:lnTo>
                  <a:pt x="910" y="984"/>
                </a:lnTo>
                <a:lnTo>
                  <a:pt x="944" y="984"/>
                </a:lnTo>
                <a:lnTo>
                  <a:pt x="960" y="976"/>
                </a:lnTo>
                <a:lnTo>
                  <a:pt x="969" y="968"/>
                </a:lnTo>
                <a:lnTo>
                  <a:pt x="977" y="960"/>
                </a:lnTo>
                <a:lnTo>
                  <a:pt x="1019" y="928"/>
                </a:lnTo>
                <a:lnTo>
                  <a:pt x="1070" y="904"/>
                </a:lnTo>
                <a:lnTo>
                  <a:pt x="1087" y="864"/>
                </a:lnTo>
                <a:lnTo>
                  <a:pt x="1011" y="832"/>
                </a:lnTo>
                <a:lnTo>
                  <a:pt x="1019" y="784"/>
                </a:lnTo>
                <a:lnTo>
                  <a:pt x="994" y="744"/>
                </a:lnTo>
                <a:lnTo>
                  <a:pt x="1036" y="720"/>
                </a:lnTo>
                <a:lnTo>
                  <a:pt x="1019" y="656"/>
                </a:lnTo>
                <a:lnTo>
                  <a:pt x="1036" y="656"/>
                </a:lnTo>
                <a:lnTo>
                  <a:pt x="1019" y="632"/>
                </a:lnTo>
                <a:lnTo>
                  <a:pt x="1011" y="61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reeform 1158"/>
          <p:cNvSpPr/>
          <p:nvPr/>
        </p:nvSpPr>
        <p:spPr>
          <a:xfrm>
            <a:off x="5245200" y="3924360"/>
            <a:ext cx="479160" cy="368280"/>
          </a:xfrm>
          <a:custGeom>
            <a:avLst/>
            <a:gdLst>
              <a:gd name="textAreaLeft" fmla="*/ 0 w 479160"/>
              <a:gd name="textAreaRight" fmla="*/ 479160 w 4791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328" h="232">
                <a:moveTo>
                  <a:pt x="278" y="184"/>
                </a:moveTo>
                <a:lnTo>
                  <a:pt x="286" y="168"/>
                </a:lnTo>
                <a:lnTo>
                  <a:pt x="311" y="160"/>
                </a:lnTo>
                <a:lnTo>
                  <a:pt x="328" y="144"/>
                </a:lnTo>
                <a:lnTo>
                  <a:pt x="328" y="112"/>
                </a:lnTo>
                <a:lnTo>
                  <a:pt x="303" y="88"/>
                </a:lnTo>
                <a:lnTo>
                  <a:pt x="269" y="72"/>
                </a:lnTo>
                <a:lnTo>
                  <a:pt x="278" y="48"/>
                </a:lnTo>
                <a:lnTo>
                  <a:pt x="261" y="24"/>
                </a:lnTo>
                <a:lnTo>
                  <a:pt x="219" y="16"/>
                </a:lnTo>
                <a:lnTo>
                  <a:pt x="168" y="8"/>
                </a:lnTo>
                <a:lnTo>
                  <a:pt x="134" y="24"/>
                </a:lnTo>
                <a:lnTo>
                  <a:pt x="101" y="16"/>
                </a:lnTo>
                <a:lnTo>
                  <a:pt x="75" y="0"/>
                </a:lnTo>
                <a:lnTo>
                  <a:pt x="42" y="16"/>
                </a:lnTo>
                <a:lnTo>
                  <a:pt x="0" y="24"/>
                </a:lnTo>
                <a:lnTo>
                  <a:pt x="16" y="40"/>
                </a:lnTo>
                <a:lnTo>
                  <a:pt x="42" y="72"/>
                </a:lnTo>
                <a:lnTo>
                  <a:pt x="67" y="96"/>
                </a:lnTo>
                <a:lnTo>
                  <a:pt x="101" y="112"/>
                </a:lnTo>
                <a:lnTo>
                  <a:pt x="101" y="120"/>
                </a:lnTo>
                <a:lnTo>
                  <a:pt x="143" y="136"/>
                </a:lnTo>
                <a:lnTo>
                  <a:pt x="143" y="168"/>
                </a:lnTo>
                <a:lnTo>
                  <a:pt x="185" y="160"/>
                </a:lnTo>
                <a:lnTo>
                  <a:pt x="202" y="192"/>
                </a:lnTo>
                <a:lnTo>
                  <a:pt x="261" y="232"/>
                </a:lnTo>
                <a:lnTo>
                  <a:pt x="278" y="232"/>
                </a:lnTo>
                <a:lnTo>
                  <a:pt x="278" y="208"/>
                </a:lnTo>
                <a:lnTo>
                  <a:pt x="278" y="184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1159"/>
          <p:cNvSpPr/>
          <p:nvPr/>
        </p:nvSpPr>
        <p:spPr>
          <a:xfrm>
            <a:off x="5651640" y="4178160"/>
            <a:ext cx="87120" cy="127080"/>
          </a:xfrm>
          <a:custGeom>
            <a:avLst/>
            <a:gdLst>
              <a:gd name="textAreaLeft" fmla="*/ 0 w 87120"/>
              <a:gd name="textAreaRight" fmla="*/ 87120 w 871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59" h="80">
                <a:moveTo>
                  <a:pt x="25" y="24"/>
                </a:moveTo>
                <a:lnTo>
                  <a:pt x="25" y="0"/>
                </a:lnTo>
                <a:lnTo>
                  <a:pt x="8" y="8"/>
                </a:lnTo>
                <a:lnTo>
                  <a:pt x="0" y="24"/>
                </a:lnTo>
                <a:lnTo>
                  <a:pt x="0" y="48"/>
                </a:lnTo>
                <a:lnTo>
                  <a:pt x="0" y="72"/>
                </a:lnTo>
                <a:lnTo>
                  <a:pt x="42" y="80"/>
                </a:lnTo>
                <a:lnTo>
                  <a:pt x="59" y="48"/>
                </a:lnTo>
                <a:lnTo>
                  <a:pt x="25" y="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reeform 1160"/>
          <p:cNvSpPr/>
          <p:nvPr/>
        </p:nvSpPr>
        <p:spPr>
          <a:xfrm>
            <a:off x="5354640" y="3543480"/>
            <a:ext cx="493560" cy="507960"/>
          </a:xfrm>
          <a:custGeom>
            <a:avLst/>
            <a:gdLst>
              <a:gd name="textAreaLeft" fmla="*/ 0 w 493560"/>
              <a:gd name="textAreaRight" fmla="*/ 493920 w 493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37" h="320">
                <a:moveTo>
                  <a:pt x="236" y="280"/>
                </a:moveTo>
                <a:lnTo>
                  <a:pt x="236" y="232"/>
                </a:lnTo>
                <a:lnTo>
                  <a:pt x="236" y="200"/>
                </a:lnTo>
                <a:lnTo>
                  <a:pt x="287" y="192"/>
                </a:lnTo>
                <a:lnTo>
                  <a:pt x="287" y="168"/>
                </a:lnTo>
                <a:lnTo>
                  <a:pt x="312" y="160"/>
                </a:lnTo>
                <a:lnTo>
                  <a:pt x="321" y="128"/>
                </a:lnTo>
                <a:lnTo>
                  <a:pt x="295" y="104"/>
                </a:lnTo>
                <a:lnTo>
                  <a:pt x="321" y="96"/>
                </a:lnTo>
                <a:lnTo>
                  <a:pt x="337" y="56"/>
                </a:lnTo>
                <a:lnTo>
                  <a:pt x="329" y="16"/>
                </a:lnTo>
                <a:lnTo>
                  <a:pt x="321" y="16"/>
                </a:lnTo>
                <a:lnTo>
                  <a:pt x="304" y="0"/>
                </a:lnTo>
                <a:lnTo>
                  <a:pt x="278" y="0"/>
                </a:lnTo>
                <a:lnTo>
                  <a:pt x="219" y="16"/>
                </a:lnTo>
                <a:lnTo>
                  <a:pt x="203" y="24"/>
                </a:lnTo>
                <a:lnTo>
                  <a:pt x="194" y="48"/>
                </a:lnTo>
                <a:lnTo>
                  <a:pt x="203" y="72"/>
                </a:lnTo>
                <a:lnTo>
                  <a:pt x="219" y="96"/>
                </a:lnTo>
                <a:lnTo>
                  <a:pt x="228" y="112"/>
                </a:lnTo>
                <a:lnTo>
                  <a:pt x="211" y="128"/>
                </a:lnTo>
                <a:lnTo>
                  <a:pt x="186" y="136"/>
                </a:lnTo>
                <a:lnTo>
                  <a:pt x="160" y="120"/>
                </a:lnTo>
                <a:lnTo>
                  <a:pt x="169" y="72"/>
                </a:lnTo>
                <a:lnTo>
                  <a:pt x="160" y="56"/>
                </a:lnTo>
                <a:lnTo>
                  <a:pt x="152" y="32"/>
                </a:lnTo>
                <a:lnTo>
                  <a:pt x="110" y="128"/>
                </a:lnTo>
                <a:lnTo>
                  <a:pt x="76" y="168"/>
                </a:lnTo>
                <a:lnTo>
                  <a:pt x="68" y="216"/>
                </a:lnTo>
                <a:lnTo>
                  <a:pt x="42" y="216"/>
                </a:lnTo>
                <a:lnTo>
                  <a:pt x="34" y="216"/>
                </a:lnTo>
                <a:lnTo>
                  <a:pt x="26" y="232"/>
                </a:lnTo>
                <a:lnTo>
                  <a:pt x="0" y="240"/>
                </a:lnTo>
                <a:lnTo>
                  <a:pt x="26" y="256"/>
                </a:lnTo>
                <a:lnTo>
                  <a:pt x="59" y="264"/>
                </a:lnTo>
                <a:lnTo>
                  <a:pt x="93" y="248"/>
                </a:lnTo>
                <a:lnTo>
                  <a:pt x="144" y="256"/>
                </a:lnTo>
                <a:lnTo>
                  <a:pt x="186" y="264"/>
                </a:lnTo>
                <a:lnTo>
                  <a:pt x="203" y="288"/>
                </a:lnTo>
                <a:lnTo>
                  <a:pt x="194" y="312"/>
                </a:lnTo>
                <a:lnTo>
                  <a:pt x="219" y="320"/>
                </a:lnTo>
                <a:lnTo>
                  <a:pt x="219" y="296"/>
                </a:lnTo>
                <a:lnTo>
                  <a:pt x="236" y="280"/>
                </a:lnTo>
                <a:close/>
              </a:path>
            </a:pathLst>
          </a:custGeom>
          <a:solidFill>
            <a:srgbClr val="7d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1161"/>
          <p:cNvSpPr/>
          <p:nvPr/>
        </p:nvSpPr>
        <p:spPr>
          <a:xfrm>
            <a:off x="5651640" y="4178160"/>
            <a:ext cx="87120" cy="127080"/>
          </a:xfrm>
          <a:custGeom>
            <a:avLst/>
            <a:gdLst>
              <a:gd name="textAreaLeft" fmla="*/ 0 w 87120"/>
              <a:gd name="textAreaRight" fmla="*/ 87120 w 871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59" h="80">
                <a:moveTo>
                  <a:pt x="25" y="24"/>
                </a:moveTo>
                <a:lnTo>
                  <a:pt x="25" y="0"/>
                </a:lnTo>
                <a:lnTo>
                  <a:pt x="8" y="8"/>
                </a:lnTo>
                <a:lnTo>
                  <a:pt x="0" y="24"/>
                </a:lnTo>
                <a:lnTo>
                  <a:pt x="0" y="48"/>
                </a:lnTo>
                <a:lnTo>
                  <a:pt x="0" y="72"/>
                </a:lnTo>
                <a:lnTo>
                  <a:pt x="42" y="80"/>
                </a:lnTo>
                <a:lnTo>
                  <a:pt x="59" y="48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162"/>
          <p:cNvSpPr/>
          <p:nvPr/>
        </p:nvSpPr>
        <p:spPr>
          <a:xfrm>
            <a:off x="5354640" y="3543480"/>
            <a:ext cx="493560" cy="507960"/>
          </a:xfrm>
          <a:custGeom>
            <a:avLst/>
            <a:gdLst>
              <a:gd name="textAreaLeft" fmla="*/ 0 w 493560"/>
              <a:gd name="textAreaRight" fmla="*/ 493920 w 493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37" h="320">
                <a:moveTo>
                  <a:pt x="236" y="280"/>
                </a:moveTo>
                <a:lnTo>
                  <a:pt x="236" y="232"/>
                </a:lnTo>
                <a:lnTo>
                  <a:pt x="236" y="200"/>
                </a:lnTo>
                <a:lnTo>
                  <a:pt x="287" y="192"/>
                </a:lnTo>
                <a:lnTo>
                  <a:pt x="287" y="168"/>
                </a:lnTo>
                <a:lnTo>
                  <a:pt x="312" y="160"/>
                </a:lnTo>
                <a:lnTo>
                  <a:pt x="321" y="128"/>
                </a:lnTo>
                <a:lnTo>
                  <a:pt x="295" y="104"/>
                </a:lnTo>
                <a:lnTo>
                  <a:pt x="321" y="96"/>
                </a:lnTo>
                <a:lnTo>
                  <a:pt x="337" y="56"/>
                </a:lnTo>
                <a:lnTo>
                  <a:pt x="329" y="16"/>
                </a:lnTo>
                <a:lnTo>
                  <a:pt x="321" y="16"/>
                </a:lnTo>
                <a:lnTo>
                  <a:pt x="304" y="0"/>
                </a:lnTo>
                <a:lnTo>
                  <a:pt x="278" y="0"/>
                </a:lnTo>
                <a:lnTo>
                  <a:pt x="219" y="16"/>
                </a:lnTo>
                <a:lnTo>
                  <a:pt x="203" y="24"/>
                </a:lnTo>
                <a:lnTo>
                  <a:pt x="194" y="48"/>
                </a:lnTo>
                <a:lnTo>
                  <a:pt x="203" y="72"/>
                </a:lnTo>
                <a:lnTo>
                  <a:pt x="219" y="96"/>
                </a:lnTo>
                <a:lnTo>
                  <a:pt x="228" y="112"/>
                </a:lnTo>
                <a:lnTo>
                  <a:pt x="211" y="128"/>
                </a:lnTo>
                <a:lnTo>
                  <a:pt x="186" y="136"/>
                </a:lnTo>
                <a:lnTo>
                  <a:pt x="160" y="120"/>
                </a:lnTo>
                <a:lnTo>
                  <a:pt x="169" y="72"/>
                </a:lnTo>
                <a:lnTo>
                  <a:pt x="160" y="56"/>
                </a:lnTo>
                <a:lnTo>
                  <a:pt x="152" y="32"/>
                </a:lnTo>
                <a:lnTo>
                  <a:pt x="110" y="128"/>
                </a:lnTo>
                <a:lnTo>
                  <a:pt x="76" y="168"/>
                </a:lnTo>
                <a:lnTo>
                  <a:pt x="68" y="216"/>
                </a:lnTo>
                <a:lnTo>
                  <a:pt x="42" y="216"/>
                </a:lnTo>
                <a:lnTo>
                  <a:pt x="34" y="216"/>
                </a:lnTo>
                <a:lnTo>
                  <a:pt x="26" y="232"/>
                </a:lnTo>
                <a:lnTo>
                  <a:pt x="0" y="240"/>
                </a:lnTo>
                <a:lnTo>
                  <a:pt x="26" y="256"/>
                </a:lnTo>
                <a:lnTo>
                  <a:pt x="59" y="264"/>
                </a:lnTo>
                <a:lnTo>
                  <a:pt x="93" y="248"/>
                </a:lnTo>
                <a:lnTo>
                  <a:pt x="144" y="256"/>
                </a:lnTo>
                <a:lnTo>
                  <a:pt x="186" y="264"/>
                </a:lnTo>
                <a:lnTo>
                  <a:pt x="203" y="288"/>
                </a:lnTo>
                <a:lnTo>
                  <a:pt x="194" y="312"/>
                </a:lnTo>
                <a:lnTo>
                  <a:pt x="219" y="320"/>
                </a:lnTo>
                <a:lnTo>
                  <a:pt x="219" y="296"/>
                </a:lnTo>
                <a:lnTo>
                  <a:pt x="236" y="28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1163"/>
          <p:cNvSpPr/>
          <p:nvPr/>
        </p:nvSpPr>
        <p:spPr>
          <a:xfrm>
            <a:off x="5959440" y="2768760"/>
            <a:ext cx="309600" cy="546120"/>
          </a:xfrm>
          <a:custGeom>
            <a:avLst/>
            <a:gdLst>
              <a:gd name="textAreaLeft" fmla="*/ 0 w 309600"/>
              <a:gd name="textAreaRight" fmla="*/ 309960 w 3096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211" h="344">
                <a:moveTo>
                  <a:pt x="143" y="344"/>
                </a:moveTo>
                <a:lnTo>
                  <a:pt x="118" y="312"/>
                </a:lnTo>
                <a:lnTo>
                  <a:pt x="143" y="312"/>
                </a:lnTo>
                <a:lnTo>
                  <a:pt x="127" y="280"/>
                </a:lnTo>
                <a:lnTo>
                  <a:pt x="127" y="248"/>
                </a:lnTo>
                <a:lnTo>
                  <a:pt x="169" y="184"/>
                </a:lnTo>
                <a:lnTo>
                  <a:pt x="186" y="192"/>
                </a:lnTo>
                <a:lnTo>
                  <a:pt x="211" y="136"/>
                </a:lnTo>
                <a:lnTo>
                  <a:pt x="177" y="112"/>
                </a:lnTo>
                <a:lnTo>
                  <a:pt x="169" y="72"/>
                </a:lnTo>
                <a:lnTo>
                  <a:pt x="177" y="24"/>
                </a:lnTo>
                <a:lnTo>
                  <a:pt x="177" y="8"/>
                </a:lnTo>
                <a:lnTo>
                  <a:pt x="160" y="0"/>
                </a:lnTo>
                <a:lnTo>
                  <a:pt x="135" y="8"/>
                </a:lnTo>
                <a:lnTo>
                  <a:pt x="127" y="24"/>
                </a:lnTo>
                <a:lnTo>
                  <a:pt x="101" y="40"/>
                </a:lnTo>
                <a:lnTo>
                  <a:pt x="76" y="48"/>
                </a:lnTo>
                <a:lnTo>
                  <a:pt x="51" y="56"/>
                </a:lnTo>
                <a:lnTo>
                  <a:pt x="34" y="72"/>
                </a:lnTo>
                <a:lnTo>
                  <a:pt x="26" y="96"/>
                </a:lnTo>
                <a:lnTo>
                  <a:pt x="42" y="112"/>
                </a:lnTo>
                <a:lnTo>
                  <a:pt x="17" y="120"/>
                </a:lnTo>
                <a:lnTo>
                  <a:pt x="9" y="144"/>
                </a:lnTo>
                <a:lnTo>
                  <a:pt x="9" y="168"/>
                </a:lnTo>
                <a:lnTo>
                  <a:pt x="26" y="192"/>
                </a:lnTo>
                <a:lnTo>
                  <a:pt x="0" y="208"/>
                </a:lnTo>
                <a:lnTo>
                  <a:pt x="0" y="224"/>
                </a:lnTo>
                <a:lnTo>
                  <a:pt x="26" y="272"/>
                </a:lnTo>
                <a:lnTo>
                  <a:pt x="42" y="256"/>
                </a:lnTo>
                <a:lnTo>
                  <a:pt x="51" y="304"/>
                </a:lnTo>
                <a:lnTo>
                  <a:pt x="59" y="328"/>
                </a:lnTo>
                <a:lnTo>
                  <a:pt x="84" y="336"/>
                </a:lnTo>
                <a:lnTo>
                  <a:pt x="143" y="344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1164"/>
          <p:cNvSpPr/>
          <p:nvPr/>
        </p:nvSpPr>
        <p:spPr>
          <a:xfrm>
            <a:off x="5683320" y="3308400"/>
            <a:ext cx="1098360" cy="14097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750" h="888">
                <a:moveTo>
                  <a:pt x="194" y="864"/>
                </a:moveTo>
                <a:lnTo>
                  <a:pt x="228" y="848"/>
                </a:lnTo>
                <a:lnTo>
                  <a:pt x="312" y="872"/>
                </a:lnTo>
                <a:lnTo>
                  <a:pt x="354" y="888"/>
                </a:lnTo>
                <a:lnTo>
                  <a:pt x="388" y="872"/>
                </a:lnTo>
                <a:lnTo>
                  <a:pt x="447" y="880"/>
                </a:lnTo>
                <a:lnTo>
                  <a:pt x="489" y="872"/>
                </a:lnTo>
                <a:lnTo>
                  <a:pt x="557" y="848"/>
                </a:lnTo>
                <a:lnTo>
                  <a:pt x="616" y="864"/>
                </a:lnTo>
                <a:lnTo>
                  <a:pt x="616" y="832"/>
                </a:lnTo>
                <a:lnTo>
                  <a:pt x="599" y="800"/>
                </a:lnTo>
                <a:lnTo>
                  <a:pt x="632" y="776"/>
                </a:lnTo>
                <a:lnTo>
                  <a:pt x="641" y="744"/>
                </a:lnTo>
                <a:lnTo>
                  <a:pt x="675" y="744"/>
                </a:lnTo>
                <a:lnTo>
                  <a:pt x="683" y="712"/>
                </a:lnTo>
                <a:lnTo>
                  <a:pt x="607" y="656"/>
                </a:lnTo>
                <a:lnTo>
                  <a:pt x="548" y="608"/>
                </a:lnTo>
                <a:lnTo>
                  <a:pt x="557" y="584"/>
                </a:lnTo>
                <a:lnTo>
                  <a:pt x="523" y="544"/>
                </a:lnTo>
                <a:lnTo>
                  <a:pt x="557" y="520"/>
                </a:lnTo>
                <a:lnTo>
                  <a:pt x="599" y="512"/>
                </a:lnTo>
                <a:lnTo>
                  <a:pt x="641" y="488"/>
                </a:lnTo>
                <a:lnTo>
                  <a:pt x="683" y="472"/>
                </a:lnTo>
                <a:lnTo>
                  <a:pt x="691" y="440"/>
                </a:lnTo>
                <a:lnTo>
                  <a:pt x="725" y="440"/>
                </a:lnTo>
                <a:lnTo>
                  <a:pt x="750" y="456"/>
                </a:lnTo>
                <a:lnTo>
                  <a:pt x="750" y="392"/>
                </a:lnTo>
                <a:lnTo>
                  <a:pt x="725" y="360"/>
                </a:lnTo>
                <a:lnTo>
                  <a:pt x="742" y="320"/>
                </a:lnTo>
                <a:lnTo>
                  <a:pt x="717" y="280"/>
                </a:lnTo>
                <a:lnTo>
                  <a:pt x="717" y="248"/>
                </a:lnTo>
                <a:lnTo>
                  <a:pt x="666" y="216"/>
                </a:lnTo>
                <a:lnTo>
                  <a:pt x="691" y="168"/>
                </a:lnTo>
                <a:lnTo>
                  <a:pt x="683" y="136"/>
                </a:lnTo>
                <a:lnTo>
                  <a:pt x="675" y="88"/>
                </a:lnTo>
                <a:lnTo>
                  <a:pt x="641" y="80"/>
                </a:lnTo>
                <a:lnTo>
                  <a:pt x="607" y="64"/>
                </a:lnTo>
                <a:lnTo>
                  <a:pt x="616" y="32"/>
                </a:lnTo>
                <a:lnTo>
                  <a:pt x="590" y="16"/>
                </a:lnTo>
                <a:lnTo>
                  <a:pt x="582" y="32"/>
                </a:lnTo>
                <a:lnTo>
                  <a:pt x="573" y="48"/>
                </a:lnTo>
                <a:lnTo>
                  <a:pt x="557" y="40"/>
                </a:lnTo>
                <a:lnTo>
                  <a:pt x="548" y="40"/>
                </a:lnTo>
                <a:lnTo>
                  <a:pt x="540" y="40"/>
                </a:lnTo>
                <a:lnTo>
                  <a:pt x="514" y="64"/>
                </a:lnTo>
                <a:lnTo>
                  <a:pt x="481" y="72"/>
                </a:lnTo>
                <a:lnTo>
                  <a:pt x="464" y="96"/>
                </a:lnTo>
                <a:lnTo>
                  <a:pt x="439" y="96"/>
                </a:lnTo>
                <a:lnTo>
                  <a:pt x="413" y="88"/>
                </a:lnTo>
                <a:lnTo>
                  <a:pt x="430" y="64"/>
                </a:lnTo>
                <a:lnTo>
                  <a:pt x="422" y="32"/>
                </a:lnTo>
                <a:lnTo>
                  <a:pt x="396" y="56"/>
                </a:lnTo>
                <a:lnTo>
                  <a:pt x="346" y="40"/>
                </a:lnTo>
                <a:lnTo>
                  <a:pt x="346" y="16"/>
                </a:lnTo>
                <a:lnTo>
                  <a:pt x="337" y="8"/>
                </a:lnTo>
                <a:lnTo>
                  <a:pt x="253" y="0"/>
                </a:lnTo>
                <a:lnTo>
                  <a:pt x="270" y="24"/>
                </a:lnTo>
                <a:lnTo>
                  <a:pt x="245" y="40"/>
                </a:lnTo>
                <a:lnTo>
                  <a:pt x="245" y="64"/>
                </a:lnTo>
                <a:lnTo>
                  <a:pt x="278" y="112"/>
                </a:lnTo>
                <a:lnTo>
                  <a:pt x="253" y="112"/>
                </a:lnTo>
                <a:lnTo>
                  <a:pt x="236" y="112"/>
                </a:lnTo>
                <a:lnTo>
                  <a:pt x="228" y="128"/>
                </a:lnTo>
                <a:lnTo>
                  <a:pt x="220" y="136"/>
                </a:lnTo>
                <a:lnTo>
                  <a:pt x="211" y="136"/>
                </a:lnTo>
                <a:lnTo>
                  <a:pt x="186" y="128"/>
                </a:lnTo>
                <a:lnTo>
                  <a:pt x="135" y="128"/>
                </a:lnTo>
                <a:lnTo>
                  <a:pt x="110" y="144"/>
                </a:lnTo>
                <a:lnTo>
                  <a:pt x="110" y="168"/>
                </a:lnTo>
                <a:lnTo>
                  <a:pt x="118" y="208"/>
                </a:lnTo>
                <a:lnTo>
                  <a:pt x="102" y="248"/>
                </a:lnTo>
                <a:lnTo>
                  <a:pt x="76" y="256"/>
                </a:lnTo>
                <a:lnTo>
                  <a:pt x="102" y="280"/>
                </a:lnTo>
                <a:lnTo>
                  <a:pt x="93" y="312"/>
                </a:lnTo>
                <a:lnTo>
                  <a:pt x="68" y="320"/>
                </a:lnTo>
                <a:lnTo>
                  <a:pt x="68" y="344"/>
                </a:lnTo>
                <a:lnTo>
                  <a:pt x="17" y="352"/>
                </a:lnTo>
                <a:lnTo>
                  <a:pt x="17" y="384"/>
                </a:lnTo>
                <a:lnTo>
                  <a:pt x="17" y="432"/>
                </a:lnTo>
                <a:lnTo>
                  <a:pt x="0" y="448"/>
                </a:lnTo>
                <a:lnTo>
                  <a:pt x="0" y="472"/>
                </a:lnTo>
                <a:lnTo>
                  <a:pt x="9" y="480"/>
                </a:lnTo>
                <a:lnTo>
                  <a:pt x="34" y="504"/>
                </a:lnTo>
                <a:lnTo>
                  <a:pt x="34" y="536"/>
                </a:lnTo>
                <a:lnTo>
                  <a:pt x="17" y="552"/>
                </a:lnTo>
                <a:lnTo>
                  <a:pt x="9" y="552"/>
                </a:lnTo>
                <a:lnTo>
                  <a:pt x="9" y="576"/>
                </a:lnTo>
                <a:lnTo>
                  <a:pt x="43" y="600"/>
                </a:lnTo>
                <a:lnTo>
                  <a:pt x="26" y="632"/>
                </a:lnTo>
                <a:lnTo>
                  <a:pt x="51" y="664"/>
                </a:lnTo>
                <a:lnTo>
                  <a:pt x="76" y="672"/>
                </a:lnTo>
                <a:lnTo>
                  <a:pt x="135" y="688"/>
                </a:lnTo>
                <a:lnTo>
                  <a:pt x="186" y="704"/>
                </a:lnTo>
                <a:lnTo>
                  <a:pt x="152" y="736"/>
                </a:lnTo>
                <a:lnTo>
                  <a:pt x="144" y="776"/>
                </a:lnTo>
                <a:lnTo>
                  <a:pt x="127" y="864"/>
                </a:lnTo>
                <a:lnTo>
                  <a:pt x="118" y="864"/>
                </a:lnTo>
                <a:lnTo>
                  <a:pt x="144" y="872"/>
                </a:lnTo>
                <a:lnTo>
                  <a:pt x="194" y="86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1165"/>
          <p:cNvSpPr/>
          <p:nvPr/>
        </p:nvSpPr>
        <p:spPr>
          <a:xfrm>
            <a:off x="5959440" y="2768760"/>
            <a:ext cx="309600" cy="546120"/>
          </a:xfrm>
          <a:custGeom>
            <a:avLst/>
            <a:gdLst>
              <a:gd name="textAreaLeft" fmla="*/ 0 w 309600"/>
              <a:gd name="textAreaRight" fmla="*/ 309960 w 3096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211" h="344">
                <a:moveTo>
                  <a:pt x="143" y="344"/>
                </a:moveTo>
                <a:lnTo>
                  <a:pt x="118" y="312"/>
                </a:lnTo>
                <a:lnTo>
                  <a:pt x="143" y="312"/>
                </a:lnTo>
                <a:lnTo>
                  <a:pt x="127" y="280"/>
                </a:lnTo>
                <a:lnTo>
                  <a:pt x="127" y="248"/>
                </a:lnTo>
                <a:lnTo>
                  <a:pt x="169" y="184"/>
                </a:lnTo>
                <a:lnTo>
                  <a:pt x="186" y="192"/>
                </a:lnTo>
                <a:lnTo>
                  <a:pt x="211" y="136"/>
                </a:lnTo>
                <a:lnTo>
                  <a:pt x="177" y="112"/>
                </a:lnTo>
                <a:lnTo>
                  <a:pt x="169" y="72"/>
                </a:lnTo>
                <a:lnTo>
                  <a:pt x="177" y="24"/>
                </a:lnTo>
                <a:lnTo>
                  <a:pt x="177" y="8"/>
                </a:lnTo>
                <a:lnTo>
                  <a:pt x="160" y="0"/>
                </a:lnTo>
                <a:lnTo>
                  <a:pt x="135" y="8"/>
                </a:lnTo>
                <a:lnTo>
                  <a:pt x="127" y="24"/>
                </a:lnTo>
                <a:lnTo>
                  <a:pt x="101" y="40"/>
                </a:lnTo>
                <a:lnTo>
                  <a:pt x="76" y="48"/>
                </a:lnTo>
                <a:lnTo>
                  <a:pt x="51" y="56"/>
                </a:lnTo>
                <a:lnTo>
                  <a:pt x="34" y="72"/>
                </a:lnTo>
                <a:lnTo>
                  <a:pt x="26" y="96"/>
                </a:lnTo>
                <a:lnTo>
                  <a:pt x="42" y="112"/>
                </a:lnTo>
                <a:lnTo>
                  <a:pt x="17" y="120"/>
                </a:lnTo>
                <a:lnTo>
                  <a:pt x="9" y="144"/>
                </a:lnTo>
                <a:lnTo>
                  <a:pt x="9" y="168"/>
                </a:lnTo>
                <a:lnTo>
                  <a:pt x="26" y="192"/>
                </a:lnTo>
                <a:lnTo>
                  <a:pt x="0" y="208"/>
                </a:lnTo>
                <a:lnTo>
                  <a:pt x="0" y="224"/>
                </a:lnTo>
                <a:lnTo>
                  <a:pt x="26" y="272"/>
                </a:lnTo>
                <a:lnTo>
                  <a:pt x="42" y="256"/>
                </a:lnTo>
                <a:lnTo>
                  <a:pt x="51" y="304"/>
                </a:lnTo>
                <a:lnTo>
                  <a:pt x="59" y="328"/>
                </a:lnTo>
                <a:lnTo>
                  <a:pt x="84" y="336"/>
                </a:lnTo>
                <a:lnTo>
                  <a:pt x="143" y="34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1166"/>
          <p:cNvSpPr/>
          <p:nvPr/>
        </p:nvSpPr>
        <p:spPr>
          <a:xfrm>
            <a:off x="5675400" y="3301920"/>
            <a:ext cx="1098360" cy="14097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750" h="888">
                <a:moveTo>
                  <a:pt x="194" y="864"/>
                </a:moveTo>
                <a:lnTo>
                  <a:pt x="228" y="848"/>
                </a:lnTo>
                <a:lnTo>
                  <a:pt x="312" y="872"/>
                </a:lnTo>
                <a:lnTo>
                  <a:pt x="354" y="888"/>
                </a:lnTo>
                <a:lnTo>
                  <a:pt x="388" y="872"/>
                </a:lnTo>
                <a:lnTo>
                  <a:pt x="447" y="880"/>
                </a:lnTo>
                <a:lnTo>
                  <a:pt x="489" y="872"/>
                </a:lnTo>
                <a:lnTo>
                  <a:pt x="557" y="848"/>
                </a:lnTo>
                <a:lnTo>
                  <a:pt x="616" y="864"/>
                </a:lnTo>
                <a:lnTo>
                  <a:pt x="616" y="832"/>
                </a:lnTo>
                <a:lnTo>
                  <a:pt x="599" y="800"/>
                </a:lnTo>
                <a:lnTo>
                  <a:pt x="632" y="776"/>
                </a:lnTo>
                <a:lnTo>
                  <a:pt x="641" y="744"/>
                </a:lnTo>
                <a:lnTo>
                  <a:pt x="675" y="744"/>
                </a:lnTo>
                <a:lnTo>
                  <a:pt x="683" y="712"/>
                </a:lnTo>
                <a:lnTo>
                  <a:pt x="607" y="656"/>
                </a:lnTo>
                <a:lnTo>
                  <a:pt x="548" y="608"/>
                </a:lnTo>
                <a:lnTo>
                  <a:pt x="557" y="584"/>
                </a:lnTo>
                <a:lnTo>
                  <a:pt x="523" y="544"/>
                </a:lnTo>
                <a:lnTo>
                  <a:pt x="557" y="520"/>
                </a:lnTo>
                <a:lnTo>
                  <a:pt x="599" y="512"/>
                </a:lnTo>
                <a:lnTo>
                  <a:pt x="641" y="488"/>
                </a:lnTo>
                <a:lnTo>
                  <a:pt x="683" y="472"/>
                </a:lnTo>
                <a:lnTo>
                  <a:pt x="691" y="440"/>
                </a:lnTo>
                <a:lnTo>
                  <a:pt x="725" y="440"/>
                </a:lnTo>
                <a:lnTo>
                  <a:pt x="750" y="456"/>
                </a:lnTo>
                <a:lnTo>
                  <a:pt x="750" y="392"/>
                </a:lnTo>
                <a:lnTo>
                  <a:pt x="725" y="360"/>
                </a:lnTo>
                <a:lnTo>
                  <a:pt x="742" y="320"/>
                </a:lnTo>
                <a:lnTo>
                  <a:pt x="717" y="280"/>
                </a:lnTo>
                <a:lnTo>
                  <a:pt x="717" y="248"/>
                </a:lnTo>
                <a:lnTo>
                  <a:pt x="666" y="216"/>
                </a:lnTo>
                <a:lnTo>
                  <a:pt x="691" y="168"/>
                </a:lnTo>
                <a:lnTo>
                  <a:pt x="683" y="136"/>
                </a:lnTo>
                <a:lnTo>
                  <a:pt x="675" y="88"/>
                </a:lnTo>
                <a:lnTo>
                  <a:pt x="641" y="80"/>
                </a:lnTo>
                <a:lnTo>
                  <a:pt x="607" y="64"/>
                </a:lnTo>
                <a:lnTo>
                  <a:pt x="616" y="32"/>
                </a:lnTo>
                <a:lnTo>
                  <a:pt x="590" y="16"/>
                </a:lnTo>
                <a:lnTo>
                  <a:pt x="582" y="32"/>
                </a:lnTo>
                <a:lnTo>
                  <a:pt x="573" y="48"/>
                </a:lnTo>
                <a:lnTo>
                  <a:pt x="557" y="40"/>
                </a:lnTo>
                <a:lnTo>
                  <a:pt x="548" y="40"/>
                </a:lnTo>
                <a:lnTo>
                  <a:pt x="540" y="40"/>
                </a:lnTo>
                <a:lnTo>
                  <a:pt x="514" y="64"/>
                </a:lnTo>
                <a:lnTo>
                  <a:pt x="481" y="72"/>
                </a:lnTo>
                <a:lnTo>
                  <a:pt x="464" y="96"/>
                </a:lnTo>
                <a:lnTo>
                  <a:pt x="439" y="96"/>
                </a:lnTo>
                <a:lnTo>
                  <a:pt x="413" y="88"/>
                </a:lnTo>
                <a:lnTo>
                  <a:pt x="430" y="64"/>
                </a:lnTo>
                <a:lnTo>
                  <a:pt x="422" y="32"/>
                </a:lnTo>
                <a:lnTo>
                  <a:pt x="396" y="56"/>
                </a:lnTo>
                <a:lnTo>
                  <a:pt x="346" y="40"/>
                </a:lnTo>
                <a:lnTo>
                  <a:pt x="346" y="16"/>
                </a:lnTo>
                <a:lnTo>
                  <a:pt x="337" y="8"/>
                </a:lnTo>
                <a:lnTo>
                  <a:pt x="253" y="0"/>
                </a:lnTo>
                <a:lnTo>
                  <a:pt x="270" y="24"/>
                </a:lnTo>
                <a:lnTo>
                  <a:pt x="245" y="40"/>
                </a:lnTo>
                <a:lnTo>
                  <a:pt x="245" y="64"/>
                </a:lnTo>
                <a:lnTo>
                  <a:pt x="278" y="112"/>
                </a:lnTo>
                <a:lnTo>
                  <a:pt x="253" y="112"/>
                </a:lnTo>
                <a:lnTo>
                  <a:pt x="236" y="112"/>
                </a:lnTo>
                <a:lnTo>
                  <a:pt x="228" y="128"/>
                </a:lnTo>
                <a:lnTo>
                  <a:pt x="220" y="136"/>
                </a:lnTo>
                <a:lnTo>
                  <a:pt x="211" y="136"/>
                </a:lnTo>
                <a:lnTo>
                  <a:pt x="186" y="128"/>
                </a:lnTo>
                <a:lnTo>
                  <a:pt x="135" y="128"/>
                </a:lnTo>
                <a:lnTo>
                  <a:pt x="110" y="144"/>
                </a:lnTo>
                <a:lnTo>
                  <a:pt x="110" y="168"/>
                </a:lnTo>
                <a:lnTo>
                  <a:pt x="118" y="208"/>
                </a:lnTo>
                <a:lnTo>
                  <a:pt x="102" y="248"/>
                </a:lnTo>
                <a:lnTo>
                  <a:pt x="76" y="256"/>
                </a:lnTo>
                <a:lnTo>
                  <a:pt x="102" y="280"/>
                </a:lnTo>
                <a:lnTo>
                  <a:pt x="93" y="312"/>
                </a:lnTo>
                <a:lnTo>
                  <a:pt x="68" y="320"/>
                </a:lnTo>
                <a:lnTo>
                  <a:pt x="68" y="344"/>
                </a:lnTo>
                <a:lnTo>
                  <a:pt x="17" y="352"/>
                </a:lnTo>
                <a:lnTo>
                  <a:pt x="17" y="384"/>
                </a:lnTo>
                <a:lnTo>
                  <a:pt x="17" y="432"/>
                </a:lnTo>
                <a:lnTo>
                  <a:pt x="0" y="448"/>
                </a:lnTo>
                <a:lnTo>
                  <a:pt x="0" y="472"/>
                </a:lnTo>
                <a:lnTo>
                  <a:pt x="9" y="480"/>
                </a:lnTo>
                <a:lnTo>
                  <a:pt x="34" y="504"/>
                </a:lnTo>
                <a:lnTo>
                  <a:pt x="34" y="536"/>
                </a:lnTo>
                <a:lnTo>
                  <a:pt x="17" y="552"/>
                </a:lnTo>
                <a:lnTo>
                  <a:pt x="9" y="552"/>
                </a:lnTo>
                <a:lnTo>
                  <a:pt x="9" y="576"/>
                </a:lnTo>
                <a:lnTo>
                  <a:pt x="43" y="600"/>
                </a:lnTo>
                <a:lnTo>
                  <a:pt x="26" y="632"/>
                </a:lnTo>
                <a:lnTo>
                  <a:pt x="26" y="632"/>
                </a:lnTo>
                <a:lnTo>
                  <a:pt x="51" y="664"/>
                </a:lnTo>
                <a:lnTo>
                  <a:pt x="76" y="672"/>
                </a:lnTo>
                <a:lnTo>
                  <a:pt x="135" y="688"/>
                </a:lnTo>
                <a:lnTo>
                  <a:pt x="186" y="704"/>
                </a:lnTo>
                <a:lnTo>
                  <a:pt x="152" y="736"/>
                </a:lnTo>
                <a:lnTo>
                  <a:pt x="144" y="776"/>
                </a:lnTo>
                <a:lnTo>
                  <a:pt x="127" y="864"/>
                </a:lnTo>
                <a:lnTo>
                  <a:pt x="118" y="864"/>
                </a:lnTo>
                <a:lnTo>
                  <a:pt x="144" y="872"/>
                </a:lnTo>
                <a:lnTo>
                  <a:pt x="194" y="86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167"/>
          <p:cNvSpPr/>
          <p:nvPr/>
        </p:nvSpPr>
        <p:spPr>
          <a:xfrm>
            <a:off x="5638680" y="4648320"/>
            <a:ext cx="617760" cy="368280"/>
          </a:xfrm>
          <a:custGeom>
            <a:avLst/>
            <a:gdLst>
              <a:gd name="textAreaLeft" fmla="*/ 0 w 617760"/>
              <a:gd name="textAreaRight" fmla="*/ 617760 w 6177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421" h="232">
                <a:moveTo>
                  <a:pt x="371" y="104"/>
                </a:moveTo>
                <a:lnTo>
                  <a:pt x="354" y="88"/>
                </a:lnTo>
                <a:lnTo>
                  <a:pt x="329" y="72"/>
                </a:lnTo>
                <a:lnTo>
                  <a:pt x="337" y="32"/>
                </a:lnTo>
                <a:lnTo>
                  <a:pt x="337" y="24"/>
                </a:lnTo>
                <a:lnTo>
                  <a:pt x="253" y="0"/>
                </a:lnTo>
                <a:lnTo>
                  <a:pt x="219" y="16"/>
                </a:lnTo>
                <a:lnTo>
                  <a:pt x="169" y="24"/>
                </a:lnTo>
                <a:lnTo>
                  <a:pt x="143" y="16"/>
                </a:lnTo>
                <a:lnTo>
                  <a:pt x="118" y="32"/>
                </a:lnTo>
                <a:lnTo>
                  <a:pt x="84" y="40"/>
                </a:lnTo>
                <a:lnTo>
                  <a:pt x="76" y="72"/>
                </a:lnTo>
                <a:lnTo>
                  <a:pt x="51" y="88"/>
                </a:lnTo>
                <a:lnTo>
                  <a:pt x="42" y="112"/>
                </a:lnTo>
                <a:lnTo>
                  <a:pt x="9" y="152"/>
                </a:lnTo>
                <a:lnTo>
                  <a:pt x="0" y="184"/>
                </a:lnTo>
                <a:lnTo>
                  <a:pt x="34" y="168"/>
                </a:lnTo>
                <a:lnTo>
                  <a:pt x="76" y="184"/>
                </a:lnTo>
                <a:lnTo>
                  <a:pt x="84" y="200"/>
                </a:lnTo>
                <a:lnTo>
                  <a:pt x="101" y="224"/>
                </a:lnTo>
                <a:lnTo>
                  <a:pt x="177" y="216"/>
                </a:lnTo>
                <a:lnTo>
                  <a:pt x="219" y="152"/>
                </a:lnTo>
                <a:lnTo>
                  <a:pt x="287" y="232"/>
                </a:lnTo>
                <a:lnTo>
                  <a:pt x="312" y="152"/>
                </a:lnTo>
                <a:lnTo>
                  <a:pt x="354" y="160"/>
                </a:lnTo>
                <a:lnTo>
                  <a:pt x="379" y="144"/>
                </a:lnTo>
                <a:lnTo>
                  <a:pt x="413" y="144"/>
                </a:lnTo>
                <a:lnTo>
                  <a:pt x="421" y="136"/>
                </a:lnTo>
                <a:lnTo>
                  <a:pt x="413" y="96"/>
                </a:lnTo>
                <a:lnTo>
                  <a:pt x="371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1168"/>
          <p:cNvSpPr/>
          <p:nvPr/>
        </p:nvSpPr>
        <p:spPr>
          <a:xfrm>
            <a:off x="6121440" y="4381560"/>
            <a:ext cx="998640" cy="495360"/>
          </a:xfrm>
          <a:custGeom>
            <a:avLst/>
            <a:gdLst>
              <a:gd name="textAreaLeft" fmla="*/ 0 w 998640"/>
              <a:gd name="textAreaRight" fmla="*/ 999000 w 998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82" h="312">
                <a:moveTo>
                  <a:pt x="472" y="304"/>
                </a:moveTo>
                <a:lnTo>
                  <a:pt x="505" y="280"/>
                </a:lnTo>
                <a:lnTo>
                  <a:pt x="556" y="280"/>
                </a:lnTo>
                <a:lnTo>
                  <a:pt x="598" y="272"/>
                </a:lnTo>
                <a:lnTo>
                  <a:pt x="598" y="248"/>
                </a:lnTo>
                <a:lnTo>
                  <a:pt x="623" y="224"/>
                </a:lnTo>
                <a:lnTo>
                  <a:pt x="632" y="184"/>
                </a:lnTo>
                <a:lnTo>
                  <a:pt x="632" y="144"/>
                </a:lnTo>
                <a:lnTo>
                  <a:pt x="674" y="128"/>
                </a:lnTo>
                <a:lnTo>
                  <a:pt x="682" y="96"/>
                </a:lnTo>
                <a:lnTo>
                  <a:pt x="649" y="72"/>
                </a:lnTo>
                <a:lnTo>
                  <a:pt x="649" y="24"/>
                </a:lnTo>
                <a:lnTo>
                  <a:pt x="564" y="24"/>
                </a:lnTo>
                <a:lnTo>
                  <a:pt x="488" y="0"/>
                </a:lnTo>
                <a:lnTo>
                  <a:pt x="463" y="48"/>
                </a:lnTo>
                <a:lnTo>
                  <a:pt x="413" y="64"/>
                </a:lnTo>
                <a:lnTo>
                  <a:pt x="371" y="40"/>
                </a:lnTo>
                <a:lnTo>
                  <a:pt x="371" y="64"/>
                </a:lnTo>
                <a:lnTo>
                  <a:pt x="337" y="64"/>
                </a:lnTo>
                <a:lnTo>
                  <a:pt x="328" y="96"/>
                </a:lnTo>
                <a:lnTo>
                  <a:pt x="295" y="120"/>
                </a:lnTo>
                <a:lnTo>
                  <a:pt x="312" y="152"/>
                </a:lnTo>
                <a:lnTo>
                  <a:pt x="312" y="184"/>
                </a:lnTo>
                <a:lnTo>
                  <a:pt x="253" y="168"/>
                </a:lnTo>
                <a:lnTo>
                  <a:pt x="185" y="192"/>
                </a:lnTo>
                <a:lnTo>
                  <a:pt x="143" y="200"/>
                </a:lnTo>
                <a:lnTo>
                  <a:pt x="84" y="192"/>
                </a:lnTo>
                <a:lnTo>
                  <a:pt x="50" y="208"/>
                </a:lnTo>
                <a:lnTo>
                  <a:pt x="8" y="200"/>
                </a:lnTo>
                <a:lnTo>
                  <a:pt x="0" y="240"/>
                </a:lnTo>
                <a:lnTo>
                  <a:pt x="25" y="256"/>
                </a:lnTo>
                <a:lnTo>
                  <a:pt x="42" y="272"/>
                </a:lnTo>
                <a:lnTo>
                  <a:pt x="84" y="264"/>
                </a:lnTo>
                <a:lnTo>
                  <a:pt x="92" y="304"/>
                </a:lnTo>
                <a:lnTo>
                  <a:pt x="101" y="280"/>
                </a:lnTo>
                <a:lnTo>
                  <a:pt x="135" y="288"/>
                </a:lnTo>
                <a:lnTo>
                  <a:pt x="168" y="256"/>
                </a:lnTo>
                <a:lnTo>
                  <a:pt x="244" y="248"/>
                </a:lnTo>
                <a:lnTo>
                  <a:pt x="261" y="272"/>
                </a:lnTo>
                <a:lnTo>
                  <a:pt x="379" y="304"/>
                </a:lnTo>
                <a:lnTo>
                  <a:pt x="379" y="312"/>
                </a:lnTo>
                <a:lnTo>
                  <a:pt x="413" y="304"/>
                </a:lnTo>
                <a:lnTo>
                  <a:pt x="472" y="30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1169"/>
          <p:cNvSpPr/>
          <p:nvPr/>
        </p:nvSpPr>
        <p:spPr>
          <a:xfrm>
            <a:off x="5638680" y="4648320"/>
            <a:ext cx="617760" cy="368280"/>
          </a:xfrm>
          <a:custGeom>
            <a:avLst/>
            <a:gdLst>
              <a:gd name="textAreaLeft" fmla="*/ 0 w 617760"/>
              <a:gd name="textAreaRight" fmla="*/ 617760 w 6177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421" h="232">
                <a:moveTo>
                  <a:pt x="371" y="104"/>
                </a:moveTo>
                <a:lnTo>
                  <a:pt x="354" y="88"/>
                </a:lnTo>
                <a:lnTo>
                  <a:pt x="329" y="72"/>
                </a:lnTo>
                <a:lnTo>
                  <a:pt x="337" y="32"/>
                </a:lnTo>
                <a:lnTo>
                  <a:pt x="337" y="24"/>
                </a:lnTo>
                <a:lnTo>
                  <a:pt x="253" y="0"/>
                </a:lnTo>
                <a:lnTo>
                  <a:pt x="219" y="16"/>
                </a:lnTo>
                <a:lnTo>
                  <a:pt x="169" y="24"/>
                </a:lnTo>
                <a:lnTo>
                  <a:pt x="143" y="16"/>
                </a:lnTo>
                <a:lnTo>
                  <a:pt x="118" y="32"/>
                </a:lnTo>
                <a:lnTo>
                  <a:pt x="84" y="40"/>
                </a:lnTo>
                <a:lnTo>
                  <a:pt x="76" y="72"/>
                </a:lnTo>
                <a:lnTo>
                  <a:pt x="51" y="88"/>
                </a:lnTo>
                <a:lnTo>
                  <a:pt x="42" y="112"/>
                </a:lnTo>
                <a:lnTo>
                  <a:pt x="9" y="152"/>
                </a:lnTo>
                <a:lnTo>
                  <a:pt x="0" y="184"/>
                </a:lnTo>
                <a:lnTo>
                  <a:pt x="34" y="168"/>
                </a:lnTo>
                <a:lnTo>
                  <a:pt x="76" y="184"/>
                </a:lnTo>
                <a:lnTo>
                  <a:pt x="84" y="200"/>
                </a:lnTo>
                <a:lnTo>
                  <a:pt x="101" y="224"/>
                </a:lnTo>
                <a:lnTo>
                  <a:pt x="177" y="216"/>
                </a:lnTo>
                <a:lnTo>
                  <a:pt x="219" y="152"/>
                </a:lnTo>
                <a:lnTo>
                  <a:pt x="287" y="232"/>
                </a:lnTo>
                <a:lnTo>
                  <a:pt x="312" y="152"/>
                </a:lnTo>
                <a:lnTo>
                  <a:pt x="354" y="160"/>
                </a:lnTo>
                <a:lnTo>
                  <a:pt x="379" y="144"/>
                </a:lnTo>
                <a:lnTo>
                  <a:pt x="413" y="144"/>
                </a:lnTo>
                <a:lnTo>
                  <a:pt x="421" y="136"/>
                </a:lnTo>
                <a:lnTo>
                  <a:pt x="413" y="96"/>
                </a:lnTo>
                <a:lnTo>
                  <a:pt x="371" y="104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1170"/>
          <p:cNvSpPr/>
          <p:nvPr/>
        </p:nvSpPr>
        <p:spPr>
          <a:xfrm>
            <a:off x="6121440" y="4381560"/>
            <a:ext cx="998640" cy="495360"/>
          </a:xfrm>
          <a:custGeom>
            <a:avLst/>
            <a:gdLst>
              <a:gd name="textAreaLeft" fmla="*/ 0 w 998640"/>
              <a:gd name="textAreaRight" fmla="*/ 999000 w 998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82" h="312">
                <a:moveTo>
                  <a:pt x="472" y="304"/>
                </a:moveTo>
                <a:lnTo>
                  <a:pt x="505" y="280"/>
                </a:lnTo>
                <a:lnTo>
                  <a:pt x="556" y="280"/>
                </a:lnTo>
                <a:lnTo>
                  <a:pt x="598" y="272"/>
                </a:lnTo>
                <a:lnTo>
                  <a:pt x="598" y="248"/>
                </a:lnTo>
                <a:lnTo>
                  <a:pt x="623" y="224"/>
                </a:lnTo>
                <a:lnTo>
                  <a:pt x="632" y="184"/>
                </a:lnTo>
                <a:lnTo>
                  <a:pt x="632" y="144"/>
                </a:lnTo>
                <a:lnTo>
                  <a:pt x="674" y="128"/>
                </a:lnTo>
                <a:lnTo>
                  <a:pt x="682" y="96"/>
                </a:lnTo>
                <a:lnTo>
                  <a:pt x="649" y="72"/>
                </a:lnTo>
                <a:lnTo>
                  <a:pt x="649" y="24"/>
                </a:lnTo>
                <a:lnTo>
                  <a:pt x="564" y="24"/>
                </a:lnTo>
                <a:lnTo>
                  <a:pt x="488" y="0"/>
                </a:lnTo>
                <a:lnTo>
                  <a:pt x="463" y="48"/>
                </a:lnTo>
                <a:lnTo>
                  <a:pt x="413" y="64"/>
                </a:lnTo>
                <a:lnTo>
                  <a:pt x="371" y="40"/>
                </a:lnTo>
                <a:lnTo>
                  <a:pt x="371" y="64"/>
                </a:lnTo>
                <a:lnTo>
                  <a:pt x="337" y="64"/>
                </a:lnTo>
                <a:lnTo>
                  <a:pt x="328" y="96"/>
                </a:lnTo>
                <a:lnTo>
                  <a:pt x="295" y="120"/>
                </a:lnTo>
                <a:lnTo>
                  <a:pt x="312" y="152"/>
                </a:lnTo>
                <a:lnTo>
                  <a:pt x="312" y="184"/>
                </a:lnTo>
                <a:lnTo>
                  <a:pt x="253" y="168"/>
                </a:lnTo>
                <a:lnTo>
                  <a:pt x="185" y="192"/>
                </a:lnTo>
                <a:lnTo>
                  <a:pt x="143" y="200"/>
                </a:lnTo>
                <a:lnTo>
                  <a:pt x="84" y="192"/>
                </a:lnTo>
                <a:lnTo>
                  <a:pt x="50" y="208"/>
                </a:lnTo>
                <a:lnTo>
                  <a:pt x="8" y="200"/>
                </a:lnTo>
                <a:lnTo>
                  <a:pt x="0" y="240"/>
                </a:lnTo>
                <a:lnTo>
                  <a:pt x="25" y="256"/>
                </a:lnTo>
                <a:lnTo>
                  <a:pt x="42" y="272"/>
                </a:lnTo>
                <a:lnTo>
                  <a:pt x="84" y="264"/>
                </a:lnTo>
                <a:lnTo>
                  <a:pt x="92" y="304"/>
                </a:lnTo>
                <a:lnTo>
                  <a:pt x="101" y="280"/>
                </a:lnTo>
                <a:lnTo>
                  <a:pt x="135" y="288"/>
                </a:lnTo>
                <a:lnTo>
                  <a:pt x="168" y="256"/>
                </a:lnTo>
                <a:lnTo>
                  <a:pt x="244" y="248"/>
                </a:lnTo>
                <a:lnTo>
                  <a:pt x="261" y="272"/>
                </a:lnTo>
                <a:lnTo>
                  <a:pt x="379" y="304"/>
                </a:lnTo>
                <a:lnTo>
                  <a:pt x="379" y="312"/>
                </a:lnTo>
                <a:lnTo>
                  <a:pt x="413" y="304"/>
                </a:lnTo>
                <a:lnTo>
                  <a:pt x="472" y="3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1171"/>
          <p:cNvSpPr/>
          <p:nvPr/>
        </p:nvSpPr>
        <p:spPr>
          <a:xfrm>
            <a:off x="6442200" y="3987720"/>
            <a:ext cx="850680" cy="495360"/>
          </a:xfrm>
          <a:custGeom>
            <a:avLst/>
            <a:gdLst>
              <a:gd name="textAreaLeft" fmla="*/ 0 w 850680"/>
              <a:gd name="textAreaRight" fmla="*/ 851040 w 85068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81" h="312">
                <a:moveTo>
                  <a:pt x="497" y="248"/>
                </a:moveTo>
                <a:lnTo>
                  <a:pt x="531" y="200"/>
                </a:lnTo>
                <a:lnTo>
                  <a:pt x="556" y="176"/>
                </a:lnTo>
                <a:lnTo>
                  <a:pt x="581" y="152"/>
                </a:lnTo>
                <a:lnTo>
                  <a:pt x="564" y="120"/>
                </a:lnTo>
                <a:lnTo>
                  <a:pt x="522" y="112"/>
                </a:lnTo>
                <a:lnTo>
                  <a:pt x="480" y="104"/>
                </a:lnTo>
                <a:lnTo>
                  <a:pt x="463" y="80"/>
                </a:lnTo>
                <a:lnTo>
                  <a:pt x="413" y="64"/>
                </a:lnTo>
                <a:lnTo>
                  <a:pt x="413" y="88"/>
                </a:lnTo>
                <a:lnTo>
                  <a:pt x="387" y="104"/>
                </a:lnTo>
                <a:lnTo>
                  <a:pt x="345" y="72"/>
                </a:lnTo>
                <a:lnTo>
                  <a:pt x="354" y="40"/>
                </a:lnTo>
                <a:lnTo>
                  <a:pt x="312" y="40"/>
                </a:lnTo>
                <a:lnTo>
                  <a:pt x="269" y="24"/>
                </a:lnTo>
                <a:lnTo>
                  <a:pt x="227" y="0"/>
                </a:lnTo>
                <a:lnTo>
                  <a:pt x="227" y="24"/>
                </a:lnTo>
                <a:lnTo>
                  <a:pt x="202" y="8"/>
                </a:lnTo>
                <a:lnTo>
                  <a:pt x="168" y="8"/>
                </a:lnTo>
                <a:lnTo>
                  <a:pt x="160" y="40"/>
                </a:lnTo>
                <a:lnTo>
                  <a:pt x="118" y="56"/>
                </a:lnTo>
                <a:lnTo>
                  <a:pt x="76" y="80"/>
                </a:lnTo>
                <a:lnTo>
                  <a:pt x="34" y="88"/>
                </a:lnTo>
                <a:lnTo>
                  <a:pt x="0" y="112"/>
                </a:lnTo>
                <a:lnTo>
                  <a:pt x="34" y="152"/>
                </a:lnTo>
                <a:lnTo>
                  <a:pt x="25" y="176"/>
                </a:lnTo>
                <a:lnTo>
                  <a:pt x="84" y="224"/>
                </a:lnTo>
                <a:lnTo>
                  <a:pt x="160" y="280"/>
                </a:lnTo>
                <a:lnTo>
                  <a:pt x="152" y="288"/>
                </a:lnTo>
                <a:lnTo>
                  <a:pt x="194" y="312"/>
                </a:lnTo>
                <a:lnTo>
                  <a:pt x="244" y="296"/>
                </a:lnTo>
                <a:lnTo>
                  <a:pt x="269" y="248"/>
                </a:lnTo>
                <a:lnTo>
                  <a:pt x="345" y="272"/>
                </a:lnTo>
                <a:lnTo>
                  <a:pt x="430" y="272"/>
                </a:lnTo>
                <a:lnTo>
                  <a:pt x="430" y="280"/>
                </a:lnTo>
                <a:lnTo>
                  <a:pt x="455" y="248"/>
                </a:lnTo>
                <a:lnTo>
                  <a:pt x="497" y="24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Freeform 1172"/>
          <p:cNvSpPr/>
          <p:nvPr/>
        </p:nvSpPr>
        <p:spPr>
          <a:xfrm>
            <a:off x="6664320" y="4762440"/>
            <a:ext cx="407880" cy="317520"/>
          </a:xfrm>
          <a:custGeom>
            <a:avLst/>
            <a:gdLst>
              <a:gd name="textAreaLeft" fmla="*/ 0 w 407880"/>
              <a:gd name="textAreaRight" fmla="*/ 408240 w 4078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78" h="200">
                <a:moveTo>
                  <a:pt x="50" y="192"/>
                </a:moveTo>
                <a:lnTo>
                  <a:pt x="92" y="160"/>
                </a:lnTo>
                <a:lnTo>
                  <a:pt x="117" y="176"/>
                </a:lnTo>
                <a:lnTo>
                  <a:pt x="151" y="184"/>
                </a:lnTo>
                <a:lnTo>
                  <a:pt x="168" y="152"/>
                </a:lnTo>
                <a:lnTo>
                  <a:pt x="202" y="144"/>
                </a:lnTo>
                <a:lnTo>
                  <a:pt x="202" y="104"/>
                </a:lnTo>
                <a:lnTo>
                  <a:pt x="235" y="64"/>
                </a:lnTo>
                <a:lnTo>
                  <a:pt x="278" y="48"/>
                </a:lnTo>
                <a:lnTo>
                  <a:pt x="235" y="0"/>
                </a:lnTo>
                <a:lnTo>
                  <a:pt x="227" y="8"/>
                </a:lnTo>
                <a:lnTo>
                  <a:pt x="227" y="32"/>
                </a:lnTo>
                <a:lnTo>
                  <a:pt x="185" y="40"/>
                </a:lnTo>
                <a:lnTo>
                  <a:pt x="134" y="40"/>
                </a:lnTo>
                <a:lnTo>
                  <a:pt x="101" y="64"/>
                </a:lnTo>
                <a:lnTo>
                  <a:pt x="42" y="64"/>
                </a:lnTo>
                <a:lnTo>
                  <a:pt x="8" y="72"/>
                </a:lnTo>
                <a:lnTo>
                  <a:pt x="0" y="96"/>
                </a:lnTo>
                <a:lnTo>
                  <a:pt x="8" y="152"/>
                </a:lnTo>
                <a:lnTo>
                  <a:pt x="0" y="160"/>
                </a:lnTo>
                <a:lnTo>
                  <a:pt x="25" y="152"/>
                </a:lnTo>
                <a:lnTo>
                  <a:pt x="8" y="176"/>
                </a:lnTo>
                <a:lnTo>
                  <a:pt x="8" y="200"/>
                </a:lnTo>
                <a:lnTo>
                  <a:pt x="16" y="200"/>
                </a:lnTo>
                <a:lnTo>
                  <a:pt x="50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1173"/>
          <p:cNvSpPr/>
          <p:nvPr/>
        </p:nvSpPr>
        <p:spPr>
          <a:xfrm>
            <a:off x="6676920" y="4851360"/>
            <a:ext cx="801720" cy="660600"/>
          </a:xfrm>
          <a:custGeom>
            <a:avLst/>
            <a:gdLst>
              <a:gd name="textAreaLeft" fmla="*/ 0 w 801720"/>
              <a:gd name="textAreaRight" fmla="*/ 802080 w 80172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48" h="416">
                <a:moveTo>
                  <a:pt x="388" y="360"/>
                </a:moveTo>
                <a:lnTo>
                  <a:pt x="379" y="344"/>
                </a:lnTo>
                <a:lnTo>
                  <a:pt x="345" y="328"/>
                </a:lnTo>
                <a:lnTo>
                  <a:pt x="320" y="296"/>
                </a:lnTo>
                <a:lnTo>
                  <a:pt x="270" y="264"/>
                </a:lnTo>
                <a:lnTo>
                  <a:pt x="236" y="216"/>
                </a:lnTo>
                <a:lnTo>
                  <a:pt x="202" y="200"/>
                </a:lnTo>
                <a:lnTo>
                  <a:pt x="219" y="152"/>
                </a:lnTo>
                <a:lnTo>
                  <a:pt x="236" y="152"/>
                </a:lnTo>
                <a:lnTo>
                  <a:pt x="270" y="168"/>
                </a:lnTo>
                <a:lnTo>
                  <a:pt x="278" y="144"/>
                </a:lnTo>
                <a:lnTo>
                  <a:pt x="312" y="136"/>
                </a:lnTo>
                <a:lnTo>
                  <a:pt x="354" y="144"/>
                </a:lnTo>
                <a:lnTo>
                  <a:pt x="404" y="152"/>
                </a:lnTo>
                <a:lnTo>
                  <a:pt x="438" y="144"/>
                </a:lnTo>
                <a:lnTo>
                  <a:pt x="472" y="152"/>
                </a:lnTo>
                <a:lnTo>
                  <a:pt x="522" y="160"/>
                </a:lnTo>
                <a:lnTo>
                  <a:pt x="522" y="128"/>
                </a:lnTo>
                <a:lnTo>
                  <a:pt x="548" y="120"/>
                </a:lnTo>
                <a:lnTo>
                  <a:pt x="522" y="112"/>
                </a:lnTo>
                <a:lnTo>
                  <a:pt x="497" y="80"/>
                </a:lnTo>
                <a:lnTo>
                  <a:pt x="480" y="48"/>
                </a:lnTo>
                <a:lnTo>
                  <a:pt x="421" y="72"/>
                </a:lnTo>
                <a:lnTo>
                  <a:pt x="388" y="72"/>
                </a:lnTo>
                <a:lnTo>
                  <a:pt x="379" y="48"/>
                </a:lnTo>
                <a:lnTo>
                  <a:pt x="345" y="56"/>
                </a:lnTo>
                <a:lnTo>
                  <a:pt x="320" y="40"/>
                </a:lnTo>
                <a:lnTo>
                  <a:pt x="295" y="16"/>
                </a:lnTo>
                <a:lnTo>
                  <a:pt x="261" y="0"/>
                </a:lnTo>
                <a:lnTo>
                  <a:pt x="227" y="8"/>
                </a:lnTo>
                <a:lnTo>
                  <a:pt x="194" y="48"/>
                </a:lnTo>
                <a:lnTo>
                  <a:pt x="194" y="88"/>
                </a:lnTo>
                <a:lnTo>
                  <a:pt x="160" y="96"/>
                </a:lnTo>
                <a:lnTo>
                  <a:pt x="143" y="128"/>
                </a:lnTo>
                <a:lnTo>
                  <a:pt x="109" y="120"/>
                </a:lnTo>
                <a:lnTo>
                  <a:pt x="84" y="104"/>
                </a:lnTo>
                <a:lnTo>
                  <a:pt x="42" y="136"/>
                </a:lnTo>
                <a:lnTo>
                  <a:pt x="8" y="144"/>
                </a:lnTo>
                <a:lnTo>
                  <a:pt x="0" y="144"/>
                </a:lnTo>
                <a:lnTo>
                  <a:pt x="0" y="152"/>
                </a:lnTo>
                <a:lnTo>
                  <a:pt x="34" y="216"/>
                </a:lnTo>
                <a:lnTo>
                  <a:pt x="84" y="152"/>
                </a:lnTo>
                <a:lnTo>
                  <a:pt x="84" y="216"/>
                </a:lnTo>
                <a:lnTo>
                  <a:pt x="126" y="192"/>
                </a:lnTo>
                <a:lnTo>
                  <a:pt x="126" y="240"/>
                </a:lnTo>
                <a:lnTo>
                  <a:pt x="177" y="264"/>
                </a:lnTo>
                <a:lnTo>
                  <a:pt x="160" y="272"/>
                </a:lnTo>
                <a:lnTo>
                  <a:pt x="219" y="312"/>
                </a:lnTo>
                <a:lnTo>
                  <a:pt x="227" y="336"/>
                </a:lnTo>
                <a:lnTo>
                  <a:pt x="253" y="352"/>
                </a:lnTo>
                <a:lnTo>
                  <a:pt x="312" y="360"/>
                </a:lnTo>
                <a:lnTo>
                  <a:pt x="371" y="384"/>
                </a:lnTo>
                <a:lnTo>
                  <a:pt x="312" y="392"/>
                </a:lnTo>
                <a:lnTo>
                  <a:pt x="413" y="416"/>
                </a:lnTo>
                <a:lnTo>
                  <a:pt x="413" y="384"/>
                </a:lnTo>
                <a:lnTo>
                  <a:pt x="388" y="36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1174"/>
          <p:cNvSpPr/>
          <p:nvPr/>
        </p:nvSpPr>
        <p:spPr>
          <a:xfrm>
            <a:off x="6664320" y="4762440"/>
            <a:ext cx="407880" cy="317520"/>
          </a:xfrm>
          <a:custGeom>
            <a:avLst/>
            <a:gdLst>
              <a:gd name="textAreaLeft" fmla="*/ 0 w 407880"/>
              <a:gd name="textAreaRight" fmla="*/ 408240 w 4078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78" h="200">
                <a:moveTo>
                  <a:pt x="50" y="192"/>
                </a:moveTo>
                <a:lnTo>
                  <a:pt x="92" y="160"/>
                </a:lnTo>
                <a:lnTo>
                  <a:pt x="117" y="176"/>
                </a:lnTo>
                <a:lnTo>
                  <a:pt x="151" y="184"/>
                </a:lnTo>
                <a:lnTo>
                  <a:pt x="168" y="152"/>
                </a:lnTo>
                <a:lnTo>
                  <a:pt x="202" y="144"/>
                </a:lnTo>
                <a:lnTo>
                  <a:pt x="202" y="104"/>
                </a:lnTo>
                <a:lnTo>
                  <a:pt x="235" y="64"/>
                </a:lnTo>
                <a:lnTo>
                  <a:pt x="278" y="48"/>
                </a:lnTo>
                <a:lnTo>
                  <a:pt x="235" y="0"/>
                </a:lnTo>
                <a:lnTo>
                  <a:pt x="227" y="8"/>
                </a:lnTo>
                <a:lnTo>
                  <a:pt x="227" y="32"/>
                </a:lnTo>
                <a:lnTo>
                  <a:pt x="185" y="40"/>
                </a:lnTo>
                <a:lnTo>
                  <a:pt x="134" y="40"/>
                </a:lnTo>
                <a:lnTo>
                  <a:pt x="101" y="64"/>
                </a:lnTo>
                <a:lnTo>
                  <a:pt x="42" y="64"/>
                </a:lnTo>
                <a:lnTo>
                  <a:pt x="8" y="72"/>
                </a:lnTo>
                <a:lnTo>
                  <a:pt x="0" y="96"/>
                </a:lnTo>
                <a:lnTo>
                  <a:pt x="8" y="152"/>
                </a:lnTo>
                <a:lnTo>
                  <a:pt x="0" y="160"/>
                </a:lnTo>
                <a:lnTo>
                  <a:pt x="25" y="152"/>
                </a:lnTo>
                <a:lnTo>
                  <a:pt x="8" y="176"/>
                </a:lnTo>
                <a:lnTo>
                  <a:pt x="8" y="200"/>
                </a:lnTo>
                <a:lnTo>
                  <a:pt x="16" y="200"/>
                </a:lnTo>
                <a:lnTo>
                  <a:pt x="50" y="192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1175"/>
          <p:cNvSpPr/>
          <p:nvPr/>
        </p:nvSpPr>
        <p:spPr>
          <a:xfrm>
            <a:off x="6676920" y="4851360"/>
            <a:ext cx="801720" cy="660600"/>
          </a:xfrm>
          <a:custGeom>
            <a:avLst/>
            <a:gdLst>
              <a:gd name="textAreaLeft" fmla="*/ 0 w 801720"/>
              <a:gd name="textAreaRight" fmla="*/ 802080 w 80172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48" h="416">
                <a:moveTo>
                  <a:pt x="388" y="360"/>
                </a:moveTo>
                <a:lnTo>
                  <a:pt x="379" y="344"/>
                </a:lnTo>
                <a:lnTo>
                  <a:pt x="345" y="328"/>
                </a:lnTo>
                <a:lnTo>
                  <a:pt x="320" y="296"/>
                </a:lnTo>
                <a:lnTo>
                  <a:pt x="270" y="264"/>
                </a:lnTo>
                <a:lnTo>
                  <a:pt x="236" y="216"/>
                </a:lnTo>
                <a:lnTo>
                  <a:pt x="202" y="200"/>
                </a:lnTo>
                <a:lnTo>
                  <a:pt x="219" y="152"/>
                </a:lnTo>
                <a:lnTo>
                  <a:pt x="236" y="152"/>
                </a:lnTo>
                <a:lnTo>
                  <a:pt x="270" y="168"/>
                </a:lnTo>
                <a:lnTo>
                  <a:pt x="278" y="144"/>
                </a:lnTo>
                <a:lnTo>
                  <a:pt x="312" y="136"/>
                </a:lnTo>
                <a:lnTo>
                  <a:pt x="354" y="144"/>
                </a:lnTo>
                <a:lnTo>
                  <a:pt x="404" y="152"/>
                </a:lnTo>
                <a:lnTo>
                  <a:pt x="438" y="144"/>
                </a:lnTo>
                <a:lnTo>
                  <a:pt x="472" y="152"/>
                </a:lnTo>
                <a:lnTo>
                  <a:pt x="522" y="160"/>
                </a:lnTo>
                <a:lnTo>
                  <a:pt x="522" y="128"/>
                </a:lnTo>
                <a:lnTo>
                  <a:pt x="548" y="120"/>
                </a:lnTo>
                <a:lnTo>
                  <a:pt x="522" y="112"/>
                </a:lnTo>
                <a:lnTo>
                  <a:pt x="497" y="80"/>
                </a:lnTo>
                <a:lnTo>
                  <a:pt x="480" y="48"/>
                </a:lnTo>
                <a:lnTo>
                  <a:pt x="421" y="72"/>
                </a:lnTo>
                <a:lnTo>
                  <a:pt x="388" y="72"/>
                </a:lnTo>
                <a:lnTo>
                  <a:pt x="379" y="48"/>
                </a:lnTo>
                <a:lnTo>
                  <a:pt x="345" y="56"/>
                </a:lnTo>
                <a:lnTo>
                  <a:pt x="320" y="40"/>
                </a:lnTo>
                <a:lnTo>
                  <a:pt x="295" y="16"/>
                </a:lnTo>
                <a:lnTo>
                  <a:pt x="261" y="0"/>
                </a:lnTo>
                <a:lnTo>
                  <a:pt x="227" y="8"/>
                </a:lnTo>
                <a:lnTo>
                  <a:pt x="194" y="48"/>
                </a:lnTo>
                <a:lnTo>
                  <a:pt x="194" y="88"/>
                </a:lnTo>
                <a:lnTo>
                  <a:pt x="160" y="96"/>
                </a:lnTo>
                <a:lnTo>
                  <a:pt x="143" y="128"/>
                </a:lnTo>
                <a:lnTo>
                  <a:pt x="109" y="120"/>
                </a:lnTo>
                <a:lnTo>
                  <a:pt x="84" y="104"/>
                </a:lnTo>
                <a:lnTo>
                  <a:pt x="42" y="136"/>
                </a:lnTo>
                <a:lnTo>
                  <a:pt x="8" y="144"/>
                </a:lnTo>
                <a:lnTo>
                  <a:pt x="0" y="144"/>
                </a:lnTo>
                <a:lnTo>
                  <a:pt x="0" y="152"/>
                </a:lnTo>
                <a:lnTo>
                  <a:pt x="34" y="216"/>
                </a:lnTo>
                <a:lnTo>
                  <a:pt x="84" y="152"/>
                </a:lnTo>
                <a:lnTo>
                  <a:pt x="84" y="216"/>
                </a:lnTo>
                <a:lnTo>
                  <a:pt x="126" y="192"/>
                </a:lnTo>
                <a:lnTo>
                  <a:pt x="126" y="240"/>
                </a:lnTo>
                <a:lnTo>
                  <a:pt x="177" y="264"/>
                </a:lnTo>
                <a:lnTo>
                  <a:pt x="160" y="272"/>
                </a:lnTo>
                <a:lnTo>
                  <a:pt x="219" y="312"/>
                </a:lnTo>
                <a:lnTo>
                  <a:pt x="227" y="336"/>
                </a:lnTo>
                <a:lnTo>
                  <a:pt x="253" y="352"/>
                </a:lnTo>
                <a:lnTo>
                  <a:pt x="312" y="360"/>
                </a:lnTo>
                <a:lnTo>
                  <a:pt x="371" y="384"/>
                </a:lnTo>
                <a:lnTo>
                  <a:pt x="312" y="392"/>
                </a:lnTo>
                <a:lnTo>
                  <a:pt x="413" y="416"/>
                </a:lnTo>
                <a:lnTo>
                  <a:pt x="413" y="384"/>
                </a:lnTo>
                <a:lnTo>
                  <a:pt x="388" y="36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176"/>
          <p:cNvSpPr/>
          <p:nvPr/>
        </p:nvSpPr>
        <p:spPr>
          <a:xfrm>
            <a:off x="6972480" y="5067360"/>
            <a:ext cx="568080" cy="507960"/>
          </a:xfrm>
          <a:custGeom>
            <a:avLst/>
            <a:gdLst>
              <a:gd name="textAreaLeft" fmla="*/ 0 w 568080"/>
              <a:gd name="textAreaRight" fmla="*/ 568440 w 568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88" h="320">
                <a:moveTo>
                  <a:pt x="287" y="264"/>
                </a:moveTo>
                <a:lnTo>
                  <a:pt x="312" y="248"/>
                </a:lnTo>
                <a:lnTo>
                  <a:pt x="320" y="216"/>
                </a:lnTo>
                <a:lnTo>
                  <a:pt x="346" y="216"/>
                </a:lnTo>
                <a:lnTo>
                  <a:pt x="337" y="192"/>
                </a:lnTo>
                <a:lnTo>
                  <a:pt x="388" y="176"/>
                </a:lnTo>
                <a:lnTo>
                  <a:pt x="362" y="136"/>
                </a:lnTo>
                <a:lnTo>
                  <a:pt x="388" y="120"/>
                </a:lnTo>
                <a:lnTo>
                  <a:pt x="346" y="96"/>
                </a:lnTo>
                <a:lnTo>
                  <a:pt x="337" y="64"/>
                </a:lnTo>
                <a:lnTo>
                  <a:pt x="337" y="32"/>
                </a:lnTo>
                <a:lnTo>
                  <a:pt x="304" y="32"/>
                </a:lnTo>
                <a:lnTo>
                  <a:pt x="295" y="16"/>
                </a:lnTo>
                <a:lnTo>
                  <a:pt x="270" y="16"/>
                </a:lnTo>
                <a:lnTo>
                  <a:pt x="236" y="8"/>
                </a:lnTo>
                <a:lnTo>
                  <a:pt x="202" y="16"/>
                </a:lnTo>
                <a:lnTo>
                  <a:pt x="152" y="8"/>
                </a:lnTo>
                <a:lnTo>
                  <a:pt x="110" y="0"/>
                </a:lnTo>
                <a:lnTo>
                  <a:pt x="76" y="8"/>
                </a:lnTo>
                <a:lnTo>
                  <a:pt x="68" y="32"/>
                </a:lnTo>
                <a:lnTo>
                  <a:pt x="34" y="16"/>
                </a:lnTo>
                <a:lnTo>
                  <a:pt x="17" y="16"/>
                </a:lnTo>
                <a:lnTo>
                  <a:pt x="0" y="64"/>
                </a:lnTo>
                <a:lnTo>
                  <a:pt x="34" y="80"/>
                </a:lnTo>
                <a:lnTo>
                  <a:pt x="68" y="128"/>
                </a:lnTo>
                <a:lnTo>
                  <a:pt x="118" y="160"/>
                </a:lnTo>
                <a:lnTo>
                  <a:pt x="143" y="192"/>
                </a:lnTo>
                <a:lnTo>
                  <a:pt x="177" y="208"/>
                </a:lnTo>
                <a:lnTo>
                  <a:pt x="186" y="224"/>
                </a:lnTo>
                <a:lnTo>
                  <a:pt x="211" y="248"/>
                </a:lnTo>
                <a:lnTo>
                  <a:pt x="211" y="280"/>
                </a:lnTo>
                <a:lnTo>
                  <a:pt x="295" y="320"/>
                </a:lnTo>
                <a:lnTo>
                  <a:pt x="295" y="280"/>
                </a:lnTo>
                <a:lnTo>
                  <a:pt x="287" y="264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177"/>
          <p:cNvSpPr/>
          <p:nvPr/>
        </p:nvSpPr>
        <p:spPr>
          <a:xfrm>
            <a:off x="7008840" y="4381560"/>
            <a:ext cx="839880" cy="584280"/>
          </a:xfrm>
          <a:custGeom>
            <a:avLst/>
            <a:gdLst>
              <a:gd name="textAreaLeft" fmla="*/ 0 w 839880"/>
              <a:gd name="textAreaRight" fmla="*/ 840240 w 83988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573" h="368">
                <a:moveTo>
                  <a:pt x="295" y="320"/>
                </a:moveTo>
                <a:lnTo>
                  <a:pt x="329" y="304"/>
                </a:lnTo>
                <a:lnTo>
                  <a:pt x="380" y="304"/>
                </a:lnTo>
                <a:lnTo>
                  <a:pt x="413" y="288"/>
                </a:lnTo>
                <a:lnTo>
                  <a:pt x="439" y="272"/>
                </a:lnTo>
                <a:lnTo>
                  <a:pt x="455" y="264"/>
                </a:lnTo>
                <a:lnTo>
                  <a:pt x="464" y="224"/>
                </a:lnTo>
                <a:lnTo>
                  <a:pt x="472" y="200"/>
                </a:lnTo>
                <a:lnTo>
                  <a:pt x="498" y="168"/>
                </a:lnTo>
                <a:lnTo>
                  <a:pt x="523" y="112"/>
                </a:lnTo>
                <a:lnTo>
                  <a:pt x="548" y="72"/>
                </a:lnTo>
                <a:lnTo>
                  <a:pt x="573" y="48"/>
                </a:lnTo>
                <a:lnTo>
                  <a:pt x="548" y="24"/>
                </a:lnTo>
                <a:lnTo>
                  <a:pt x="514" y="0"/>
                </a:lnTo>
                <a:lnTo>
                  <a:pt x="472" y="8"/>
                </a:lnTo>
                <a:lnTo>
                  <a:pt x="447" y="0"/>
                </a:lnTo>
                <a:lnTo>
                  <a:pt x="405" y="8"/>
                </a:lnTo>
                <a:lnTo>
                  <a:pt x="371" y="8"/>
                </a:lnTo>
                <a:lnTo>
                  <a:pt x="329" y="56"/>
                </a:lnTo>
                <a:lnTo>
                  <a:pt x="287" y="48"/>
                </a:lnTo>
                <a:lnTo>
                  <a:pt x="279" y="64"/>
                </a:lnTo>
                <a:lnTo>
                  <a:pt x="228" y="80"/>
                </a:lnTo>
                <a:lnTo>
                  <a:pt x="228" y="112"/>
                </a:lnTo>
                <a:lnTo>
                  <a:pt x="110" y="128"/>
                </a:lnTo>
                <a:lnTo>
                  <a:pt x="85" y="112"/>
                </a:lnTo>
                <a:lnTo>
                  <a:pt x="68" y="104"/>
                </a:lnTo>
                <a:lnTo>
                  <a:pt x="68" y="128"/>
                </a:lnTo>
                <a:lnTo>
                  <a:pt x="26" y="144"/>
                </a:lnTo>
                <a:lnTo>
                  <a:pt x="26" y="184"/>
                </a:lnTo>
                <a:lnTo>
                  <a:pt x="17" y="224"/>
                </a:lnTo>
                <a:lnTo>
                  <a:pt x="0" y="240"/>
                </a:lnTo>
                <a:lnTo>
                  <a:pt x="43" y="288"/>
                </a:lnTo>
                <a:lnTo>
                  <a:pt x="34" y="296"/>
                </a:lnTo>
                <a:lnTo>
                  <a:pt x="68" y="312"/>
                </a:lnTo>
                <a:lnTo>
                  <a:pt x="93" y="336"/>
                </a:lnTo>
                <a:lnTo>
                  <a:pt x="118" y="352"/>
                </a:lnTo>
                <a:lnTo>
                  <a:pt x="152" y="344"/>
                </a:lnTo>
                <a:lnTo>
                  <a:pt x="161" y="368"/>
                </a:lnTo>
                <a:lnTo>
                  <a:pt x="194" y="368"/>
                </a:lnTo>
                <a:lnTo>
                  <a:pt x="253" y="344"/>
                </a:lnTo>
                <a:lnTo>
                  <a:pt x="262" y="344"/>
                </a:lnTo>
                <a:lnTo>
                  <a:pt x="270" y="320"/>
                </a:lnTo>
                <a:lnTo>
                  <a:pt x="295" y="32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178"/>
          <p:cNvSpPr/>
          <p:nvPr/>
        </p:nvSpPr>
        <p:spPr>
          <a:xfrm>
            <a:off x="6972480" y="5067360"/>
            <a:ext cx="568080" cy="507960"/>
          </a:xfrm>
          <a:custGeom>
            <a:avLst/>
            <a:gdLst>
              <a:gd name="textAreaLeft" fmla="*/ 0 w 568080"/>
              <a:gd name="textAreaRight" fmla="*/ 568440 w 568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88" h="320">
                <a:moveTo>
                  <a:pt x="287" y="264"/>
                </a:moveTo>
                <a:lnTo>
                  <a:pt x="312" y="248"/>
                </a:lnTo>
                <a:lnTo>
                  <a:pt x="320" y="216"/>
                </a:lnTo>
                <a:lnTo>
                  <a:pt x="346" y="216"/>
                </a:lnTo>
                <a:lnTo>
                  <a:pt x="337" y="192"/>
                </a:lnTo>
                <a:lnTo>
                  <a:pt x="388" y="176"/>
                </a:lnTo>
                <a:lnTo>
                  <a:pt x="362" y="136"/>
                </a:lnTo>
                <a:lnTo>
                  <a:pt x="388" y="120"/>
                </a:lnTo>
                <a:lnTo>
                  <a:pt x="346" y="96"/>
                </a:lnTo>
                <a:lnTo>
                  <a:pt x="337" y="64"/>
                </a:lnTo>
                <a:lnTo>
                  <a:pt x="337" y="32"/>
                </a:lnTo>
                <a:lnTo>
                  <a:pt x="304" y="32"/>
                </a:lnTo>
                <a:lnTo>
                  <a:pt x="295" y="16"/>
                </a:lnTo>
                <a:lnTo>
                  <a:pt x="270" y="16"/>
                </a:lnTo>
                <a:lnTo>
                  <a:pt x="236" y="8"/>
                </a:lnTo>
                <a:lnTo>
                  <a:pt x="202" y="16"/>
                </a:lnTo>
                <a:lnTo>
                  <a:pt x="152" y="8"/>
                </a:lnTo>
                <a:lnTo>
                  <a:pt x="110" y="0"/>
                </a:lnTo>
                <a:lnTo>
                  <a:pt x="76" y="8"/>
                </a:lnTo>
                <a:lnTo>
                  <a:pt x="68" y="32"/>
                </a:lnTo>
                <a:lnTo>
                  <a:pt x="34" y="16"/>
                </a:lnTo>
                <a:lnTo>
                  <a:pt x="17" y="16"/>
                </a:lnTo>
                <a:lnTo>
                  <a:pt x="0" y="64"/>
                </a:lnTo>
                <a:lnTo>
                  <a:pt x="34" y="80"/>
                </a:lnTo>
                <a:lnTo>
                  <a:pt x="68" y="128"/>
                </a:lnTo>
                <a:lnTo>
                  <a:pt x="118" y="160"/>
                </a:lnTo>
                <a:lnTo>
                  <a:pt x="143" y="192"/>
                </a:lnTo>
                <a:lnTo>
                  <a:pt x="177" y="208"/>
                </a:lnTo>
                <a:lnTo>
                  <a:pt x="186" y="224"/>
                </a:lnTo>
                <a:lnTo>
                  <a:pt x="211" y="248"/>
                </a:lnTo>
                <a:lnTo>
                  <a:pt x="211" y="280"/>
                </a:lnTo>
                <a:lnTo>
                  <a:pt x="295" y="320"/>
                </a:lnTo>
                <a:lnTo>
                  <a:pt x="295" y="280"/>
                </a:lnTo>
                <a:lnTo>
                  <a:pt x="287" y="26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179"/>
          <p:cNvSpPr/>
          <p:nvPr/>
        </p:nvSpPr>
        <p:spPr>
          <a:xfrm>
            <a:off x="7008840" y="4381560"/>
            <a:ext cx="839880" cy="584280"/>
          </a:xfrm>
          <a:custGeom>
            <a:avLst/>
            <a:gdLst>
              <a:gd name="textAreaLeft" fmla="*/ 0 w 839880"/>
              <a:gd name="textAreaRight" fmla="*/ 840240 w 83988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573" h="368">
                <a:moveTo>
                  <a:pt x="295" y="320"/>
                </a:moveTo>
                <a:lnTo>
                  <a:pt x="329" y="304"/>
                </a:lnTo>
                <a:lnTo>
                  <a:pt x="380" y="304"/>
                </a:lnTo>
                <a:lnTo>
                  <a:pt x="413" y="288"/>
                </a:lnTo>
                <a:lnTo>
                  <a:pt x="439" y="272"/>
                </a:lnTo>
                <a:lnTo>
                  <a:pt x="455" y="264"/>
                </a:lnTo>
                <a:lnTo>
                  <a:pt x="464" y="224"/>
                </a:lnTo>
                <a:lnTo>
                  <a:pt x="472" y="200"/>
                </a:lnTo>
                <a:lnTo>
                  <a:pt x="498" y="168"/>
                </a:lnTo>
                <a:lnTo>
                  <a:pt x="523" y="112"/>
                </a:lnTo>
                <a:lnTo>
                  <a:pt x="548" y="72"/>
                </a:lnTo>
                <a:lnTo>
                  <a:pt x="573" y="48"/>
                </a:lnTo>
                <a:lnTo>
                  <a:pt x="548" y="24"/>
                </a:lnTo>
                <a:lnTo>
                  <a:pt x="514" y="0"/>
                </a:lnTo>
                <a:lnTo>
                  <a:pt x="472" y="8"/>
                </a:lnTo>
                <a:lnTo>
                  <a:pt x="447" y="0"/>
                </a:lnTo>
                <a:lnTo>
                  <a:pt x="405" y="8"/>
                </a:lnTo>
                <a:lnTo>
                  <a:pt x="371" y="8"/>
                </a:lnTo>
                <a:lnTo>
                  <a:pt x="329" y="56"/>
                </a:lnTo>
                <a:lnTo>
                  <a:pt x="287" y="48"/>
                </a:lnTo>
                <a:lnTo>
                  <a:pt x="279" y="64"/>
                </a:lnTo>
                <a:lnTo>
                  <a:pt x="228" y="80"/>
                </a:lnTo>
                <a:lnTo>
                  <a:pt x="228" y="112"/>
                </a:lnTo>
                <a:lnTo>
                  <a:pt x="110" y="128"/>
                </a:lnTo>
                <a:lnTo>
                  <a:pt x="85" y="112"/>
                </a:lnTo>
                <a:lnTo>
                  <a:pt x="68" y="104"/>
                </a:lnTo>
                <a:lnTo>
                  <a:pt x="68" y="128"/>
                </a:lnTo>
                <a:lnTo>
                  <a:pt x="26" y="144"/>
                </a:lnTo>
                <a:lnTo>
                  <a:pt x="26" y="184"/>
                </a:lnTo>
                <a:lnTo>
                  <a:pt x="17" y="224"/>
                </a:lnTo>
                <a:lnTo>
                  <a:pt x="0" y="240"/>
                </a:lnTo>
                <a:lnTo>
                  <a:pt x="43" y="288"/>
                </a:lnTo>
                <a:lnTo>
                  <a:pt x="34" y="296"/>
                </a:lnTo>
                <a:lnTo>
                  <a:pt x="68" y="312"/>
                </a:lnTo>
                <a:lnTo>
                  <a:pt x="93" y="336"/>
                </a:lnTo>
                <a:lnTo>
                  <a:pt x="118" y="352"/>
                </a:lnTo>
                <a:lnTo>
                  <a:pt x="152" y="344"/>
                </a:lnTo>
                <a:lnTo>
                  <a:pt x="161" y="368"/>
                </a:lnTo>
                <a:lnTo>
                  <a:pt x="194" y="368"/>
                </a:lnTo>
                <a:lnTo>
                  <a:pt x="253" y="344"/>
                </a:lnTo>
                <a:lnTo>
                  <a:pt x="262" y="344"/>
                </a:lnTo>
                <a:lnTo>
                  <a:pt x="270" y="320"/>
                </a:lnTo>
                <a:lnTo>
                  <a:pt x="295" y="32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1180"/>
          <p:cNvSpPr/>
          <p:nvPr/>
        </p:nvSpPr>
        <p:spPr>
          <a:xfrm>
            <a:off x="7675560" y="4381560"/>
            <a:ext cx="38160" cy="12600"/>
          </a:xfrm>
          <a:custGeom>
            <a:avLst/>
            <a:gdLst>
              <a:gd name="textAreaLeft" fmla="*/ 0 w 38160"/>
              <a:gd name="textAreaRight" fmla="*/ 38160 w 38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6" h="8">
                <a:moveTo>
                  <a:pt x="17" y="8"/>
                </a:moveTo>
                <a:lnTo>
                  <a:pt x="26" y="8"/>
                </a:lnTo>
                <a:lnTo>
                  <a:pt x="0" y="0"/>
                </a:lnTo>
                <a:lnTo>
                  <a:pt x="17" y="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1181"/>
          <p:cNvSpPr/>
          <p:nvPr/>
        </p:nvSpPr>
        <p:spPr>
          <a:xfrm>
            <a:off x="7713720" y="4394160"/>
            <a:ext cx="25200" cy="1800"/>
          </a:xfrm>
          <a:custGeom>
            <a:avLst/>
            <a:gdLst>
              <a:gd name="textAreaLeft" fmla="*/ 0 w 25200"/>
              <a:gd name="textAreaRight" fmla="*/ 25560 w 252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7" h="1588">
                <a:moveTo>
                  <a:pt x="17" y="0"/>
                </a:moveTo>
                <a:lnTo>
                  <a:pt x="0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182"/>
          <p:cNvSpPr/>
          <p:nvPr/>
        </p:nvSpPr>
        <p:spPr>
          <a:xfrm flipV="1">
            <a:off x="7701120" y="4381200"/>
            <a:ext cx="378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183"/>
          <p:cNvSpPr/>
          <p:nvPr/>
        </p:nvSpPr>
        <p:spPr>
          <a:xfrm flipV="1">
            <a:off x="7701120" y="4381200"/>
            <a:ext cx="378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1184"/>
          <p:cNvSpPr/>
          <p:nvPr/>
        </p:nvSpPr>
        <p:spPr>
          <a:xfrm>
            <a:off x="7664400" y="43815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" h="1588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1185"/>
          <p:cNvSpPr/>
          <p:nvPr/>
        </p:nvSpPr>
        <p:spPr>
          <a:xfrm>
            <a:off x="7292880" y="4229280"/>
            <a:ext cx="38160" cy="25200"/>
          </a:xfrm>
          <a:custGeom>
            <a:avLst/>
            <a:gdLst>
              <a:gd name="textAreaLeft" fmla="*/ 0 w 38160"/>
              <a:gd name="textAreaRight" fmla="*/ 38160 w 381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6" h="16">
                <a:moveTo>
                  <a:pt x="26" y="16"/>
                </a:moveTo>
                <a:lnTo>
                  <a:pt x="0" y="0"/>
                </a:lnTo>
                <a:lnTo>
                  <a:pt x="0" y="8"/>
                </a:lnTo>
                <a:lnTo>
                  <a:pt x="17" y="16"/>
                </a:lnTo>
                <a:lnTo>
                  <a:pt x="26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1186"/>
          <p:cNvSpPr/>
          <p:nvPr/>
        </p:nvSpPr>
        <p:spPr>
          <a:xfrm>
            <a:off x="7664400" y="43815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" h="1588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1187"/>
          <p:cNvSpPr/>
          <p:nvPr/>
        </p:nvSpPr>
        <p:spPr>
          <a:xfrm>
            <a:off x="7292880" y="4229280"/>
            <a:ext cx="38160" cy="25200"/>
          </a:xfrm>
          <a:custGeom>
            <a:avLst/>
            <a:gdLst>
              <a:gd name="textAreaLeft" fmla="*/ 0 w 38160"/>
              <a:gd name="textAreaRight" fmla="*/ 38160 w 381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6" h="16">
                <a:moveTo>
                  <a:pt x="26" y="16"/>
                </a:moveTo>
                <a:lnTo>
                  <a:pt x="0" y="0"/>
                </a:lnTo>
                <a:lnTo>
                  <a:pt x="0" y="8"/>
                </a:lnTo>
                <a:lnTo>
                  <a:pt x="17" y="16"/>
                </a:lnTo>
                <a:lnTo>
                  <a:pt x="26" y="1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1188"/>
          <p:cNvSpPr/>
          <p:nvPr/>
        </p:nvSpPr>
        <p:spPr>
          <a:xfrm>
            <a:off x="7072200" y="4216320"/>
            <a:ext cx="703440" cy="368280"/>
          </a:xfrm>
          <a:custGeom>
            <a:avLst/>
            <a:gdLst>
              <a:gd name="textAreaLeft" fmla="*/ 0 w 703440"/>
              <a:gd name="textAreaRight" fmla="*/ 703800 w 7034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480" h="232">
                <a:moveTo>
                  <a:pt x="421" y="8"/>
                </a:moveTo>
                <a:lnTo>
                  <a:pt x="396" y="0"/>
                </a:lnTo>
                <a:lnTo>
                  <a:pt x="353" y="0"/>
                </a:lnTo>
                <a:lnTo>
                  <a:pt x="328" y="16"/>
                </a:lnTo>
                <a:lnTo>
                  <a:pt x="294" y="16"/>
                </a:lnTo>
                <a:lnTo>
                  <a:pt x="269" y="40"/>
                </a:lnTo>
                <a:lnTo>
                  <a:pt x="244" y="40"/>
                </a:lnTo>
                <a:lnTo>
                  <a:pt x="236" y="24"/>
                </a:lnTo>
                <a:lnTo>
                  <a:pt x="210" y="0"/>
                </a:lnTo>
                <a:lnTo>
                  <a:pt x="177" y="24"/>
                </a:lnTo>
                <a:lnTo>
                  <a:pt x="168" y="24"/>
                </a:lnTo>
                <a:lnTo>
                  <a:pt x="151" y="16"/>
                </a:lnTo>
                <a:lnTo>
                  <a:pt x="126" y="32"/>
                </a:lnTo>
                <a:lnTo>
                  <a:pt x="101" y="56"/>
                </a:lnTo>
                <a:lnTo>
                  <a:pt x="67" y="104"/>
                </a:lnTo>
                <a:lnTo>
                  <a:pt x="25" y="104"/>
                </a:lnTo>
                <a:lnTo>
                  <a:pt x="0" y="136"/>
                </a:lnTo>
                <a:lnTo>
                  <a:pt x="0" y="176"/>
                </a:lnTo>
                <a:lnTo>
                  <a:pt x="33" y="200"/>
                </a:lnTo>
                <a:lnTo>
                  <a:pt x="25" y="208"/>
                </a:lnTo>
                <a:lnTo>
                  <a:pt x="42" y="216"/>
                </a:lnTo>
                <a:lnTo>
                  <a:pt x="67" y="232"/>
                </a:lnTo>
                <a:lnTo>
                  <a:pt x="185" y="216"/>
                </a:lnTo>
                <a:lnTo>
                  <a:pt x="185" y="184"/>
                </a:lnTo>
                <a:lnTo>
                  <a:pt x="236" y="168"/>
                </a:lnTo>
                <a:lnTo>
                  <a:pt x="244" y="152"/>
                </a:lnTo>
                <a:lnTo>
                  <a:pt x="286" y="160"/>
                </a:lnTo>
                <a:lnTo>
                  <a:pt x="328" y="112"/>
                </a:lnTo>
                <a:lnTo>
                  <a:pt x="362" y="112"/>
                </a:lnTo>
                <a:lnTo>
                  <a:pt x="404" y="104"/>
                </a:lnTo>
                <a:lnTo>
                  <a:pt x="412" y="104"/>
                </a:lnTo>
                <a:lnTo>
                  <a:pt x="438" y="112"/>
                </a:lnTo>
                <a:lnTo>
                  <a:pt x="455" y="112"/>
                </a:lnTo>
                <a:lnTo>
                  <a:pt x="463" y="64"/>
                </a:lnTo>
                <a:lnTo>
                  <a:pt x="480" y="16"/>
                </a:lnTo>
                <a:lnTo>
                  <a:pt x="421" y="8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1189"/>
          <p:cNvSpPr/>
          <p:nvPr/>
        </p:nvSpPr>
        <p:spPr>
          <a:xfrm>
            <a:off x="7392960" y="4851360"/>
            <a:ext cx="641520" cy="800280"/>
          </a:xfrm>
          <a:custGeom>
            <a:avLst/>
            <a:gdLst>
              <a:gd name="textAreaLeft" fmla="*/ 0 w 641520"/>
              <a:gd name="textAreaRight" fmla="*/ 641880 w 6415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438" h="504">
                <a:moveTo>
                  <a:pt x="126" y="424"/>
                </a:moveTo>
                <a:lnTo>
                  <a:pt x="160" y="440"/>
                </a:lnTo>
                <a:lnTo>
                  <a:pt x="185" y="440"/>
                </a:lnTo>
                <a:lnTo>
                  <a:pt x="202" y="456"/>
                </a:lnTo>
                <a:lnTo>
                  <a:pt x="236" y="496"/>
                </a:lnTo>
                <a:lnTo>
                  <a:pt x="252" y="504"/>
                </a:lnTo>
                <a:lnTo>
                  <a:pt x="261" y="472"/>
                </a:lnTo>
                <a:lnTo>
                  <a:pt x="286" y="464"/>
                </a:lnTo>
                <a:lnTo>
                  <a:pt x="311" y="456"/>
                </a:lnTo>
                <a:lnTo>
                  <a:pt x="370" y="432"/>
                </a:lnTo>
                <a:lnTo>
                  <a:pt x="413" y="432"/>
                </a:lnTo>
                <a:lnTo>
                  <a:pt x="421" y="400"/>
                </a:lnTo>
                <a:lnTo>
                  <a:pt x="404" y="392"/>
                </a:lnTo>
                <a:lnTo>
                  <a:pt x="404" y="360"/>
                </a:lnTo>
                <a:lnTo>
                  <a:pt x="421" y="352"/>
                </a:lnTo>
                <a:lnTo>
                  <a:pt x="438" y="312"/>
                </a:lnTo>
                <a:lnTo>
                  <a:pt x="396" y="280"/>
                </a:lnTo>
                <a:lnTo>
                  <a:pt x="379" y="248"/>
                </a:lnTo>
                <a:lnTo>
                  <a:pt x="370" y="216"/>
                </a:lnTo>
                <a:lnTo>
                  <a:pt x="387" y="184"/>
                </a:lnTo>
                <a:lnTo>
                  <a:pt x="370" y="176"/>
                </a:lnTo>
                <a:lnTo>
                  <a:pt x="370" y="136"/>
                </a:lnTo>
                <a:lnTo>
                  <a:pt x="328" y="160"/>
                </a:lnTo>
                <a:lnTo>
                  <a:pt x="286" y="144"/>
                </a:lnTo>
                <a:lnTo>
                  <a:pt x="244" y="136"/>
                </a:lnTo>
                <a:lnTo>
                  <a:pt x="261" y="104"/>
                </a:lnTo>
                <a:lnTo>
                  <a:pt x="219" y="88"/>
                </a:lnTo>
                <a:lnTo>
                  <a:pt x="185" y="64"/>
                </a:lnTo>
                <a:lnTo>
                  <a:pt x="177" y="40"/>
                </a:lnTo>
                <a:lnTo>
                  <a:pt x="143" y="16"/>
                </a:lnTo>
                <a:lnTo>
                  <a:pt x="126" y="0"/>
                </a:lnTo>
                <a:lnTo>
                  <a:pt x="118" y="8"/>
                </a:lnTo>
                <a:lnTo>
                  <a:pt x="67" y="8"/>
                </a:lnTo>
                <a:lnTo>
                  <a:pt x="33" y="24"/>
                </a:lnTo>
                <a:lnTo>
                  <a:pt x="8" y="24"/>
                </a:lnTo>
                <a:lnTo>
                  <a:pt x="0" y="48"/>
                </a:lnTo>
                <a:lnTo>
                  <a:pt x="8" y="80"/>
                </a:lnTo>
                <a:lnTo>
                  <a:pt x="33" y="112"/>
                </a:lnTo>
                <a:lnTo>
                  <a:pt x="59" y="120"/>
                </a:lnTo>
                <a:lnTo>
                  <a:pt x="33" y="128"/>
                </a:lnTo>
                <a:lnTo>
                  <a:pt x="33" y="160"/>
                </a:lnTo>
                <a:lnTo>
                  <a:pt x="8" y="152"/>
                </a:lnTo>
                <a:lnTo>
                  <a:pt x="17" y="168"/>
                </a:lnTo>
                <a:lnTo>
                  <a:pt x="50" y="168"/>
                </a:lnTo>
                <a:lnTo>
                  <a:pt x="50" y="200"/>
                </a:lnTo>
                <a:lnTo>
                  <a:pt x="59" y="232"/>
                </a:lnTo>
                <a:lnTo>
                  <a:pt x="101" y="256"/>
                </a:lnTo>
                <a:lnTo>
                  <a:pt x="75" y="272"/>
                </a:lnTo>
                <a:lnTo>
                  <a:pt x="101" y="312"/>
                </a:lnTo>
                <a:lnTo>
                  <a:pt x="50" y="328"/>
                </a:lnTo>
                <a:lnTo>
                  <a:pt x="59" y="352"/>
                </a:lnTo>
                <a:lnTo>
                  <a:pt x="33" y="352"/>
                </a:lnTo>
                <a:lnTo>
                  <a:pt x="25" y="384"/>
                </a:lnTo>
                <a:lnTo>
                  <a:pt x="0" y="400"/>
                </a:lnTo>
                <a:lnTo>
                  <a:pt x="8" y="416"/>
                </a:lnTo>
                <a:lnTo>
                  <a:pt x="8" y="456"/>
                </a:lnTo>
                <a:lnTo>
                  <a:pt x="17" y="456"/>
                </a:lnTo>
                <a:lnTo>
                  <a:pt x="101" y="504"/>
                </a:lnTo>
                <a:lnTo>
                  <a:pt x="101" y="496"/>
                </a:lnTo>
                <a:lnTo>
                  <a:pt x="126" y="424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1190"/>
          <p:cNvSpPr/>
          <p:nvPr/>
        </p:nvSpPr>
        <p:spPr>
          <a:xfrm>
            <a:off x="7072200" y="4216320"/>
            <a:ext cx="703440" cy="368280"/>
          </a:xfrm>
          <a:custGeom>
            <a:avLst/>
            <a:gdLst>
              <a:gd name="textAreaLeft" fmla="*/ 0 w 703440"/>
              <a:gd name="textAreaRight" fmla="*/ 703800 w 7034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480" h="232">
                <a:moveTo>
                  <a:pt x="421" y="8"/>
                </a:moveTo>
                <a:lnTo>
                  <a:pt x="396" y="0"/>
                </a:lnTo>
                <a:lnTo>
                  <a:pt x="353" y="0"/>
                </a:lnTo>
                <a:lnTo>
                  <a:pt x="328" y="16"/>
                </a:lnTo>
                <a:lnTo>
                  <a:pt x="294" y="16"/>
                </a:lnTo>
                <a:lnTo>
                  <a:pt x="269" y="40"/>
                </a:lnTo>
                <a:lnTo>
                  <a:pt x="244" y="40"/>
                </a:lnTo>
                <a:lnTo>
                  <a:pt x="236" y="24"/>
                </a:lnTo>
                <a:lnTo>
                  <a:pt x="210" y="0"/>
                </a:lnTo>
                <a:lnTo>
                  <a:pt x="177" y="24"/>
                </a:lnTo>
                <a:lnTo>
                  <a:pt x="168" y="24"/>
                </a:lnTo>
                <a:lnTo>
                  <a:pt x="151" y="16"/>
                </a:lnTo>
                <a:lnTo>
                  <a:pt x="126" y="32"/>
                </a:lnTo>
                <a:lnTo>
                  <a:pt x="101" y="56"/>
                </a:lnTo>
                <a:lnTo>
                  <a:pt x="67" y="104"/>
                </a:lnTo>
                <a:lnTo>
                  <a:pt x="25" y="104"/>
                </a:lnTo>
                <a:lnTo>
                  <a:pt x="0" y="136"/>
                </a:lnTo>
                <a:lnTo>
                  <a:pt x="0" y="176"/>
                </a:lnTo>
                <a:lnTo>
                  <a:pt x="33" y="200"/>
                </a:lnTo>
                <a:lnTo>
                  <a:pt x="25" y="208"/>
                </a:lnTo>
                <a:lnTo>
                  <a:pt x="42" y="216"/>
                </a:lnTo>
                <a:lnTo>
                  <a:pt x="67" y="232"/>
                </a:lnTo>
                <a:lnTo>
                  <a:pt x="185" y="216"/>
                </a:lnTo>
                <a:lnTo>
                  <a:pt x="185" y="184"/>
                </a:lnTo>
                <a:lnTo>
                  <a:pt x="236" y="168"/>
                </a:lnTo>
                <a:lnTo>
                  <a:pt x="244" y="152"/>
                </a:lnTo>
                <a:lnTo>
                  <a:pt x="286" y="160"/>
                </a:lnTo>
                <a:lnTo>
                  <a:pt x="328" y="112"/>
                </a:lnTo>
                <a:lnTo>
                  <a:pt x="362" y="112"/>
                </a:lnTo>
                <a:lnTo>
                  <a:pt x="404" y="104"/>
                </a:lnTo>
                <a:lnTo>
                  <a:pt x="404" y="104"/>
                </a:lnTo>
                <a:lnTo>
                  <a:pt x="412" y="104"/>
                </a:lnTo>
                <a:lnTo>
                  <a:pt x="438" y="112"/>
                </a:lnTo>
                <a:lnTo>
                  <a:pt x="455" y="112"/>
                </a:lnTo>
                <a:lnTo>
                  <a:pt x="463" y="64"/>
                </a:lnTo>
                <a:lnTo>
                  <a:pt x="480" y="16"/>
                </a:lnTo>
                <a:lnTo>
                  <a:pt x="421" y="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1191"/>
          <p:cNvSpPr/>
          <p:nvPr/>
        </p:nvSpPr>
        <p:spPr>
          <a:xfrm>
            <a:off x="7392960" y="4851360"/>
            <a:ext cx="641520" cy="800280"/>
          </a:xfrm>
          <a:custGeom>
            <a:avLst/>
            <a:gdLst>
              <a:gd name="textAreaLeft" fmla="*/ 0 w 641520"/>
              <a:gd name="textAreaRight" fmla="*/ 641880 w 6415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438" h="504">
                <a:moveTo>
                  <a:pt x="126" y="424"/>
                </a:moveTo>
                <a:lnTo>
                  <a:pt x="160" y="440"/>
                </a:lnTo>
                <a:lnTo>
                  <a:pt x="185" y="440"/>
                </a:lnTo>
                <a:lnTo>
                  <a:pt x="202" y="456"/>
                </a:lnTo>
                <a:lnTo>
                  <a:pt x="236" y="496"/>
                </a:lnTo>
                <a:lnTo>
                  <a:pt x="252" y="504"/>
                </a:lnTo>
                <a:lnTo>
                  <a:pt x="261" y="472"/>
                </a:lnTo>
                <a:lnTo>
                  <a:pt x="286" y="464"/>
                </a:lnTo>
                <a:lnTo>
                  <a:pt x="311" y="456"/>
                </a:lnTo>
                <a:lnTo>
                  <a:pt x="370" y="432"/>
                </a:lnTo>
                <a:lnTo>
                  <a:pt x="413" y="432"/>
                </a:lnTo>
                <a:lnTo>
                  <a:pt x="421" y="400"/>
                </a:lnTo>
                <a:lnTo>
                  <a:pt x="404" y="392"/>
                </a:lnTo>
                <a:lnTo>
                  <a:pt x="404" y="360"/>
                </a:lnTo>
                <a:lnTo>
                  <a:pt x="421" y="352"/>
                </a:lnTo>
                <a:lnTo>
                  <a:pt x="438" y="312"/>
                </a:lnTo>
                <a:lnTo>
                  <a:pt x="396" y="280"/>
                </a:lnTo>
                <a:lnTo>
                  <a:pt x="379" y="248"/>
                </a:lnTo>
                <a:lnTo>
                  <a:pt x="370" y="216"/>
                </a:lnTo>
                <a:lnTo>
                  <a:pt x="387" y="184"/>
                </a:lnTo>
                <a:lnTo>
                  <a:pt x="370" y="176"/>
                </a:lnTo>
                <a:lnTo>
                  <a:pt x="370" y="136"/>
                </a:lnTo>
                <a:lnTo>
                  <a:pt x="328" y="160"/>
                </a:lnTo>
                <a:lnTo>
                  <a:pt x="286" y="144"/>
                </a:lnTo>
                <a:lnTo>
                  <a:pt x="244" y="136"/>
                </a:lnTo>
                <a:lnTo>
                  <a:pt x="261" y="104"/>
                </a:lnTo>
                <a:lnTo>
                  <a:pt x="219" y="88"/>
                </a:lnTo>
                <a:lnTo>
                  <a:pt x="185" y="64"/>
                </a:lnTo>
                <a:lnTo>
                  <a:pt x="177" y="40"/>
                </a:lnTo>
                <a:lnTo>
                  <a:pt x="143" y="16"/>
                </a:lnTo>
                <a:lnTo>
                  <a:pt x="126" y="0"/>
                </a:lnTo>
                <a:lnTo>
                  <a:pt x="118" y="8"/>
                </a:lnTo>
                <a:lnTo>
                  <a:pt x="67" y="8"/>
                </a:lnTo>
                <a:lnTo>
                  <a:pt x="33" y="24"/>
                </a:lnTo>
                <a:lnTo>
                  <a:pt x="8" y="24"/>
                </a:lnTo>
                <a:lnTo>
                  <a:pt x="0" y="48"/>
                </a:lnTo>
                <a:lnTo>
                  <a:pt x="8" y="80"/>
                </a:lnTo>
                <a:lnTo>
                  <a:pt x="33" y="112"/>
                </a:lnTo>
                <a:lnTo>
                  <a:pt x="59" y="120"/>
                </a:lnTo>
                <a:lnTo>
                  <a:pt x="33" y="128"/>
                </a:lnTo>
                <a:lnTo>
                  <a:pt x="33" y="160"/>
                </a:lnTo>
                <a:lnTo>
                  <a:pt x="8" y="152"/>
                </a:lnTo>
                <a:lnTo>
                  <a:pt x="17" y="168"/>
                </a:lnTo>
                <a:lnTo>
                  <a:pt x="50" y="168"/>
                </a:lnTo>
                <a:lnTo>
                  <a:pt x="50" y="200"/>
                </a:lnTo>
                <a:lnTo>
                  <a:pt x="59" y="232"/>
                </a:lnTo>
                <a:lnTo>
                  <a:pt x="101" y="256"/>
                </a:lnTo>
                <a:lnTo>
                  <a:pt x="75" y="272"/>
                </a:lnTo>
                <a:lnTo>
                  <a:pt x="101" y="312"/>
                </a:lnTo>
                <a:lnTo>
                  <a:pt x="50" y="328"/>
                </a:lnTo>
                <a:lnTo>
                  <a:pt x="59" y="352"/>
                </a:lnTo>
                <a:lnTo>
                  <a:pt x="33" y="352"/>
                </a:lnTo>
                <a:lnTo>
                  <a:pt x="25" y="384"/>
                </a:lnTo>
                <a:lnTo>
                  <a:pt x="0" y="400"/>
                </a:lnTo>
                <a:lnTo>
                  <a:pt x="8" y="416"/>
                </a:lnTo>
                <a:lnTo>
                  <a:pt x="8" y="456"/>
                </a:lnTo>
                <a:lnTo>
                  <a:pt x="17" y="456"/>
                </a:lnTo>
                <a:lnTo>
                  <a:pt x="101" y="504"/>
                </a:lnTo>
                <a:lnTo>
                  <a:pt x="101" y="496"/>
                </a:lnTo>
                <a:lnTo>
                  <a:pt x="126" y="42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1192"/>
          <p:cNvSpPr/>
          <p:nvPr/>
        </p:nvSpPr>
        <p:spPr>
          <a:xfrm>
            <a:off x="7540560" y="5524560"/>
            <a:ext cx="308160" cy="558720"/>
          </a:xfrm>
          <a:custGeom>
            <a:avLst/>
            <a:gdLst>
              <a:gd name="textAreaLeft" fmla="*/ 0 w 308160"/>
              <a:gd name="textAreaRight" fmla="*/ 308160 w 3081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210" h="352">
                <a:moveTo>
                  <a:pt x="151" y="304"/>
                </a:moveTo>
                <a:lnTo>
                  <a:pt x="185" y="288"/>
                </a:lnTo>
                <a:lnTo>
                  <a:pt x="185" y="248"/>
                </a:lnTo>
                <a:lnTo>
                  <a:pt x="210" y="232"/>
                </a:lnTo>
                <a:lnTo>
                  <a:pt x="194" y="192"/>
                </a:lnTo>
                <a:lnTo>
                  <a:pt x="168" y="184"/>
                </a:lnTo>
                <a:lnTo>
                  <a:pt x="143" y="152"/>
                </a:lnTo>
                <a:lnTo>
                  <a:pt x="135" y="96"/>
                </a:lnTo>
                <a:lnTo>
                  <a:pt x="135" y="72"/>
                </a:lnTo>
                <a:lnTo>
                  <a:pt x="101" y="32"/>
                </a:lnTo>
                <a:lnTo>
                  <a:pt x="84" y="16"/>
                </a:lnTo>
                <a:lnTo>
                  <a:pt x="59" y="16"/>
                </a:lnTo>
                <a:lnTo>
                  <a:pt x="25" y="0"/>
                </a:lnTo>
                <a:lnTo>
                  <a:pt x="0" y="72"/>
                </a:lnTo>
                <a:lnTo>
                  <a:pt x="0" y="80"/>
                </a:lnTo>
                <a:lnTo>
                  <a:pt x="17" y="88"/>
                </a:lnTo>
                <a:lnTo>
                  <a:pt x="33" y="104"/>
                </a:lnTo>
                <a:lnTo>
                  <a:pt x="33" y="120"/>
                </a:lnTo>
                <a:lnTo>
                  <a:pt x="33" y="160"/>
                </a:lnTo>
                <a:lnTo>
                  <a:pt x="42" y="248"/>
                </a:lnTo>
                <a:lnTo>
                  <a:pt x="67" y="288"/>
                </a:lnTo>
                <a:lnTo>
                  <a:pt x="109" y="320"/>
                </a:lnTo>
                <a:lnTo>
                  <a:pt x="135" y="352"/>
                </a:lnTo>
                <a:lnTo>
                  <a:pt x="151" y="344"/>
                </a:lnTo>
                <a:lnTo>
                  <a:pt x="151" y="304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1193"/>
          <p:cNvSpPr/>
          <p:nvPr/>
        </p:nvSpPr>
        <p:spPr>
          <a:xfrm>
            <a:off x="7738920" y="5524560"/>
            <a:ext cx="887400" cy="1117440"/>
          </a:xfrm>
          <a:custGeom>
            <a:avLst/>
            <a:gdLst>
              <a:gd name="textAreaLeft" fmla="*/ 0 w 887400"/>
              <a:gd name="textAreaRight" fmla="*/ 887760 w 88740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606" h="704">
                <a:moveTo>
                  <a:pt x="589" y="72"/>
                </a:moveTo>
                <a:lnTo>
                  <a:pt x="606" y="24"/>
                </a:lnTo>
                <a:lnTo>
                  <a:pt x="581" y="0"/>
                </a:lnTo>
                <a:lnTo>
                  <a:pt x="556" y="0"/>
                </a:lnTo>
                <a:lnTo>
                  <a:pt x="564" y="40"/>
                </a:lnTo>
                <a:lnTo>
                  <a:pt x="530" y="56"/>
                </a:lnTo>
                <a:lnTo>
                  <a:pt x="471" y="72"/>
                </a:lnTo>
                <a:lnTo>
                  <a:pt x="446" y="72"/>
                </a:lnTo>
                <a:lnTo>
                  <a:pt x="412" y="72"/>
                </a:lnTo>
                <a:lnTo>
                  <a:pt x="379" y="56"/>
                </a:lnTo>
                <a:lnTo>
                  <a:pt x="328" y="88"/>
                </a:lnTo>
                <a:lnTo>
                  <a:pt x="286" y="104"/>
                </a:lnTo>
                <a:lnTo>
                  <a:pt x="244" y="104"/>
                </a:lnTo>
                <a:lnTo>
                  <a:pt x="236" y="136"/>
                </a:lnTo>
                <a:lnTo>
                  <a:pt x="168" y="144"/>
                </a:lnTo>
                <a:lnTo>
                  <a:pt x="134" y="184"/>
                </a:lnTo>
                <a:lnTo>
                  <a:pt x="109" y="184"/>
                </a:lnTo>
                <a:lnTo>
                  <a:pt x="75" y="200"/>
                </a:lnTo>
                <a:lnTo>
                  <a:pt x="67" y="200"/>
                </a:lnTo>
                <a:lnTo>
                  <a:pt x="75" y="232"/>
                </a:lnTo>
                <a:lnTo>
                  <a:pt x="50" y="248"/>
                </a:lnTo>
                <a:lnTo>
                  <a:pt x="50" y="288"/>
                </a:lnTo>
                <a:lnTo>
                  <a:pt x="16" y="304"/>
                </a:lnTo>
                <a:lnTo>
                  <a:pt x="16" y="344"/>
                </a:lnTo>
                <a:lnTo>
                  <a:pt x="0" y="352"/>
                </a:lnTo>
                <a:lnTo>
                  <a:pt x="33" y="392"/>
                </a:lnTo>
                <a:lnTo>
                  <a:pt x="75" y="424"/>
                </a:lnTo>
                <a:lnTo>
                  <a:pt x="59" y="464"/>
                </a:lnTo>
                <a:lnTo>
                  <a:pt x="92" y="464"/>
                </a:lnTo>
                <a:lnTo>
                  <a:pt x="118" y="480"/>
                </a:lnTo>
                <a:lnTo>
                  <a:pt x="202" y="480"/>
                </a:lnTo>
                <a:lnTo>
                  <a:pt x="286" y="472"/>
                </a:lnTo>
                <a:lnTo>
                  <a:pt x="362" y="480"/>
                </a:lnTo>
                <a:lnTo>
                  <a:pt x="337" y="496"/>
                </a:lnTo>
                <a:lnTo>
                  <a:pt x="328" y="512"/>
                </a:lnTo>
                <a:lnTo>
                  <a:pt x="294" y="512"/>
                </a:lnTo>
                <a:lnTo>
                  <a:pt x="261" y="504"/>
                </a:lnTo>
                <a:lnTo>
                  <a:pt x="210" y="488"/>
                </a:lnTo>
                <a:lnTo>
                  <a:pt x="185" y="504"/>
                </a:lnTo>
                <a:lnTo>
                  <a:pt x="160" y="512"/>
                </a:lnTo>
                <a:lnTo>
                  <a:pt x="134" y="552"/>
                </a:lnTo>
                <a:lnTo>
                  <a:pt x="160" y="568"/>
                </a:lnTo>
                <a:lnTo>
                  <a:pt x="185" y="584"/>
                </a:lnTo>
                <a:lnTo>
                  <a:pt x="202" y="592"/>
                </a:lnTo>
                <a:lnTo>
                  <a:pt x="210" y="624"/>
                </a:lnTo>
                <a:lnTo>
                  <a:pt x="236" y="672"/>
                </a:lnTo>
                <a:lnTo>
                  <a:pt x="252" y="648"/>
                </a:lnTo>
                <a:lnTo>
                  <a:pt x="278" y="656"/>
                </a:lnTo>
                <a:lnTo>
                  <a:pt x="311" y="704"/>
                </a:lnTo>
                <a:lnTo>
                  <a:pt x="337" y="656"/>
                </a:lnTo>
                <a:lnTo>
                  <a:pt x="396" y="688"/>
                </a:lnTo>
                <a:lnTo>
                  <a:pt x="328" y="568"/>
                </a:lnTo>
                <a:lnTo>
                  <a:pt x="353" y="576"/>
                </a:lnTo>
                <a:lnTo>
                  <a:pt x="370" y="584"/>
                </a:lnTo>
                <a:lnTo>
                  <a:pt x="370" y="600"/>
                </a:lnTo>
                <a:lnTo>
                  <a:pt x="387" y="576"/>
                </a:lnTo>
                <a:lnTo>
                  <a:pt x="412" y="560"/>
                </a:lnTo>
                <a:lnTo>
                  <a:pt x="353" y="528"/>
                </a:lnTo>
                <a:lnTo>
                  <a:pt x="404" y="512"/>
                </a:lnTo>
                <a:lnTo>
                  <a:pt x="455" y="528"/>
                </a:lnTo>
                <a:lnTo>
                  <a:pt x="446" y="488"/>
                </a:lnTo>
                <a:lnTo>
                  <a:pt x="438" y="464"/>
                </a:lnTo>
                <a:lnTo>
                  <a:pt x="412" y="448"/>
                </a:lnTo>
                <a:lnTo>
                  <a:pt x="438" y="448"/>
                </a:lnTo>
                <a:lnTo>
                  <a:pt x="455" y="464"/>
                </a:lnTo>
                <a:lnTo>
                  <a:pt x="480" y="480"/>
                </a:lnTo>
                <a:lnTo>
                  <a:pt x="514" y="472"/>
                </a:lnTo>
                <a:lnTo>
                  <a:pt x="463" y="440"/>
                </a:lnTo>
                <a:lnTo>
                  <a:pt x="421" y="408"/>
                </a:lnTo>
                <a:lnTo>
                  <a:pt x="353" y="384"/>
                </a:lnTo>
                <a:lnTo>
                  <a:pt x="337" y="384"/>
                </a:lnTo>
                <a:lnTo>
                  <a:pt x="337" y="400"/>
                </a:lnTo>
                <a:lnTo>
                  <a:pt x="345" y="416"/>
                </a:lnTo>
                <a:lnTo>
                  <a:pt x="311" y="408"/>
                </a:lnTo>
                <a:lnTo>
                  <a:pt x="294" y="400"/>
                </a:lnTo>
                <a:lnTo>
                  <a:pt x="294" y="376"/>
                </a:lnTo>
                <a:lnTo>
                  <a:pt x="294" y="352"/>
                </a:lnTo>
                <a:lnTo>
                  <a:pt x="337" y="360"/>
                </a:lnTo>
                <a:lnTo>
                  <a:pt x="337" y="336"/>
                </a:lnTo>
                <a:lnTo>
                  <a:pt x="320" y="320"/>
                </a:lnTo>
                <a:lnTo>
                  <a:pt x="269" y="288"/>
                </a:lnTo>
                <a:lnTo>
                  <a:pt x="236" y="240"/>
                </a:lnTo>
                <a:lnTo>
                  <a:pt x="244" y="224"/>
                </a:lnTo>
                <a:lnTo>
                  <a:pt x="261" y="200"/>
                </a:lnTo>
                <a:lnTo>
                  <a:pt x="269" y="224"/>
                </a:lnTo>
                <a:lnTo>
                  <a:pt x="294" y="232"/>
                </a:lnTo>
                <a:lnTo>
                  <a:pt x="320" y="240"/>
                </a:lnTo>
                <a:lnTo>
                  <a:pt x="337" y="264"/>
                </a:lnTo>
                <a:lnTo>
                  <a:pt x="337" y="232"/>
                </a:lnTo>
                <a:lnTo>
                  <a:pt x="362" y="208"/>
                </a:lnTo>
                <a:lnTo>
                  <a:pt x="370" y="160"/>
                </a:lnTo>
                <a:lnTo>
                  <a:pt x="387" y="144"/>
                </a:lnTo>
                <a:lnTo>
                  <a:pt x="412" y="136"/>
                </a:lnTo>
                <a:lnTo>
                  <a:pt x="497" y="112"/>
                </a:lnTo>
                <a:lnTo>
                  <a:pt x="539" y="112"/>
                </a:lnTo>
                <a:lnTo>
                  <a:pt x="564" y="112"/>
                </a:lnTo>
                <a:lnTo>
                  <a:pt x="573" y="128"/>
                </a:lnTo>
                <a:lnTo>
                  <a:pt x="598" y="96"/>
                </a:lnTo>
                <a:lnTo>
                  <a:pt x="589" y="72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1194"/>
          <p:cNvSpPr/>
          <p:nvPr/>
        </p:nvSpPr>
        <p:spPr>
          <a:xfrm>
            <a:off x="7540560" y="5524560"/>
            <a:ext cx="308160" cy="558720"/>
          </a:xfrm>
          <a:custGeom>
            <a:avLst/>
            <a:gdLst>
              <a:gd name="textAreaLeft" fmla="*/ 0 w 308160"/>
              <a:gd name="textAreaRight" fmla="*/ 308160 w 3081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210" h="352">
                <a:moveTo>
                  <a:pt x="151" y="304"/>
                </a:moveTo>
                <a:lnTo>
                  <a:pt x="185" y="288"/>
                </a:lnTo>
                <a:lnTo>
                  <a:pt x="185" y="248"/>
                </a:lnTo>
                <a:lnTo>
                  <a:pt x="210" y="232"/>
                </a:lnTo>
                <a:lnTo>
                  <a:pt x="194" y="192"/>
                </a:lnTo>
                <a:lnTo>
                  <a:pt x="168" y="184"/>
                </a:lnTo>
                <a:lnTo>
                  <a:pt x="143" y="152"/>
                </a:lnTo>
                <a:lnTo>
                  <a:pt x="135" y="96"/>
                </a:lnTo>
                <a:lnTo>
                  <a:pt x="135" y="72"/>
                </a:lnTo>
                <a:lnTo>
                  <a:pt x="135" y="72"/>
                </a:lnTo>
                <a:lnTo>
                  <a:pt x="101" y="32"/>
                </a:lnTo>
                <a:lnTo>
                  <a:pt x="84" y="16"/>
                </a:lnTo>
                <a:lnTo>
                  <a:pt x="59" y="16"/>
                </a:lnTo>
                <a:lnTo>
                  <a:pt x="25" y="0"/>
                </a:lnTo>
                <a:lnTo>
                  <a:pt x="0" y="72"/>
                </a:lnTo>
                <a:lnTo>
                  <a:pt x="0" y="80"/>
                </a:lnTo>
                <a:lnTo>
                  <a:pt x="17" y="88"/>
                </a:lnTo>
                <a:lnTo>
                  <a:pt x="33" y="104"/>
                </a:lnTo>
                <a:lnTo>
                  <a:pt x="33" y="120"/>
                </a:lnTo>
                <a:lnTo>
                  <a:pt x="33" y="160"/>
                </a:lnTo>
                <a:lnTo>
                  <a:pt x="42" y="248"/>
                </a:lnTo>
                <a:lnTo>
                  <a:pt x="67" y="288"/>
                </a:lnTo>
                <a:lnTo>
                  <a:pt x="109" y="320"/>
                </a:lnTo>
                <a:lnTo>
                  <a:pt x="135" y="352"/>
                </a:lnTo>
                <a:lnTo>
                  <a:pt x="151" y="344"/>
                </a:lnTo>
                <a:lnTo>
                  <a:pt x="151" y="3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195"/>
          <p:cNvSpPr/>
          <p:nvPr/>
        </p:nvSpPr>
        <p:spPr>
          <a:xfrm>
            <a:off x="7738920" y="5524560"/>
            <a:ext cx="887400" cy="1117440"/>
          </a:xfrm>
          <a:custGeom>
            <a:avLst/>
            <a:gdLst>
              <a:gd name="textAreaLeft" fmla="*/ 0 w 887400"/>
              <a:gd name="textAreaRight" fmla="*/ 887760 w 88740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606" h="704">
                <a:moveTo>
                  <a:pt x="589" y="72"/>
                </a:moveTo>
                <a:lnTo>
                  <a:pt x="606" y="24"/>
                </a:lnTo>
                <a:lnTo>
                  <a:pt x="581" y="0"/>
                </a:lnTo>
                <a:lnTo>
                  <a:pt x="556" y="0"/>
                </a:lnTo>
                <a:lnTo>
                  <a:pt x="564" y="40"/>
                </a:lnTo>
                <a:lnTo>
                  <a:pt x="530" y="56"/>
                </a:lnTo>
                <a:lnTo>
                  <a:pt x="471" y="72"/>
                </a:lnTo>
                <a:lnTo>
                  <a:pt x="446" y="72"/>
                </a:lnTo>
                <a:lnTo>
                  <a:pt x="412" y="72"/>
                </a:lnTo>
                <a:lnTo>
                  <a:pt x="379" y="56"/>
                </a:lnTo>
                <a:lnTo>
                  <a:pt x="328" y="88"/>
                </a:lnTo>
                <a:lnTo>
                  <a:pt x="286" y="104"/>
                </a:lnTo>
                <a:lnTo>
                  <a:pt x="244" y="104"/>
                </a:lnTo>
                <a:lnTo>
                  <a:pt x="236" y="136"/>
                </a:lnTo>
                <a:lnTo>
                  <a:pt x="168" y="144"/>
                </a:lnTo>
                <a:lnTo>
                  <a:pt x="134" y="184"/>
                </a:lnTo>
                <a:lnTo>
                  <a:pt x="109" y="184"/>
                </a:lnTo>
                <a:lnTo>
                  <a:pt x="75" y="200"/>
                </a:lnTo>
                <a:lnTo>
                  <a:pt x="67" y="200"/>
                </a:lnTo>
                <a:lnTo>
                  <a:pt x="75" y="232"/>
                </a:lnTo>
                <a:lnTo>
                  <a:pt x="50" y="248"/>
                </a:lnTo>
                <a:lnTo>
                  <a:pt x="50" y="288"/>
                </a:lnTo>
                <a:lnTo>
                  <a:pt x="16" y="304"/>
                </a:lnTo>
                <a:lnTo>
                  <a:pt x="16" y="344"/>
                </a:lnTo>
                <a:lnTo>
                  <a:pt x="0" y="352"/>
                </a:lnTo>
                <a:lnTo>
                  <a:pt x="33" y="392"/>
                </a:lnTo>
                <a:lnTo>
                  <a:pt x="75" y="424"/>
                </a:lnTo>
                <a:lnTo>
                  <a:pt x="59" y="464"/>
                </a:lnTo>
                <a:lnTo>
                  <a:pt x="92" y="464"/>
                </a:lnTo>
                <a:lnTo>
                  <a:pt x="118" y="480"/>
                </a:lnTo>
                <a:lnTo>
                  <a:pt x="202" y="480"/>
                </a:lnTo>
                <a:lnTo>
                  <a:pt x="286" y="472"/>
                </a:lnTo>
                <a:lnTo>
                  <a:pt x="362" y="480"/>
                </a:lnTo>
                <a:lnTo>
                  <a:pt x="337" y="496"/>
                </a:lnTo>
                <a:lnTo>
                  <a:pt x="328" y="512"/>
                </a:lnTo>
                <a:lnTo>
                  <a:pt x="294" y="512"/>
                </a:lnTo>
                <a:lnTo>
                  <a:pt x="261" y="504"/>
                </a:lnTo>
                <a:lnTo>
                  <a:pt x="210" y="488"/>
                </a:lnTo>
                <a:lnTo>
                  <a:pt x="185" y="504"/>
                </a:lnTo>
                <a:lnTo>
                  <a:pt x="160" y="512"/>
                </a:lnTo>
                <a:lnTo>
                  <a:pt x="134" y="552"/>
                </a:lnTo>
                <a:lnTo>
                  <a:pt x="160" y="568"/>
                </a:lnTo>
                <a:lnTo>
                  <a:pt x="185" y="584"/>
                </a:lnTo>
                <a:lnTo>
                  <a:pt x="202" y="592"/>
                </a:lnTo>
                <a:lnTo>
                  <a:pt x="210" y="624"/>
                </a:lnTo>
                <a:lnTo>
                  <a:pt x="236" y="672"/>
                </a:lnTo>
                <a:lnTo>
                  <a:pt x="252" y="648"/>
                </a:lnTo>
                <a:lnTo>
                  <a:pt x="278" y="656"/>
                </a:lnTo>
                <a:lnTo>
                  <a:pt x="311" y="704"/>
                </a:lnTo>
                <a:lnTo>
                  <a:pt x="337" y="656"/>
                </a:lnTo>
                <a:lnTo>
                  <a:pt x="396" y="688"/>
                </a:lnTo>
                <a:lnTo>
                  <a:pt x="328" y="568"/>
                </a:lnTo>
                <a:lnTo>
                  <a:pt x="353" y="576"/>
                </a:lnTo>
                <a:lnTo>
                  <a:pt x="370" y="584"/>
                </a:lnTo>
                <a:lnTo>
                  <a:pt x="370" y="600"/>
                </a:lnTo>
                <a:lnTo>
                  <a:pt x="387" y="576"/>
                </a:lnTo>
                <a:lnTo>
                  <a:pt x="412" y="560"/>
                </a:lnTo>
                <a:lnTo>
                  <a:pt x="353" y="528"/>
                </a:lnTo>
                <a:lnTo>
                  <a:pt x="404" y="512"/>
                </a:lnTo>
                <a:lnTo>
                  <a:pt x="455" y="528"/>
                </a:lnTo>
                <a:lnTo>
                  <a:pt x="446" y="488"/>
                </a:lnTo>
                <a:lnTo>
                  <a:pt x="438" y="464"/>
                </a:lnTo>
                <a:lnTo>
                  <a:pt x="412" y="448"/>
                </a:lnTo>
                <a:lnTo>
                  <a:pt x="438" y="448"/>
                </a:lnTo>
                <a:lnTo>
                  <a:pt x="455" y="464"/>
                </a:lnTo>
                <a:lnTo>
                  <a:pt x="480" y="480"/>
                </a:lnTo>
                <a:lnTo>
                  <a:pt x="514" y="472"/>
                </a:lnTo>
                <a:lnTo>
                  <a:pt x="463" y="440"/>
                </a:lnTo>
                <a:lnTo>
                  <a:pt x="421" y="408"/>
                </a:lnTo>
                <a:lnTo>
                  <a:pt x="353" y="384"/>
                </a:lnTo>
                <a:lnTo>
                  <a:pt x="337" y="384"/>
                </a:lnTo>
                <a:lnTo>
                  <a:pt x="337" y="400"/>
                </a:lnTo>
                <a:lnTo>
                  <a:pt x="345" y="416"/>
                </a:lnTo>
                <a:lnTo>
                  <a:pt x="311" y="408"/>
                </a:lnTo>
                <a:lnTo>
                  <a:pt x="294" y="400"/>
                </a:lnTo>
                <a:lnTo>
                  <a:pt x="294" y="376"/>
                </a:lnTo>
                <a:lnTo>
                  <a:pt x="294" y="352"/>
                </a:lnTo>
                <a:lnTo>
                  <a:pt x="337" y="360"/>
                </a:lnTo>
                <a:lnTo>
                  <a:pt x="337" y="336"/>
                </a:lnTo>
                <a:lnTo>
                  <a:pt x="320" y="320"/>
                </a:lnTo>
                <a:lnTo>
                  <a:pt x="269" y="288"/>
                </a:lnTo>
                <a:lnTo>
                  <a:pt x="236" y="240"/>
                </a:lnTo>
                <a:lnTo>
                  <a:pt x="244" y="224"/>
                </a:lnTo>
                <a:lnTo>
                  <a:pt x="261" y="200"/>
                </a:lnTo>
                <a:lnTo>
                  <a:pt x="269" y="224"/>
                </a:lnTo>
                <a:lnTo>
                  <a:pt x="294" y="232"/>
                </a:lnTo>
                <a:lnTo>
                  <a:pt x="320" y="240"/>
                </a:lnTo>
                <a:lnTo>
                  <a:pt x="337" y="264"/>
                </a:lnTo>
                <a:lnTo>
                  <a:pt x="337" y="232"/>
                </a:lnTo>
                <a:lnTo>
                  <a:pt x="362" y="208"/>
                </a:lnTo>
                <a:lnTo>
                  <a:pt x="370" y="160"/>
                </a:lnTo>
                <a:lnTo>
                  <a:pt x="387" y="144"/>
                </a:lnTo>
                <a:lnTo>
                  <a:pt x="412" y="136"/>
                </a:lnTo>
                <a:lnTo>
                  <a:pt x="497" y="112"/>
                </a:lnTo>
                <a:lnTo>
                  <a:pt x="539" y="112"/>
                </a:lnTo>
                <a:lnTo>
                  <a:pt x="564" y="112"/>
                </a:lnTo>
                <a:lnTo>
                  <a:pt x="573" y="128"/>
                </a:lnTo>
                <a:lnTo>
                  <a:pt x="598" y="96"/>
                </a:lnTo>
                <a:lnTo>
                  <a:pt x="589" y="7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196"/>
          <p:cNvSpPr/>
          <p:nvPr/>
        </p:nvSpPr>
        <p:spPr>
          <a:xfrm>
            <a:off x="7738920" y="5537160"/>
            <a:ext cx="357480" cy="304920"/>
          </a:xfrm>
          <a:custGeom>
            <a:avLst/>
            <a:gdLst>
              <a:gd name="textAreaLeft" fmla="*/ 0 w 357480"/>
              <a:gd name="textAreaRight" fmla="*/ 357840 w 357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4" h="192">
                <a:moveTo>
                  <a:pt x="227" y="32"/>
                </a:moveTo>
                <a:lnTo>
                  <a:pt x="185" y="16"/>
                </a:lnTo>
                <a:lnTo>
                  <a:pt x="177" y="0"/>
                </a:lnTo>
                <a:lnTo>
                  <a:pt x="134" y="0"/>
                </a:lnTo>
                <a:lnTo>
                  <a:pt x="75" y="24"/>
                </a:lnTo>
                <a:lnTo>
                  <a:pt x="50" y="32"/>
                </a:lnTo>
                <a:lnTo>
                  <a:pt x="25" y="40"/>
                </a:lnTo>
                <a:lnTo>
                  <a:pt x="16" y="72"/>
                </a:lnTo>
                <a:lnTo>
                  <a:pt x="0" y="64"/>
                </a:lnTo>
                <a:lnTo>
                  <a:pt x="0" y="88"/>
                </a:lnTo>
                <a:lnTo>
                  <a:pt x="8" y="144"/>
                </a:lnTo>
                <a:lnTo>
                  <a:pt x="33" y="176"/>
                </a:lnTo>
                <a:lnTo>
                  <a:pt x="59" y="184"/>
                </a:lnTo>
                <a:lnTo>
                  <a:pt x="67" y="192"/>
                </a:lnTo>
                <a:lnTo>
                  <a:pt x="75" y="192"/>
                </a:lnTo>
                <a:lnTo>
                  <a:pt x="109" y="176"/>
                </a:lnTo>
                <a:lnTo>
                  <a:pt x="134" y="176"/>
                </a:lnTo>
                <a:lnTo>
                  <a:pt x="168" y="136"/>
                </a:lnTo>
                <a:lnTo>
                  <a:pt x="236" y="128"/>
                </a:lnTo>
                <a:lnTo>
                  <a:pt x="244" y="104"/>
                </a:lnTo>
                <a:lnTo>
                  <a:pt x="244" y="64"/>
                </a:lnTo>
                <a:lnTo>
                  <a:pt x="227" y="32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1197"/>
          <p:cNvSpPr/>
          <p:nvPr/>
        </p:nvSpPr>
        <p:spPr>
          <a:xfrm>
            <a:off x="7934400" y="5054760"/>
            <a:ext cx="865080" cy="647640"/>
          </a:xfrm>
          <a:custGeom>
            <a:avLst/>
            <a:gdLst>
              <a:gd name="textAreaLeft" fmla="*/ 0 w 865080"/>
              <a:gd name="textAreaRight" fmla="*/ 865440 w 865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90" h="408">
                <a:moveTo>
                  <a:pt x="455" y="256"/>
                </a:moveTo>
                <a:lnTo>
                  <a:pt x="489" y="248"/>
                </a:lnTo>
                <a:lnTo>
                  <a:pt x="514" y="232"/>
                </a:lnTo>
                <a:lnTo>
                  <a:pt x="565" y="240"/>
                </a:lnTo>
                <a:lnTo>
                  <a:pt x="590" y="232"/>
                </a:lnTo>
                <a:lnTo>
                  <a:pt x="565" y="200"/>
                </a:lnTo>
                <a:lnTo>
                  <a:pt x="523" y="176"/>
                </a:lnTo>
                <a:lnTo>
                  <a:pt x="548" y="144"/>
                </a:lnTo>
                <a:lnTo>
                  <a:pt x="548" y="104"/>
                </a:lnTo>
                <a:lnTo>
                  <a:pt x="548" y="72"/>
                </a:lnTo>
                <a:lnTo>
                  <a:pt x="573" y="64"/>
                </a:lnTo>
                <a:lnTo>
                  <a:pt x="582" y="48"/>
                </a:lnTo>
                <a:lnTo>
                  <a:pt x="582" y="32"/>
                </a:lnTo>
                <a:lnTo>
                  <a:pt x="582" y="16"/>
                </a:lnTo>
                <a:lnTo>
                  <a:pt x="531" y="16"/>
                </a:lnTo>
                <a:lnTo>
                  <a:pt x="523" y="0"/>
                </a:lnTo>
                <a:lnTo>
                  <a:pt x="481" y="8"/>
                </a:lnTo>
                <a:lnTo>
                  <a:pt x="455" y="0"/>
                </a:lnTo>
                <a:lnTo>
                  <a:pt x="413" y="8"/>
                </a:lnTo>
                <a:lnTo>
                  <a:pt x="363" y="24"/>
                </a:lnTo>
                <a:lnTo>
                  <a:pt x="321" y="80"/>
                </a:lnTo>
                <a:lnTo>
                  <a:pt x="270" y="88"/>
                </a:lnTo>
                <a:lnTo>
                  <a:pt x="219" y="88"/>
                </a:lnTo>
                <a:lnTo>
                  <a:pt x="194" y="88"/>
                </a:lnTo>
                <a:lnTo>
                  <a:pt x="169" y="112"/>
                </a:lnTo>
                <a:lnTo>
                  <a:pt x="76" y="112"/>
                </a:lnTo>
                <a:lnTo>
                  <a:pt x="43" y="104"/>
                </a:lnTo>
                <a:lnTo>
                  <a:pt x="43" y="80"/>
                </a:lnTo>
                <a:lnTo>
                  <a:pt x="9" y="64"/>
                </a:lnTo>
                <a:lnTo>
                  <a:pt x="0" y="88"/>
                </a:lnTo>
                <a:lnTo>
                  <a:pt x="9" y="120"/>
                </a:lnTo>
                <a:lnTo>
                  <a:pt x="26" y="152"/>
                </a:lnTo>
                <a:lnTo>
                  <a:pt x="68" y="184"/>
                </a:lnTo>
                <a:lnTo>
                  <a:pt x="51" y="224"/>
                </a:lnTo>
                <a:lnTo>
                  <a:pt x="34" y="232"/>
                </a:lnTo>
                <a:lnTo>
                  <a:pt x="34" y="264"/>
                </a:lnTo>
                <a:lnTo>
                  <a:pt x="51" y="272"/>
                </a:lnTo>
                <a:lnTo>
                  <a:pt x="43" y="304"/>
                </a:lnTo>
                <a:lnTo>
                  <a:pt x="51" y="320"/>
                </a:lnTo>
                <a:lnTo>
                  <a:pt x="93" y="336"/>
                </a:lnTo>
                <a:lnTo>
                  <a:pt x="110" y="368"/>
                </a:lnTo>
                <a:lnTo>
                  <a:pt x="110" y="408"/>
                </a:lnTo>
                <a:lnTo>
                  <a:pt x="110" y="400"/>
                </a:lnTo>
                <a:lnTo>
                  <a:pt x="152" y="400"/>
                </a:lnTo>
                <a:lnTo>
                  <a:pt x="194" y="384"/>
                </a:lnTo>
                <a:lnTo>
                  <a:pt x="245" y="352"/>
                </a:lnTo>
                <a:lnTo>
                  <a:pt x="278" y="368"/>
                </a:lnTo>
                <a:lnTo>
                  <a:pt x="312" y="368"/>
                </a:lnTo>
                <a:lnTo>
                  <a:pt x="337" y="368"/>
                </a:lnTo>
                <a:lnTo>
                  <a:pt x="396" y="352"/>
                </a:lnTo>
                <a:lnTo>
                  <a:pt x="430" y="336"/>
                </a:lnTo>
                <a:lnTo>
                  <a:pt x="422" y="296"/>
                </a:lnTo>
                <a:lnTo>
                  <a:pt x="447" y="296"/>
                </a:lnTo>
                <a:lnTo>
                  <a:pt x="455" y="280"/>
                </a:lnTo>
                <a:lnTo>
                  <a:pt x="455" y="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198"/>
          <p:cNvSpPr/>
          <p:nvPr/>
        </p:nvSpPr>
        <p:spPr>
          <a:xfrm>
            <a:off x="7738920" y="5537160"/>
            <a:ext cx="357480" cy="304920"/>
          </a:xfrm>
          <a:custGeom>
            <a:avLst/>
            <a:gdLst>
              <a:gd name="textAreaLeft" fmla="*/ 0 w 357480"/>
              <a:gd name="textAreaRight" fmla="*/ 357840 w 357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4" h="192">
                <a:moveTo>
                  <a:pt x="227" y="32"/>
                </a:moveTo>
                <a:lnTo>
                  <a:pt x="185" y="16"/>
                </a:lnTo>
                <a:lnTo>
                  <a:pt x="177" y="0"/>
                </a:lnTo>
                <a:lnTo>
                  <a:pt x="177" y="0"/>
                </a:lnTo>
                <a:lnTo>
                  <a:pt x="134" y="0"/>
                </a:lnTo>
                <a:lnTo>
                  <a:pt x="75" y="24"/>
                </a:lnTo>
                <a:lnTo>
                  <a:pt x="50" y="32"/>
                </a:lnTo>
                <a:lnTo>
                  <a:pt x="25" y="40"/>
                </a:lnTo>
                <a:lnTo>
                  <a:pt x="16" y="72"/>
                </a:lnTo>
                <a:lnTo>
                  <a:pt x="0" y="64"/>
                </a:lnTo>
                <a:lnTo>
                  <a:pt x="0" y="88"/>
                </a:lnTo>
                <a:lnTo>
                  <a:pt x="8" y="144"/>
                </a:lnTo>
                <a:lnTo>
                  <a:pt x="33" y="176"/>
                </a:lnTo>
                <a:lnTo>
                  <a:pt x="59" y="184"/>
                </a:lnTo>
                <a:lnTo>
                  <a:pt x="67" y="192"/>
                </a:lnTo>
                <a:lnTo>
                  <a:pt x="75" y="192"/>
                </a:lnTo>
                <a:lnTo>
                  <a:pt x="109" y="176"/>
                </a:lnTo>
                <a:lnTo>
                  <a:pt x="134" y="176"/>
                </a:lnTo>
                <a:lnTo>
                  <a:pt x="168" y="136"/>
                </a:lnTo>
                <a:lnTo>
                  <a:pt x="236" y="128"/>
                </a:lnTo>
                <a:lnTo>
                  <a:pt x="244" y="104"/>
                </a:lnTo>
                <a:lnTo>
                  <a:pt x="244" y="64"/>
                </a:lnTo>
                <a:lnTo>
                  <a:pt x="227" y="3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1199"/>
          <p:cNvSpPr/>
          <p:nvPr/>
        </p:nvSpPr>
        <p:spPr>
          <a:xfrm>
            <a:off x="7934400" y="5054760"/>
            <a:ext cx="865080" cy="647640"/>
          </a:xfrm>
          <a:custGeom>
            <a:avLst/>
            <a:gdLst>
              <a:gd name="textAreaLeft" fmla="*/ 0 w 865080"/>
              <a:gd name="textAreaRight" fmla="*/ 865440 w 865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90" h="408">
                <a:moveTo>
                  <a:pt x="455" y="256"/>
                </a:moveTo>
                <a:lnTo>
                  <a:pt x="489" y="248"/>
                </a:lnTo>
                <a:lnTo>
                  <a:pt x="514" y="232"/>
                </a:lnTo>
                <a:lnTo>
                  <a:pt x="565" y="240"/>
                </a:lnTo>
                <a:lnTo>
                  <a:pt x="590" y="232"/>
                </a:lnTo>
                <a:lnTo>
                  <a:pt x="565" y="200"/>
                </a:lnTo>
                <a:lnTo>
                  <a:pt x="523" y="176"/>
                </a:lnTo>
                <a:lnTo>
                  <a:pt x="548" y="144"/>
                </a:lnTo>
                <a:lnTo>
                  <a:pt x="548" y="104"/>
                </a:lnTo>
                <a:lnTo>
                  <a:pt x="548" y="72"/>
                </a:lnTo>
                <a:lnTo>
                  <a:pt x="573" y="64"/>
                </a:lnTo>
                <a:lnTo>
                  <a:pt x="582" y="48"/>
                </a:lnTo>
                <a:lnTo>
                  <a:pt x="582" y="32"/>
                </a:lnTo>
                <a:lnTo>
                  <a:pt x="582" y="16"/>
                </a:lnTo>
                <a:lnTo>
                  <a:pt x="531" y="16"/>
                </a:lnTo>
                <a:lnTo>
                  <a:pt x="523" y="0"/>
                </a:lnTo>
                <a:lnTo>
                  <a:pt x="481" y="8"/>
                </a:lnTo>
                <a:lnTo>
                  <a:pt x="455" y="0"/>
                </a:lnTo>
                <a:lnTo>
                  <a:pt x="413" y="8"/>
                </a:lnTo>
                <a:lnTo>
                  <a:pt x="363" y="24"/>
                </a:lnTo>
                <a:lnTo>
                  <a:pt x="321" y="80"/>
                </a:lnTo>
                <a:lnTo>
                  <a:pt x="270" y="88"/>
                </a:lnTo>
                <a:lnTo>
                  <a:pt x="219" y="88"/>
                </a:lnTo>
                <a:lnTo>
                  <a:pt x="194" y="88"/>
                </a:lnTo>
                <a:lnTo>
                  <a:pt x="169" y="112"/>
                </a:lnTo>
                <a:lnTo>
                  <a:pt x="76" y="112"/>
                </a:lnTo>
                <a:lnTo>
                  <a:pt x="43" y="104"/>
                </a:lnTo>
                <a:lnTo>
                  <a:pt x="43" y="80"/>
                </a:lnTo>
                <a:lnTo>
                  <a:pt x="9" y="64"/>
                </a:lnTo>
                <a:lnTo>
                  <a:pt x="0" y="88"/>
                </a:lnTo>
                <a:lnTo>
                  <a:pt x="9" y="120"/>
                </a:lnTo>
                <a:lnTo>
                  <a:pt x="26" y="152"/>
                </a:lnTo>
                <a:lnTo>
                  <a:pt x="68" y="184"/>
                </a:lnTo>
                <a:lnTo>
                  <a:pt x="51" y="224"/>
                </a:lnTo>
                <a:lnTo>
                  <a:pt x="34" y="232"/>
                </a:lnTo>
                <a:lnTo>
                  <a:pt x="34" y="264"/>
                </a:lnTo>
                <a:lnTo>
                  <a:pt x="51" y="272"/>
                </a:lnTo>
                <a:lnTo>
                  <a:pt x="43" y="304"/>
                </a:lnTo>
                <a:lnTo>
                  <a:pt x="51" y="320"/>
                </a:lnTo>
                <a:lnTo>
                  <a:pt x="93" y="336"/>
                </a:lnTo>
                <a:lnTo>
                  <a:pt x="110" y="368"/>
                </a:lnTo>
                <a:lnTo>
                  <a:pt x="110" y="408"/>
                </a:lnTo>
                <a:lnTo>
                  <a:pt x="110" y="400"/>
                </a:lnTo>
                <a:lnTo>
                  <a:pt x="152" y="400"/>
                </a:lnTo>
                <a:lnTo>
                  <a:pt x="194" y="384"/>
                </a:lnTo>
                <a:lnTo>
                  <a:pt x="245" y="352"/>
                </a:lnTo>
                <a:lnTo>
                  <a:pt x="278" y="368"/>
                </a:lnTo>
                <a:lnTo>
                  <a:pt x="312" y="368"/>
                </a:lnTo>
                <a:lnTo>
                  <a:pt x="337" y="368"/>
                </a:lnTo>
                <a:lnTo>
                  <a:pt x="396" y="352"/>
                </a:lnTo>
                <a:lnTo>
                  <a:pt x="430" y="336"/>
                </a:lnTo>
                <a:lnTo>
                  <a:pt x="422" y="296"/>
                </a:lnTo>
                <a:lnTo>
                  <a:pt x="447" y="296"/>
                </a:lnTo>
                <a:lnTo>
                  <a:pt x="447" y="296"/>
                </a:lnTo>
                <a:lnTo>
                  <a:pt x="455" y="280"/>
                </a:lnTo>
                <a:lnTo>
                  <a:pt x="455" y="25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1201"/>
          <p:cNvSpPr/>
          <p:nvPr/>
        </p:nvSpPr>
        <p:spPr>
          <a:xfrm>
            <a:off x="8578800" y="5423040"/>
            <a:ext cx="530280" cy="977760"/>
          </a:xfrm>
          <a:custGeom>
            <a:avLst/>
            <a:gdLst>
              <a:gd name="textAreaLeft" fmla="*/ 0 w 530280"/>
              <a:gd name="textAreaRight" fmla="*/ 530640 w 53028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362" h="616">
                <a:moveTo>
                  <a:pt x="303" y="56"/>
                </a:moveTo>
                <a:lnTo>
                  <a:pt x="219" y="40"/>
                </a:lnTo>
                <a:lnTo>
                  <a:pt x="185" y="24"/>
                </a:lnTo>
                <a:lnTo>
                  <a:pt x="151" y="0"/>
                </a:lnTo>
                <a:lnTo>
                  <a:pt x="126" y="8"/>
                </a:lnTo>
                <a:lnTo>
                  <a:pt x="75" y="0"/>
                </a:lnTo>
                <a:lnTo>
                  <a:pt x="50" y="16"/>
                </a:lnTo>
                <a:lnTo>
                  <a:pt x="16" y="24"/>
                </a:lnTo>
                <a:lnTo>
                  <a:pt x="16" y="48"/>
                </a:lnTo>
                <a:lnTo>
                  <a:pt x="8" y="64"/>
                </a:lnTo>
                <a:lnTo>
                  <a:pt x="33" y="88"/>
                </a:lnTo>
                <a:lnTo>
                  <a:pt x="16" y="136"/>
                </a:lnTo>
                <a:lnTo>
                  <a:pt x="25" y="160"/>
                </a:lnTo>
                <a:lnTo>
                  <a:pt x="0" y="192"/>
                </a:lnTo>
                <a:lnTo>
                  <a:pt x="0" y="200"/>
                </a:lnTo>
                <a:lnTo>
                  <a:pt x="67" y="184"/>
                </a:lnTo>
                <a:lnTo>
                  <a:pt x="42" y="216"/>
                </a:lnTo>
                <a:lnTo>
                  <a:pt x="33" y="256"/>
                </a:lnTo>
                <a:lnTo>
                  <a:pt x="50" y="328"/>
                </a:lnTo>
                <a:lnTo>
                  <a:pt x="118" y="312"/>
                </a:lnTo>
                <a:lnTo>
                  <a:pt x="118" y="352"/>
                </a:lnTo>
                <a:lnTo>
                  <a:pt x="160" y="384"/>
                </a:lnTo>
                <a:lnTo>
                  <a:pt x="151" y="408"/>
                </a:lnTo>
                <a:lnTo>
                  <a:pt x="168" y="432"/>
                </a:lnTo>
                <a:lnTo>
                  <a:pt x="134" y="448"/>
                </a:lnTo>
                <a:lnTo>
                  <a:pt x="101" y="440"/>
                </a:lnTo>
                <a:lnTo>
                  <a:pt x="101" y="472"/>
                </a:lnTo>
                <a:lnTo>
                  <a:pt x="126" y="496"/>
                </a:lnTo>
                <a:lnTo>
                  <a:pt x="151" y="480"/>
                </a:lnTo>
                <a:lnTo>
                  <a:pt x="168" y="480"/>
                </a:lnTo>
                <a:lnTo>
                  <a:pt x="185" y="488"/>
                </a:lnTo>
                <a:lnTo>
                  <a:pt x="219" y="504"/>
                </a:lnTo>
                <a:lnTo>
                  <a:pt x="227" y="528"/>
                </a:lnTo>
                <a:lnTo>
                  <a:pt x="235" y="560"/>
                </a:lnTo>
                <a:lnTo>
                  <a:pt x="269" y="576"/>
                </a:lnTo>
                <a:lnTo>
                  <a:pt x="244" y="592"/>
                </a:lnTo>
                <a:lnTo>
                  <a:pt x="244" y="600"/>
                </a:lnTo>
                <a:lnTo>
                  <a:pt x="261" y="600"/>
                </a:lnTo>
                <a:lnTo>
                  <a:pt x="345" y="584"/>
                </a:lnTo>
                <a:lnTo>
                  <a:pt x="337" y="616"/>
                </a:lnTo>
                <a:lnTo>
                  <a:pt x="362" y="600"/>
                </a:lnTo>
                <a:lnTo>
                  <a:pt x="354" y="50"/>
                </a:lnTo>
                <a:lnTo>
                  <a:pt x="303" y="56"/>
                </a:lnTo>
                <a:lnTo>
                  <a:pt x="303" y="5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202"/>
          <p:cNvSpPr/>
          <p:nvPr/>
        </p:nvSpPr>
        <p:spPr>
          <a:xfrm>
            <a:off x="8639280" y="5549760"/>
            <a:ext cx="452160" cy="292320"/>
          </a:xfrm>
          <a:custGeom>
            <a:avLst/>
            <a:gdLst>
              <a:gd name="textAreaLeft" fmla="*/ 0 w 452160"/>
              <a:gd name="textAreaRight" fmla="*/ 452520 w 4521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308" h="184">
                <a:moveTo>
                  <a:pt x="244" y="56"/>
                </a:moveTo>
                <a:lnTo>
                  <a:pt x="278" y="72"/>
                </a:lnTo>
                <a:lnTo>
                  <a:pt x="244" y="88"/>
                </a:lnTo>
                <a:lnTo>
                  <a:pt x="202" y="88"/>
                </a:lnTo>
                <a:lnTo>
                  <a:pt x="134" y="120"/>
                </a:lnTo>
                <a:lnTo>
                  <a:pt x="109" y="120"/>
                </a:lnTo>
                <a:lnTo>
                  <a:pt x="92" y="120"/>
                </a:lnTo>
                <a:lnTo>
                  <a:pt x="50" y="128"/>
                </a:lnTo>
                <a:lnTo>
                  <a:pt x="25" y="152"/>
                </a:lnTo>
                <a:lnTo>
                  <a:pt x="0" y="184"/>
                </a:lnTo>
                <a:lnTo>
                  <a:pt x="0" y="168"/>
                </a:lnTo>
                <a:lnTo>
                  <a:pt x="17" y="152"/>
                </a:lnTo>
                <a:lnTo>
                  <a:pt x="42" y="120"/>
                </a:lnTo>
                <a:lnTo>
                  <a:pt x="84" y="88"/>
                </a:lnTo>
                <a:lnTo>
                  <a:pt x="92" y="40"/>
                </a:lnTo>
                <a:lnTo>
                  <a:pt x="143" y="24"/>
                </a:lnTo>
                <a:lnTo>
                  <a:pt x="193" y="16"/>
                </a:lnTo>
                <a:lnTo>
                  <a:pt x="244" y="0"/>
                </a:lnTo>
                <a:lnTo>
                  <a:pt x="252" y="0"/>
                </a:lnTo>
                <a:lnTo>
                  <a:pt x="261" y="16"/>
                </a:lnTo>
                <a:lnTo>
                  <a:pt x="303" y="24"/>
                </a:lnTo>
                <a:lnTo>
                  <a:pt x="308" y="24"/>
                </a:lnTo>
                <a:lnTo>
                  <a:pt x="286" y="32"/>
                </a:lnTo>
                <a:lnTo>
                  <a:pt x="244" y="56"/>
                </a:lnTo>
                <a:lnTo>
                  <a:pt x="244" y="5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1203"/>
          <p:cNvSpPr/>
          <p:nvPr/>
        </p:nvSpPr>
        <p:spPr>
          <a:xfrm>
            <a:off x="7577280" y="4292640"/>
            <a:ext cx="1309680" cy="93960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893" h="592">
                <a:moveTo>
                  <a:pt x="784" y="312"/>
                </a:moveTo>
                <a:lnTo>
                  <a:pt x="725" y="280"/>
                </a:lnTo>
                <a:lnTo>
                  <a:pt x="708" y="208"/>
                </a:lnTo>
                <a:lnTo>
                  <a:pt x="708" y="168"/>
                </a:lnTo>
                <a:lnTo>
                  <a:pt x="666" y="120"/>
                </a:lnTo>
                <a:lnTo>
                  <a:pt x="632" y="96"/>
                </a:lnTo>
                <a:lnTo>
                  <a:pt x="581" y="56"/>
                </a:lnTo>
                <a:lnTo>
                  <a:pt x="548" y="16"/>
                </a:lnTo>
                <a:lnTo>
                  <a:pt x="506" y="0"/>
                </a:lnTo>
                <a:lnTo>
                  <a:pt x="472" y="48"/>
                </a:lnTo>
                <a:lnTo>
                  <a:pt x="396" y="72"/>
                </a:lnTo>
                <a:lnTo>
                  <a:pt x="371" y="96"/>
                </a:lnTo>
                <a:lnTo>
                  <a:pt x="337" y="80"/>
                </a:lnTo>
                <a:lnTo>
                  <a:pt x="287" y="88"/>
                </a:lnTo>
                <a:lnTo>
                  <a:pt x="253" y="88"/>
                </a:lnTo>
                <a:lnTo>
                  <a:pt x="219" y="80"/>
                </a:lnTo>
                <a:lnTo>
                  <a:pt x="185" y="104"/>
                </a:lnTo>
                <a:lnTo>
                  <a:pt x="160" y="128"/>
                </a:lnTo>
                <a:lnTo>
                  <a:pt x="135" y="168"/>
                </a:lnTo>
                <a:lnTo>
                  <a:pt x="110" y="224"/>
                </a:lnTo>
                <a:lnTo>
                  <a:pt x="84" y="256"/>
                </a:lnTo>
                <a:lnTo>
                  <a:pt x="76" y="280"/>
                </a:lnTo>
                <a:lnTo>
                  <a:pt x="67" y="320"/>
                </a:lnTo>
                <a:lnTo>
                  <a:pt x="51" y="328"/>
                </a:lnTo>
                <a:lnTo>
                  <a:pt x="25" y="344"/>
                </a:lnTo>
                <a:lnTo>
                  <a:pt x="0" y="352"/>
                </a:lnTo>
                <a:lnTo>
                  <a:pt x="17" y="368"/>
                </a:lnTo>
                <a:lnTo>
                  <a:pt x="51" y="392"/>
                </a:lnTo>
                <a:lnTo>
                  <a:pt x="59" y="416"/>
                </a:lnTo>
                <a:lnTo>
                  <a:pt x="93" y="440"/>
                </a:lnTo>
                <a:lnTo>
                  <a:pt x="135" y="456"/>
                </a:lnTo>
                <a:lnTo>
                  <a:pt x="118" y="488"/>
                </a:lnTo>
                <a:lnTo>
                  <a:pt x="160" y="496"/>
                </a:lnTo>
                <a:lnTo>
                  <a:pt x="202" y="512"/>
                </a:lnTo>
                <a:lnTo>
                  <a:pt x="244" y="488"/>
                </a:lnTo>
                <a:lnTo>
                  <a:pt x="244" y="528"/>
                </a:lnTo>
                <a:lnTo>
                  <a:pt x="261" y="536"/>
                </a:lnTo>
                <a:lnTo>
                  <a:pt x="253" y="544"/>
                </a:lnTo>
                <a:lnTo>
                  <a:pt x="287" y="560"/>
                </a:lnTo>
                <a:lnTo>
                  <a:pt x="287" y="584"/>
                </a:lnTo>
                <a:lnTo>
                  <a:pt x="320" y="592"/>
                </a:lnTo>
                <a:lnTo>
                  <a:pt x="413" y="592"/>
                </a:lnTo>
                <a:lnTo>
                  <a:pt x="438" y="568"/>
                </a:lnTo>
                <a:lnTo>
                  <a:pt x="463" y="568"/>
                </a:lnTo>
                <a:lnTo>
                  <a:pt x="514" y="568"/>
                </a:lnTo>
                <a:lnTo>
                  <a:pt x="565" y="560"/>
                </a:lnTo>
                <a:lnTo>
                  <a:pt x="607" y="504"/>
                </a:lnTo>
                <a:lnTo>
                  <a:pt x="657" y="488"/>
                </a:lnTo>
                <a:lnTo>
                  <a:pt x="699" y="480"/>
                </a:lnTo>
                <a:lnTo>
                  <a:pt x="725" y="488"/>
                </a:lnTo>
                <a:lnTo>
                  <a:pt x="767" y="480"/>
                </a:lnTo>
                <a:lnTo>
                  <a:pt x="775" y="496"/>
                </a:lnTo>
                <a:lnTo>
                  <a:pt x="826" y="496"/>
                </a:lnTo>
                <a:lnTo>
                  <a:pt x="834" y="416"/>
                </a:lnTo>
                <a:lnTo>
                  <a:pt x="851" y="376"/>
                </a:lnTo>
                <a:lnTo>
                  <a:pt x="885" y="336"/>
                </a:lnTo>
                <a:lnTo>
                  <a:pt x="893" y="312"/>
                </a:lnTo>
                <a:lnTo>
                  <a:pt x="876" y="288"/>
                </a:lnTo>
                <a:lnTo>
                  <a:pt x="834" y="288"/>
                </a:lnTo>
                <a:lnTo>
                  <a:pt x="784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1205"/>
          <p:cNvSpPr/>
          <p:nvPr/>
        </p:nvSpPr>
        <p:spPr>
          <a:xfrm>
            <a:off x="7577280" y="4292640"/>
            <a:ext cx="1309680" cy="93960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893" h="592">
                <a:moveTo>
                  <a:pt x="784" y="312"/>
                </a:moveTo>
                <a:lnTo>
                  <a:pt x="725" y="280"/>
                </a:lnTo>
                <a:lnTo>
                  <a:pt x="708" y="208"/>
                </a:lnTo>
                <a:lnTo>
                  <a:pt x="708" y="168"/>
                </a:lnTo>
                <a:lnTo>
                  <a:pt x="666" y="120"/>
                </a:lnTo>
                <a:lnTo>
                  <a:pt x="632" y="96"/>
                </a:lnTo>
                <a:lnTo>
                  <a:pt x="581" y="56"/>
                </a:lnTo>
                <a:lnTo>
                  <a:pt x="548" y="16"/>
                </a:lnTo>
                <a:lnTo>
                  <a:pt x="506" y="0"/>
                </a:lnTo>
                <a:lnTo>
                  <a:pt x="472" y="48"/>
                </a:lnTo>
                <a:lnTo>
                  <a:pt x="396" y="72"/>
                </a:lnTo>
                <a:lnTo>
                  <a:pt x="371" y="96"/>
                </a:lnTo>
                <a:lnTo>
                  <a:pt x="337" y="80"/>
                </a:lnTo>
                <a:lnTo>
                  <a:pt x="287" y="88"/>
                </a:lnTo>
                <a:lnTo>
                  <a:pt x="253" y="88"/>
                </a:lnTo>
                <a:lnTo>
                  <a:pt x="219" y="80"/>
                </a:lnTo>
                <a:lnTo>
                  <a:pt x="185" y="104"/>
                </a:lnTo>
                <a:lnTo>
                  <a:pt x="185" y="104"/>
                </a:lnTo>
                <a:lnTo>
                  <a:pt x="160" y="128"/>
                </a:lnTo>
                <a:lnTo>
                  <a:pt x="135" y="168"/>
                </a:lnTo>
                <a:lnTo>
                  <a:pt x="110" y="224"/>
                </a:lnTo>
                <a:lnTo>
                  <a:pt x="84" y="256"/>
                </a:lnTo>
                <a:lnTo>
                  <a:pt x="76" y="280"/>
                </a:lnTo>
                <a:lnTo>
                  <a:pt x="67" y="320"/>
                </a:lnTo>
                <a:lnTo>
                  <a:pt x="51" y="328"/>
                </a:lnTo>
                <a:lnTo>
                  <a:pt x="25" y="344"/>
                </a:lnTo>
                <a:lnTo>
                  <a:pt x="0" y="352"/>
                </a:lnTo>
                <a:lnTo>
                  <a:pt x="17" y="368"/>
                </a:lnTo>
                <a:lnTo>
                  <a:pt x="51" y="392"/>
                </a:lnTo>
                <a:lnTo>
                  <a:pt x="59" y="416"/>
                </a:lnTo>
                <a:lnTo>
                  <a:pt x="93" y="440"/>
                </a:lnTo>
                <a:lnTo>
                  <a:pt x="135" y="456"/>
                </a:lnTo>
                <a:lnTo>
                  <a:pt x="118" y="488"/>
                </a:lnTo>
                <a:lnTo>
                  <a:pt x="160" y="496"/>
                </a:lnTo>
                <a:lnTo>
                  <a:pt x="202" y="512"/>
                </a:lnTo>
                <a:lnTo>
                  <a:pt x="244" y="488"/>
                </a:lnTo>
                <a:lnTo>
                  <a:pt x="244" y="528"/>
                </a:lnTo>
                <a:lnTo>
                  <a:pt x="261" y="536"/>
                </a:lnTo>
                <a:lnTo>
                  <a:pt x="253" y="544"/>
                </a:lnTo>
                <a:lnTo>
                  <a:pt x="287" y="560"/>
                </a:lnTo>
                <a:lnTo>
                  <a:pt x="287" y="584"/>
                </a:lnTo>
                <a:lnTo>
                  <a:pt x="320" y="592"/>
                </a:lnTo>
                <a:lnTo>
                  <a:pt x="413" y="592"/>
                </a:lnTo>
                <a:lnTo>
                  <a:pt x="438" y="568"/>
                </a:lnTo>
                <a:lnTo>
                  <a:pt x="463" y="568"/>
                </a:lnTo>
                <a:lnTo>
                  <a:pt x="514" y="568"/>
                </a:lnTo>
                <a:lnTo>
                  <a:pt x="565" y="560"/>
                </a:lnTo>
                <a:lnTo>
                  <a:pt x="607" y="504"/>
                </a:lnTo>
                <a:lnTo>
                  <a:pt x="657" y="488"/>
                </a:lnTo>
                <a:lnTo>
                  <a:pt x="699" y="480"/>
                </a:lnTo>
                <a:lnTo>
                  <a:pt x="725" y="488"/>
                </a:lnTo>
                <a:lnTo>
                  <a:pt x="767" y="480"/>
                </a:lnTo>
                <a:lnTo>
                  <a:pt x="775" y="496"/>
                </a:lnTo>
                <a:lnTo>
                  <a:pt x="826" y="496"/>
                </a:lnTo>
                <a:lnTo>
                  <a:pt x="834" y="416"/>
                </a:lnTo>
                <a:lnTo>
                  <a:pt x="851" y="376"/>
                </a:lnTo>
                <a:lnTo>
                  <a:pt x="885" y="336"/>
                </a:lnTo>
                <a:lnTo>
                  <a:pt x="893" y="312"/>
                </a:lnTo>
                <a:lnTo>
                  <a:pt x="876" y="288"/>
                </a:lnTo>
                <a:lnTo>
                  <a:pt x="834" y="288"/>
                </a:lnTo>
                <a:lnTo>
                  <a:pt x="784" y="31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1207"/>
          <p:cNvSpPr/>
          <p:nvPr/>
        </p:nvSpPr>
        <p:spPr>
          <a:xfrm>
            <a:off x="6651720" y="3238560"/>
            <a:ext cx="1260360" cy="1041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860" h="656">
                <a:moveTo>
                  <a:pt x="775" y="560"/>
                </a:moveTo>
                <a:lnTo>
                  <a:pt x="826" y="464"/>
                </a:lnTo>
                <a:lnTo>
                  <a:pt x="860" y="456"/>
                </a:lnTo>
                <a:lnTo>
                  <a:pt x="851" y="416"/>
                </a:lnTo>
                <a:lnTo>
                  <a:pt x="817" y="352"/>
                </a:lnTo>
                <a:lnTo>
                  <a:pt x="792" y="320"/>
                </a:lnTo>
                <a:lnTo>
                  <a:pt x="784" y="264"/>
                </a:lnTo>
                <a:lnTo>
                  <a:pt x="750" y="256"/>
                </a:lnTo>
                <a:lnTo>
                  <a:pt x="750" y="232"/>
                </a:lnTo>
                <a:lnTo>
                  <a:pt x="792" y="184"/>
                </a:lnTo>
                <a:lnTo>
                  <a:pt x="750" y="104"/>
                </a:lnTo>
                <a:lnTo>
                  <a:pt x="725" y="40"/>
                </a:lnTo>
                <a:lnTo>
                  <a:pt x="666" y="16"/>
                </a:lnTo>
                <a:lnTo>
                  <a:pt x="531" y="40"/>
                </a:lnTo>
                <a:lnTo>
                  <a:pt x="447" y="24"/>
                </a:lnTo>
                <a:lnTo>
                  <a:pt x="405" y="48"/>
                </a:lnTo>
                <a:lnTo>
                  <a:pt x="362" y="40"/>
                </a:lnTo>
                <a:lnTo>
                  <a:pt x="329" y="24"/>
                </a:lnTo>
                <a:lnTo>
                  <a:pt x="295" y="0"/>
                </a:lnTo>
                <a:lnTo>
                  <a:pt x="253" y="8"/>
                </a:lnTo>
                <a:lnTo>
                  <a:pt x="177" y="40"/>
                </a:lnTo>
                <a:lnTo>
                  <a:pt x="169" y="72"/>
                </a:lnTo>
                <a:lnTo>
                  <a:pt x="126" y="88"/>
                </a:lnTo>
                <a:lnTo>
                  <a:pt x="25" y="128"/>
                </a:lnTo>
                <a:lnTo>
                  <a:pt x="9" y="128"/>
                </a:lnTo>
                <a:lnTo>
                  <a:pt x="17" y="176"/>
                </a:lnTo>
                <a:lnTo>
                  <a:pt x="25" y="208"/>
                </a:lnTo>
                <a:lnTo>
                  <a:pt x="0" y="256"/>
                </a:lnTo>
                <a:lnTo>
                  <a:pt x="51" y="288"/>
                </a:lnTo>
                <a:lnTo>
                  <a:pt x="51" y="320"/>
                </a:lnTo>
                <a:lnTo>
                  <a:pt x="76" y="360"/>
                </a:lnTo>
                <a:lnTo>
                  <a:pt x="59" y="400"/>
                </a:lnTo>
                <a:lnTo>
                  <a:pt x="84" y="432"/>
                </a:lnTo>
                <a:lnTo>
                  <a:pt x="84" y="472"/>
                </a:lnTo>
                <a:lnTo>
                  <a:pt x="126" y="496"/>
                </a:lnTo>
                <a:lnTo>
                  <a:pt x="169" y="512"/>
                </a:lnTo>
                <a:lnTo>
                  <a:pt x="211" y="512"/>
                </a:lnTo>
                <a:lnTo>
                  <a:pt x="202" y="544"/>
                </a:lnTo>
                <a:lnTo>
                  <a:pt x="244" y="576"/>
                </a:lnTo>
                <a:lnTo>
                  <a:pt x="270" y="560"/>
                </a:lnTo>
                <a:lnTo>
                  <a:pt x="270" y="536"/>
                </a:lnTo>
                <a:lnTo>
                  <a:pt x="320" y="552"/>
                </a:lnTo>
                <a:lnTo>
                  <a:pt x="337" y="576"/>
                </a:lnTo>
                <a:lnTo>
                  <a:pt x="379" y="584"/>
                </a:lnTo>
                <a:lnTo>
                  <a:pt x="421" y="592"/>
                </a:lnTo>
                <a:lnTo>
                  <a:pt x="438" y="624"/>
                </a:lnTo>
                <a:lnTo>
                  <a:pt x="464" y="640"/>
                </a:lnTo>
                <a:lnTo>
                  <a:pt x="497" y="616"/>
                </a:lnTo>
                <a:lnTo>
                  <a:pt x="523" y="640"/>
                </a:lnTo>
                <a:lnTo>
                  <a:pt x="531" y="656"/>
                </a:lnTo>
                <a:lnTo>
                  <a:pt x="556" y="656"/>
                </a:lnTo>
                <a:lnTo>
                  <a:pt x="581" y="632"/>
                </a:lnTo>
                <a:lnTo>
                  <a:pt x="615" y="632"/>
                </a:lnTo>
                <a:lnTo>
                  <a:pt x="640" y="616"/>
                </a:lnTo>
                <a:lnTo>
                  <a:pt x="683" y="616"/>
                </a:lnTo>
                <a:lnTo>
                  <a:pt x="708" y="624"/>
                </a:lnTo>
                <a:lnTo>
                  <a:pt x="767" y="632"/>
                </a:lnTo>
                <a:lnTo>
                  <a:pt x="758" y="640"/>
                </a:lnTo>
                <a:lnTo>
                  <a:pt x="792" y="632"/>
                </a:lnTo>
                <a:lnTo>
                  <a:pt x="775" y="5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1209"/>
          <p:cNvSpPr/>
          <p:nvPr/>
        </p:nvSpPr>
        <p:spPr>
          <a:xfrm>
            <a:off x="6651720" y="3238560"/>
            <a:ext cx="1260360" cy="1041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860" h="656">
                <a:moveTo>
                  <a:pt x="775" y="560"/>
                </a:moveTo>
                <a:lnTo>
                  <a:pt x="826" y="464"/>
                </a:lnTo>
                <a:lnTo>
                  <a:pt x="860" y="456"/>
                </a:lnTo>
                <a:lnTo>
                  <a:pt x="851" y="416"/>
                </a:lnTo>
                <a:lnTo>
                  <a:pt x="817" y="352"/>
                </a:lnTo>
                <a:lnTo>
                  <a:pt x="792" y="320"/>
                </a:lnTo>
                <a:lnTo>
                  <a:pt x="784" y="264"/>
                </a:lnTo>
                <a:lnTo>
                  <a:pt x="750" y="256"/>
                </a:lnTo>
                <a:lnTo>
                  <a:pt x="750" y="232"/>
                </a:lnTo>
                <a:lnTo>
                  <a:pt x="792" y="184"/>
                </a:lnTo>
                <a:lnTo>
                  <a:pt x="750" y="104"/>
                </a:lnTo>
                <a:lnTo>
                  <a:pt x="725" y="40"/>
                </a:lnTo>
                <a:lnTo>
                  <a:pt x="666" y="16"/>
                </a:lnTo>
                <a:lnTo>
                  <a:pt x="531" y="40"/>
                </a:lnTo>
                <a:lnTo>
                  <a:pt x="447" y="24"/>
                </a:lnTo>
                <a:lnTo>
                  <a:pt x="405" y="48"/>
                </a:lnTo>
                <a:lnTo>
                  <a:pt x="362" y="40"/>
                </a:lnTo>
                <a:lnTo>
                  <a:pt x="329" y="24"/>
                </a:lnTo>
                <a:lnTo>
                  <a:pt x="295" y="0"/>
                </a:lnTo>
                <a:lnTo>
                  <a:pt x="253" y="8"/>
                </a:lnTo>
                <a:lnTo>
                  <a:pt x="177" y="40"/>
                </a:lnTo>
                <a:lnTo>
                  <a:pt x="169" y="72"/>
                </a:lnTo>
                <a:lnTo>
                  <a:pt x="126" y="88"/>
                </a:lnTo>
                <a:lnTo>
                  <a:pt x="25" y="128"/>
                </a:lnTo>
                <a:lnTo>
                  <a:pt x="9" y="128"/>
                </a:lnTo>
                <a:lnTo>
                  <a:pt x="17" y="176"/>
                </a:lnTo>
                <a:lnTo>
                  <a:pt x="25" y="208"/>
                </a:lnTo>
                <a:lnTo>
                  <a:pt x="0" y="256"/>
                </a:lnTo>
                <a:lnTo>
                  <a:pt x="51" y="288"/>
                </a:lnTo>
                <a:lnTo>
                  <a:pt x="51" y="320"/>
                </a:lnTo>
                <a:lnTo>
                  <a:pt x="76" y="360"/>
                </a:lnTo>
                <a:lnTo>
                  <a:pt x="59" y="400"/>
                </a:lnTo>
                <a:lnTo>
                  <a:pt x="84" y="432"/>
                </a:lnTo>
                <a:lnTo>
                  <a:pt x="84" y="472"/>
                </a:lnTo>
                <a:lnTo>
                  <a:pt x="126" y="496"/>
                </a:lnTo>
                <a:lnTo>
                  <a:pt x="169" y="512"/>
                </a:lnTo>
                <a:lnTo>
                  <a:pt x="211" y="512"/>
                </a:lnTo>
                <a:lnTo>
                  <a:pt x="202" y="544"/>
                </a:lnTo>
                <a:lnTo>
                  <a:pt x="244" y="576"/>
                </a:lnTo>
                <a:lnTo>
                  <a:pt x="270" y="560"/>
                </a:lnTo>
                <a:lnTo>
                  <a:pt x="270" y="536"/>
                </a:lnTo>
                <a:lnTo>
                  <a:pt x="320" y="552"/>
                </a:lnTo>
                <a:lnTo>
                  <a:pt x="337" y="576"/>
                </a:lnTo>
                <a:lnTo>
                  <a:pt x="379" y="584"/>
                </a:lnTo>
                <a:lnTo>
                  <a:pt x="421" y="592"/>
                </a:lnTo>
                <a:lnTo>
                  <a:pt x="438" y="624"/>
                </a:lnTo>
                <a:lnTo>
                  <a:pt x="438" y="624"/>
                </a:lnTo>
                <a:lnTo>
                  <a:pt x="464" y="640"/>
                </a:lnTo>
                <a:lnTo>
                  <a:pt x="497" y="616"/>
                </a:lnTo>
                <a:lnTo>
                  <a:pt x="523" y="640"/>
                </a:lnTo>
                <a:lnTo>
                  <a:pt x="531" y="656"/>
                </a:lnTo>
                <a:lnTo>
                  <a:pt x="556" y="656"/>
                </a:lnTo>
                <a:lnTo>
                  <a:pt x="581" y="632"/>
                </a:lnTo>
                <a:lnTo>
                  <a:pt x="615" y="632"/>
                </a:lnTo>
                <a:lnTo>
                  <a:pt x="640" y="616"/>
                </a:lnTo>
                <a:lnTo>
                  <a:pt x="683" y="616"/>
                </a:lnTo>
                <a:lnTo>
                  <a:pt x="708" y="624"/>
                </a:lnTo>
                <a:lnTo>
                  <a:pt x="767" y="632"/>
                </a:lnTo>
                <a:lnTo>
                  <a:pt x="758" y="640"/>
                </a:lnTo>
                <a:lnTo>
                  <a:pt x="792" y="632"/>
                </a:lnTo>
                <a:lnTo>
                  <a:pt x="775" y="56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reeform 1211"/>
          <p:cNvSpPr/>
          <p:nvPr/>
        </p:nvSpPr>
        <p:spPr>
          <a:xfrm>
            <a:off x="7367760" y="2844720"/>
            <a:ext cx="666720" cy="507960"/>
          </a:xfrm>
          <a:custGeom>
            <a:avLst/>
            <a:gdLst>
              <a:gd name="textAreaLeft" fmla="*/ 0 w 666720"/>
              <a:gd name="textAreaRight" fmla="*/ 666720 w 6667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455" h="320">
                <a:moveTo>
                  <a:pt x="312" y="304"/>
                </a:moveTo>
                <a:lnTo>
                  <a:pt x="328" y="296"/>
                </a:lnTo>
                <a:lnTo>
                  <a:pt x="320" y="272"/>
                </a:lnTo>
                <a:lnTo>
                  <a:pt x="354" y="264"/>
                </a:lnTo>
                <a:lnTo>
                  <a:pt x="379" y="248"/>
                </a:lnTo>
                <a:lnTo>
                  <a:pt x="404" y="256"/>
                </a:lnTo>
                <a:lnTo>
                  <a:pt x="387" y="224"/>
                </a:lnTo>
                <a:lnTo>
                  <a:pt x="387" y="192"/>
                </a:lnTo>
                <a:lnTo>
                  <a:pt x="387" y="160"/>
                </a:lnTo>
                <a:lnTo>
                  <a:pt x="413" y="152"/>
                </a:lnTo>
                <a:lnTo>
                  <a:pt x="421" y="128"/>
                </a:lnTo>
                <a:lnTo>
                  <a:pt x="446" y="120"/>
                </a:lnTo>
                <a:lnTo>
                  <a:pt x="455" y="104"/>
                </a:lnTo>
                <a:lnTo>
                  <a:pt x="430" y="96"/>
                </a:lnTo>
                <a:lnTo>
                  <a:pt x="430" y="64"/>
                </a:lnTo>
                <a:lnTo>
                  <a:pt x="396" y="56"/>
                </a:lnTo>
                <a:lnTo>
                  <a:pt x="371" y="40"/>
                </a:lnTo>
                <a:lnTo>
                  <a:pt x="337" y="24"/>
                </a:lnTo>
                <a:lnTo>
                  <a:pt x="286" y="16"/>
                </a:lnTo>
                <a:lnTo>
                  <a:pt x="278" y="0"/>
                </a:lnTo>
                <a:lnTo>
                  <a:pt x="227" y="32"/>
                </a:lnTo>
                <a:lnTo>
                  <a:pt x="185" y="24"/>
                </a:lnTo>
                <a:lnTo>
                  <a:pt x="143" y="32"/>
                </a:lnTo>
                <a:lnTo>
                  <a:pt x="84" y="32"/>
                </a:lnTo>
                <a:lnTo>
                  <a:pt x="25" y="64"/>
                </a:lnTo>
                <a:lnTo>
                  <a:pt x="0" y="88"/>
                </a:lnTo>
                <a:lnTo>
                  <a:pt x="8" y="104"/>
                </a:lnTo>
                <a:lnTo>
                  <a:pt x="25" y="168"/>
                </a:lnTo>
                <a:lnTo>
                  <a:pt x="34" y="184"/>
                </a:lnTo>
                <a:lnTo>
                  <a:pt x="67" y="192"/>
                </a:lnTo>
                <a:lnTo>
                  <a:pt x="126" y="192"/>
                </a:lnTo>
                <a:lnTo>
                  <a:pt x="151" y="200"/>
                </a:lnTo>
                <a:lnTo>
                  <a:pt x="168" y="272"/>
                </a:lnTo>
                <a:lnTo>
                  <a:pt x="177" y="272"/>
                </a:lnTo>
                <a:lnTo>
                  <a:pt x="236" y="296"/>
                </a:lnTo>
                <a:lnTo>
                  <a:pt x="244" y="320"/>
                </a:lnTo>
                <a:lnTo>
                  <a:pt x="278" y="296"/>
                </a:lnTo>
                <a:lnTo>
                  <a:pt x="312" y="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eform 1213"/>
          <p:cNvSpPr/>
          <p:nvPr/>
        </p:nvSpPr>
        <p:spPr>
          <a:xfrm>
            <a:off x="7367760" y="2832120"/>
            <a:ext cx="666720" cy="507960"/>
          </a:xfrm>
          <a:custGeom>
            <a:avLst/>
            <a:gdLst>
              <a:gd name="textAreaLeft" fmla="*/ 0 w 666720"/>
              <a:gd name="textAreaRight" fmla="*/ 666720 w 6667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455" h="320">
                <a:moveTo>
                  <a:pt x="312" y="304"/>
                </a:moveTo>
                <a:lnTo>
                  <a:pt x="328" y="296"/>
                </a:lnTo>
                <a:lnTo>
                  <a:pt x="320" y="272"/>
                </a:lnTo>
                <a:lnTo>
                  <a:pt x="354" y="264"/>
                </a:lnTo>
                <a:lnTo>
                  <a:pt x="379" y="248"/>
                </a:lnTo>
                <a:lnTo>
                  <a:pt x="404" y="256"/>
                </a:lnTo>
                <a:lnTo>
                  <a:pt x="387" y="224"/>
                </a:lnTo>
                <a:lnTo>
                  <a:pt x="387" y="192"/>
                </a:lnTo>
                <a:lnTo>
                  <a:pt x="387" y="160"/>
                </a:lnTo>
                <a:lnTo>
                  <a:pt x="413" y="152"/>
                </a:lnTo>
                <a:lnTo>
                  <a:pt x="421" y="128"/>
                </a:lnTo>
                <a:lnTo>
                  <a:pt x="446" y="120"/>
                </a:lnTo>
                <a:lnTo>
                  <a:pt x="455" y="104"/>
                </a:lnTo>
                <a:lnTo>
                  <a:pt x="430" y="96"/>
                </a:lnTo>
                <a:lnTo>
                  <a:pt x="430" y="64"/>
                </a:lnTo>
                <a:lnTo>
                  <a:pt x="396" y="56"/>
                </a:lnTo>
                <a:lnTo>
                  <a:pt x="371" y="40"/>
                </a:lnTo>
                <a:lnTo>
                  <a:pt x="337" y="24"/>
                </a:lnTo>
                <a:lnTo>
                  <a:pt x="286" y="16"/>
                </a:lnTo>
                <a:lnTo>
                  <a:pt x="278" y="0"/>
                </a:lnTo>
                <a:lnTo>
                  <a:pt x="227" y="32"/>
                </a:lnTo>
                <a:lnTo>
                  <a:pt x="185" y="24"/>
                </a:lnTo>
                <a:lnTo>
                  <a:pt x="143" y="32"/>
                </a:lnTo>
                <a:lnTo>
                  <a:pt x="84" y="32"/>
                </a:lnTo>
                <a:lnTo>
                  <a:pt x="25" y="64"/>
                </a:lnTo>
                <a:lnTo>
                  <a:pt x="0" y="88"/>
                </a:lnTo>
                <a:lnTo>
                  <a:pt x="8" y="104"/>
                </a:lnTo>
                <a:lnTo>
                  <a:pt x="25" y="168"/>
                </a:lnTo>
                <a:lnTo>
                  <a:pt x="34" y="184"/>
                </a:lnTo>
                <a:lnTo>
                  <a:pt x="67" y="192"/>
                </a:lnTo>
                <a:lnTo>
                  <a:pt x="126" y="192"/>
                </a:lnTo>
                <a:lnTo>
                  <a:pt x="151" y="200"/>
                </a:lnTo>
                <a:lnTo>
                  <a:pt x="168" y="272"/>
                </a:lnTo>
                <a:lnTo>
                  <a:pt x="177" y="272"/>
                </a:lnTo>
                <a:lnTo>
                  <a:pt x="236" y="296"/>
                </a:lnTo>
                <a:lnTo>
                  <a:pt x="244" y="320"/>
                </a:lnTo>
                <a:lnTo>
                  <a:pt x="278" y="296"/>
                </a:lnTo>
                <a:lnTo>
                  <a:pt x="312" y="3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1214"/>
          <p:cNvSpPr/>
          <p:nvPr/>
        </p:nvSpPr>
        <p:spPr>
          <a:xfrm>
            <a:off x="7738920" y="3314880"/>
            <a:ext cx="1419480" cy="147312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969" h="928">
                <a:moveTo>
                  <a:pt x="935" y="104"/>
                </a:moveTo>
                <a:lnTo>
                  <a:pt x="910" y="96"/>
                </a:lnTo>
                <a:lnTo>
                  <a:pt x="893" y="56"/>
                </a:lnTo>
                <a:lnTo>
                  <a:pt x="910" y="40"/>
                </a:lnTo>
                <a:lnTo>
                  <a:pt x="867" y="16"/>
                </a:lnTo>
                <a:lnTo>
                  <a:pt x="825" y="0"/>
                </a:lnTo>
                <a:lnTo>
                  <a:pt x="766" y="32"/>
                </a:lnTo>
                <a:lnTo>
                  <a:pt x="733" y="32"/>
                </a:lnTo>
                <a:lnTo>
                  <a:pt x="724" y="72"/>
                </a:lnTo>
                <a:lnTo>
                  <a:pt x="691" y="72"/>
                </a:lnTo>
                <a:lnTo>
                  <a:pt x="632" y="96"/>
                </a:lnTo>
                <a:lnTo>
                  <a:pt x="615" y="160"/>
                </a:lnTo>
                <a:lnTo>
                  <a:pt x="623" y="192"/>
                </a:lnTo>
                <a:lnTo>
                  <a:pt x="573" y="176"/>
                </a:lnTo>
                <a:lnTo>
                  <a:pt x="530" y="200"/>
                </a:lnTo>
                <a:lnTo>
                  <a:pt x="505" y="184"/>
                </a:lnTo>
                <a:lnTo>
                  <a:pt x="480" y="216"/>
                </a:lnTo>
                <a:lnTo>
                  <a:pt x="446" y="200"/>
                </a:lnTo>
                <a:lnTo>
                  <a:pt x="412" y="200"/>
                </a:lnTo>
                <a:lnTo>
                  <a:pt x="387" y="224"/>
                </a:lnTo>
                <a:lnTo>
                  <a:pt x="353" y="200"/>
                </a:lnTo>
                <a:lnTo>
                  <a:pt x="294" y="208"/>
                </a:lnTo>
                <a:lnTo>
                  <a:pt x="202" y="216"/>
                </a:lnTo>
                <a:lnTo>
                  <a:pt x="143" y="224"/>
                </a:lnTo>
                <a:lnTo>
                  <a:pt x="101" y="248"/>
                </a:lnTo>
                <a:lnTo>
                  <a:pt x="84" y="272"/>
                </a:lnTo>
                <a:lnTo>
                  <a:pt x="50" y="272"/>
                </a:lnTo>
                <a:lnTo>
                  <a:pt x="75" y="304"/>
                </a:lnTo>
                <a:lnTo>
                  <a:pt x="109" y="368"/>
                </a:lnTo>
                <a:lnTo>
                  <a:pt x="118" y="408"/>
                </a:lnTo>
                <a:lnTo>
                  <a:pt x="84" y="416"/>
                </a:lnTo>
                <a:lnTo>
                  <a:pt x="33" y="512"/>
                </a:lnTo>
                <a:lnTo>
                  <a:pt x="50" y="584"/>
                </a:lnTo>
                <a:lnTo>
                  <a:pt x="16" y="592"/>
                </a:lnTo>
                <a:lnTo>
                  <a:pt x="8" y="632"/>
                </a:lnTo>
                <a:lnTo>
                  <a:pt x="0" y="680"/>
                </a:lnTo>
                <a:lnTo>
                  <a:pt x="16" y="672"/>
                </a:lnTo>
                <a:lnTo>
                  <a:pt x="50" y="696"/>
                </a:lnTo>
                <a:lnTo>
                  <a:pt x="75" y="720"/>
                </a:lnTo>
                <a:lnTo>
                  <a:pt x="109" y="696"/>
                </a:lnTo>
                <a:lnTo>
                  <a:pt x="143" y="704"/>
                </a:lnTo>
                <a:lnTo>
                  <a:pt x="177" y="704"/>
                </a:lnTo>
                <a:lnTo>
                  <a:pt x="227" y="696"/>
                </a:lnTo>
                <a:lnTo>
                  <a:pt x="261" y="712"/>
                </a:lnTo>
                <a:lnTo>
                  <a:pt x="286" y="688"/>
                </a:lnTo>
                <a:lnTo>
                  <a:pt x="362" y="664"/>
                </a:lnTo>
                <a:lnTo>
                  <a:pt x="396" y="616"/>
                </a:lnTo>
                <a:lnTo>
                  <a:pt x="404" y="616"/>
                </a:lnTo>
                <a:lnTo>
                  <a:pt x="412" y="608"/>
                </a:lnTo>
                <a:lnTo>
                  <a:pt x="463" y="600"/>
                </a:lnTo>
                <a:lnTo>
                  <a:pt x="488" y="576"/>
                </a:lnTo>
                <a:lnTo>
                  <a:pt x="556" y="600"/>
                </a:lnTo>
                <a:lnTo>
                  <a:pt x="615" y="600"/>
                </a:lnTo>
                <a:lnTo>
                  <a:pt x="640" y="648"/>
                </a:lnTo>
                <a:lnTo>
                  <a:pt x="691" y="664"/>
                </a:lnTo>
                <a:lnTo>
                  <a:pt x="707" y="696"/>
                </a:lnTo>
                <a:lnTo>
                  <a:pt x="741" y="728"/>
                </a:lnTo>
                <a:lnTo>
                  <a:pt x="758" y="760"/>
                </a:lnTo>
                <a:lnTo>
                  <a:pt x="682" y="776"/>
                </a:lnTo>
                <a:lnTo>
                  <a:pt x="657" y="800"/>
                </a:lnTo>
                <a:lnTo>
                  <a:pt x="674" y="824"/>
                </a:lnTo>
                <a:lnTo>
                  <a:pt x="657" y="888"/>
                </a:lnTo>
                <a:lnTo>
                  <a:pt x="640" y="912"/>
                </a:lnTo>
                <a:lnTo>
                  <a:pt x="674" y="928"/>
                </a:lnTo>
                <a:lnTo>
                  <a:pt x="724" y="904"/>
                </a:lnTo>
                <a:lnTo>
                  <a:pt x="766" y="904"/>
                </a:lnTo>
                <a:lnTo>
                  <a:pt x="766" y="872"/>
                </a:lnTo>
                <a:lnTo>
                  <a:pt x="808" y="768"/>
                </a:lnTo>
                <a:lnTo>
                  <a:pt x="834" y="736"/>
                </a:lnTo>
                <a:lnTo>
                  <a:pt x="867" y="704"/>
                </a:lnTo>
                <a:lnTo>
                  <a:pt x="918" y="680"/>
                </a:lnTo>
                <a:lnTo>
                  <a:pt x="969" y="688"/>
                </a:lnTo>
                <a:lnTo>
                  <a:pt x="969" y="104"/>
                </a:lnTo>
                <a:lnTo>
                  <a:pt x="935" y="1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216"/>
          <p:cNvSpPr/>
          <p:nvPr/>
        </p:nvSpPr>
        <p:spPr>
          <a:xfrm>
            <a:off x="7354800" y="2540160"/>
            <a:ext cx="777960" cy="444240"/>
          </a:xfrm>
          <a:custGeom>
            <a:avLst/>
            <a:gdLst>
              <a:gd name="textAreaLeft" fmla="*/ 0 w 777960"/>
              <a:gd name="textAreaRight" fmla="*/ 778320 w 7779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531" h="280">
                <a:moveTo>
                  <a:pt x="472" y="80"/>
                </a:moveTo>
                <a:lnTo>
                  <a:pt x="464" y="40"/>
                </a:lnTo>
                <a:lnTo>
                  <a:pt x="413" y="32"/>
                </a:lnTo>
                <a:lnTo>
                  <a:pt x="371" y="40"/>
                </a:lnTo>
                <a:lnTo>
                  <a:pt x="304" y="0"/>
                </a:lnTo>
                <a:lnTo>
                  <a:pt x="262" y="0"/>
                </a:lnTo>
                <a:lnTo>
                  <a:pt x="211" y="32"/>
                </a:lnTo>
                <a:lnTo>
                  <a:pt x="211" y="40"/>
                </a:lnTo>
                <a:lnTo>
                  <a:pt x="219" y="72"/>
                </a:lnTo>
                <a:lnTo>
                  <a:pt x="219" y="104"/>
                </a:lnTo>
                <a:lnTo>
                  <a:pt x="211" y="128"/>
                </a:lnTo>
                <a:lnTo>
                  <a:pt x="194" y="128"/>
                </a:lnTo>
                <a:lnTo>
                  <a:pt x="160" y="128"/>
                </a:lnTo>
                <a:lnTo>
                  <a:pt x="110" y="80"/>
                </a:lnTo>
                <a:lnTo>
                  <a:pt x="76" y="64"/>
                </a:lnTo>
                <a:lnTo>
                  <a:pt x="43" y="88"/>
                </a:lnTo>
                <a:lnTo>
                  <a:pt x="17" y="160"/>
                </a:lnTo>
                <a:lnTo>
                  <a:pt x="0" y="192"/>
                </a:lnTo>
                <a:lnTo>
                  <a:pt x="0" y="224"/>
                </a:lnTo>
                <a:lnTo>
                  <a:pt x="9" y="280"/>
                </a:lnTo>
                <a:lnTo>
                  <a:pt x="34" y="256"/>
                </a:lnTo>
                <a:lnTo>
                  <a:pt x="93" y="224"/>
                </a:lnTo>
                <a:lnTo>
                  <a:pt x="152" y="224"/>
                </a:lnTo>
                <a:lnTo>
                  <a:pt x="194" y="216"/>
                </a:lnTo>
                <a:lnTo>
                  <a:pt x="236" y="224"/>
                </a:lnTo>
                <a:lnTo>
                  <a:pt x="287" y="192"/>
                </a:lnTo>
                <a:lnTo>
                  <a:pt x="295" y="208"/>
                </a:lnTo>
                <a:lnTo>
                  <a:pt x="346" y="216"/>
                </a:lnTo>
                <a:lnTo>
                  <a:pt x="380" y="232"/>
                </a:lnTo>
                <a:lnTo>
                  <a:pt x="405" y="248"/>
                </a:lnTo>
                <a:lnTo>
                  <a:pt x="430" y="248"/>
                </a:lnTo>
                <a:lnTo>
                  <a:pt x="455" y="232"/>
                </a:lnTo>
                <a:lnTo>
                  <a:pt x="498" y="232"/>
                </a:lnTo>
                <a:lnTo>
                  <a:pt x="531" y="176"/>
                </a:lnTo>
                <a:lnTo>
                  <a:pt x="506" y="112"/>
                </a:lnTo>
                <a:lnTo>
                  <a:pt x="472" y="8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Freeform 1217"/>
          <p:cNvSpPr/>
          <p:nvPr/>
        </p:nvSpPr>
        <p:spPr>
          <a:xfrm>
            <a:off x="7724880" y="2793960"/>
            <a:ext cx="1063440" cy="952560"/>
          </a:xfrm>
          <a:custGeom>
            <a:avLst/>
            <a:gdLst>
              <a:gd name="textAreaLeft" fmla="*/ 0 w 1063440"/>
              <a:gd name="textAreaRight" fmla="*/ 1063800 w 106344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725" h="600">
                <a:moveTo>
                  <a:pt x="657" y="344"/>
                </a:moveTo>
                <a:lnTo>
                  <a:pt x="657" y="320"/>
                </a:lnTo>
                <a:lnTo>
                  <a:pt x="632" y="304"/>
                </a:lnTo>
                <a:lnTo>
                  <a:pt x="641" y="280"/>
                </a:lnTo>
                <a:lnTo>
                  <a:pt x="691" y="272"/>
                </a:lnTo>
                <a:lnTo>
                  <a:pt x="708" y="256"/>
                </a:lnTo>
                <a:lnTo>
                  <a:pt x="725" y="232"/>
                </a:lnTo>
                <a:lnTo>
                  <a:pt x="700" y="208"/>
                </a:lnTo>
                <a:lnTo>
                  <a:pt x="632" y="192"/>
                </a:lnTo>
                <a:lnTo>
                  <a:pt x="624" y="168"/>
                </a:lnTo>
                <a:lnTo>
                  <a:pt x="582" y="160"/>
                </a:lnTo>
                <a:lnTo>
                  <a:pt x="548" y="136"/>
                </a:lnTo>
                <a:lnTo>
                  <a:pt x="548" y="120"/>
                </a:lnTo>
                <a:lnTo>
                  <a:pt x="514" y="104"/>
                </a:lnTo>
                <a:lnTo>
                  <a:pt x="514" y="72"/>
                </a:lnTo>
                <a:lnTo>
                  <a:pt x="506" y="40"/>
                </a:lnTo>
                <a:lnTo>
                  <a:pt x="472" y="16"/>
                </a:lnTo>
                <a:lnTo>
                  <a:pt x="438" y="8"/>
                </a:lnTo>
                <a:lnTo>
                  <a:pt x="396" y="32"/>
                </a:lnTo>
                <a:lnTo>
                  <a:pt x="379" y="16"/>
                </a:lnTo>
                <a:lnTo>
                  <a:pt x="346" y="8"/>
                </a:lnTo>
                <a:lnTo>
                  <a:pt x="329" y="16"/>
                </a:lnTo>
                <a:lnTo>
                  <a:pt x="303" y="0"/>
                </a:lnTo>
                <a:lnTo>
                  <a:pt x="278" y="0"/>
                </a:lnTo>
                <a:lnTo>
                  <a:pt x="245" y="64"/>
                </a:lnTo>
                <a:lnTo>
                  <a:pt x="202" y="64"/>
                </a:lnTo>
                <a:lnTo>
                  <a:pt x="177" y="80"/>
                </a:lnTo>
                <a:lnTo>
                  <a:pt x="186" y="88"/>
                </a:lnTo>
                <a:lnTo>
                  <a:pt x="186" y="120"/>
                </a:lnTo>
                <a:lnTo>
                  <a:pt x="211" y="128"/>
                </a:lnTo>
                <a:lnTo>
                  <a:pt x="202" y="144"/>
                </a:lnTo>
                <a:lnTo>
                  <a:pt x="177" y="152"/>
                </a:lnTo>
                <a:lnTo>
                  <a:pt x="169" y="176"/>
                </a:lnTo>
                <a:lnTo>
                  <a:pt x="143" y="184"/>
                </a:lnTo>
                <a:lnTo>
                  <a:pt x="143" y="216"/>
                </a:lnTo>
                <a:lnTo>
                  <a:pt x="143" y="248"/>
                </a:lnTo>
                <a:lnTo>
                  <a:pt x="160" y="280"/>
                </a:lnTo>
                <a:lnTo>
                  <a:pt x="135" y="272"/>
                </a:lnTo>
                <a:lnTo>
                  <a:pt x="110" y="288"/>
                </a:lnTo>
                <a:lnTo>
                  <a:pt x="76" y="296"/>
                </a:lnTo>
                <a:lnTo>
                  <a:pt x="84" y="320"/>
                </a:lnTo>
                <a:lnTo>
                  <a:pt x="68" y="328"/>
                </a:lnTo>
                <a:lnTo>
                  <a:pt x="34" y="320"/>
                </a:lnTo>
                <a:lnTo>
                  <a:pt x="0" y="344"/>
                </a:lnTo>
                <a:lnTo>
                  <a:pt x="17" y="384"/>
                </a:lnTo>
                <a:lnTo>
                  <a:pt x="59" y="464"/>
                </a:lnTo>
                <a:lnTo>
                  <a:pt x="17" y="512"/>
                </a:lnTo>
                <a:lnTo>
                  <a:pt x="17" y="536"/>
                </a:lnTo>
                <a:lnTo>
                  <a:pt x="51" y="544"/>
                </a:lnTo>
                <a:lnTo>
                  <a:pt x="59" y="600"/>
                </a:lnTo>
                <a:lnTo>
                  <a:pt x="59" y="600"/>
                </a:lnTo>
                <a:lnTo>
                  <a:pt x="93" y="600"/>
                </a:lnTo>
                <a:lnTo>
                  <a:pt x="110" y="576"/>
                </a:lnTo>
                <a:lnTo>
                  <a:pt x="152" y="552"/>
                </a:lnTo>
                <a:lnTo>
                  <a:pt x="211" y="544"/>
                </a:lnTo>
                <a:lnTo>
                  <a:pt x="303" y="536"/>
                </a:lnTo>
                <a:lnTo>
                  <a:pt x="362" y="528"/>
                </a:lnTo>
                <a:lnTo>
                  <a:pt x="396" y="552"/>
                </a:lnTo>
                <a:lnTo>
                  <a:pt x="421" y="528"/>
                </a:lnTo>
                <a:lnTo>
                  <a:pt x="455" y="528"/>
                </a:lnTo>
                <a:lnTo>
                  <a:pt x="489" y="544"/>
                </a:lnTo>
                <a:lnTo>
                  <a:pt x="514" y="512"/>
                </a:lnTo>
                <a:lnTo>
                  <a:pt x="539" y="528"/>
                </a:lnTo>
                <a:lnTo>
                  <a:pt x="582" y="504"/>
                </a:lnTo>
                <a:lnTo>
                  <a:pt x="632" y="520"/>
                </a:lnTo>
                <a:lnTo>
                  <a:pt x="624" y="488"/>
                </a:lnTo>
                <a:lnTo>
                  <a:pt x="641" y="424"/>
                </a:lnTo>
                <a:lnTo>
                  <a:pt x="700" y="400"/>
                </a:lnTo>
                <a:lnTo>
                  <a:pt x="674" y="368"/>
                </a:lnTo>
                <a:lnTo>
                  <a:pt x="657" y="34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reeform 1218"/>
          <p:cNvSpPr/>
          <p:nvPr/>
        </p:nvSpPr>
        <p:spPr>
          <a:xfrm>
            <a:off x="7354800" y="2527200"/>
            <a:ext cx="777960" cy="444600"/>
          </a:xfrm>
          <a:custGeom>
            <a:avLst/>
            <a:gdLst>
              <a:gd name="textAreaLeft" fmla="*/ 0 w 777960"/>
              <a:gd name="textAreaRight" fmla="*/ 778320 w 777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531" h="280">
                <a:moveTo>
                  <a:pt x="472" y="80"/>
                </a:moveTo>
                <a:lnTo>
                  <a:pt x="464" y="40"/>
                </a:lnTo>
                <a:lnTo>
                  <a:pt x="413" y="32"/>
                </a:lnTo>
                <a:lnTo>
                  <a:pt x="371" y="40"/>
                </a:lnTo>
                <a:lnTo>
                  <a:pt x="304" y="0"/>
                </a:lnTo>
                <a:lnTo>
                  <a:pt x="262" y="0"/>
                </a:lnTo>
                <a:lnTo>
                  <a:pt x="211" y="32"/>
                </a:lnTo>
                <a:lnTo>
                  <a:pt x="211" y="40"/>
                </a:lnTo>
                <a:lnTo>
                  <a:pt x="219" y="72"/>
                </a:lnTo>
                <a:lnTo>
                  <a:pt x="219" y="104"/>
                </a:lnTo>
                <a:lnTo>
                  <a:pt x="211" y="128"/>
                </a:lnTo>
                <a:lnTo>
                  <a:pt x="194" y="128"/>
                </a:lnTo>
                <a:lnTo>
                  <a:pt x="160" y="128"/>
                </a:lnTo>
                <a:lnTo>
                  <a:pt x="110" y="80"/>
                </a:lnTo>
                <a:lnTo>
                  <a:pt x="76" y="64"/>
                </a:lnTo>
                <a:lnTo>
                  <a:pt x="43" y="88"/>
                </a:lnTo>
                <a:lnTo>
                  <a:pt x="17" y="160"/>
                </a:lnTo>
                <a:lnTo>
                  <a:pt x="0" y="192"/>
                </a:lnTo>
                <a:lnTo>
                  <a:pt x="0" y="224"/>
                </a:lnTo>
                <a:lnTo>
                  <a:pt x="9" y="280"/>
                </a:lnTo>
                <a:lnTo>
                  <a:pt x="34" y="256"/>
                </a:lnTo>
                <a:lnTo>
                  <a:pt x="93" y="224"/>
                </a:lnTo>
                <a:lnTo>
                  <a:pt x="152" y="224"/>
                </a:lnTo>
                <a:lnTo>
                  <a:pt x="194" y="216"/>
                </a:lnTo>
                <a:lnTo>
                  <a:pt x="236" y="224"/>
                </a:lnTo>
                <a:lnTo>
                  <a:pt x="287" y="192"/>
                </a:lnTo>
                <a:lnTo>
                  <a:pt x="295" y="208"/>
                </a:lnTo>
                <a:lnTo>
                  <a:pt x="346" y="216"/>
                </a:lnTo>
                <a:lnTo>
                  <a:pt x="380" y="232"/>
                </a:lnTo>
                <a:lnTo>
                  <a:pt x="405" y="248"/>
                </a:lnTo>
                <a:lnTo>
                  <a:pt x="430" y="248"/>
                </a:lnTo>
                <a:lnTo>
                  <a:pt x="455" y="232"/>
                </a:lnTo>
                <a:lnTo>
                  <a:pt x="498" y="232"/>
                </a:lnTo>
                <a:lnTo>
                  <a:pt x="531" y="176"/>
                </a:lnTo>
                <a:lnTo>
                  <a:pt x="506" y="112"/>
                </a:lnTo>
                <a:lnTo>
                  <a:pt x="472" y="8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1219"/>
          <p:cNvSpPr/>
          <p:nvPr/>
        </p:nvSpPr>
        <p:spPr>
          <a:xfrm>
            <a:off x="7515360" y="2209680"/>
            <a:ext cx="495000" cy="393840"/>
          </a:xfrm>
          <a:custGeom>
            <a:avLst/>
            <a:gdLst>
              <a:gd name="textAreaLeft" fmla="*/ 0 w 495000"/>
              <a:gd name="textAreaRight" fmla="*/ 495360 w 4950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37" h="248">
                <a:moveTo>
                  <a:pt x="295" y="128"/>
                </a:moveTo>
                <a:lnTo>
                  <a:pt x="295" y="64"/>
                </a:lnTo>
                <a:lnTo>
                  <a:pt x="295" y="16"/>
                </a:lnTo>
                <a:lnTo>
                  <a:pt x="286" y="0"/>
                </a:lnTo>
                <a:lnTo>
                  <a:pt x="236" y="8"/>
                </a:lnTo>
                <a:lnTo>
                  <a:pt x="126" y="16"/>
                </a:lnTo>
                <a:lnTo>
                  <a:pt x="67" y="40"/>
                </a:lnTo>
                <a:lnTo>
                  <a:pt x="25" y="64"/>
                </a:lnTo>
                <a:lnTo>
                  <a:pt x="8" y="88"/>
                </a:lnTo>
                <a:lnTo>
                  <a:pt x="0" y="112"/>
                </a:lnTo>
                <a:lnTo>
                  <a:pt x="25" y="128"/>
                </a:lnTo>
                <a:lnTo>
                  <a:pt x="17" y="152"/>
                </a:lnTo>
                <a:lnTo>
                  <a:pt x="25" y="176"/>
                </a:lnTo>
                <a:lnTo>
                  <a:pt x="42" y="184"/>
                </a:lnTo>
                <a:lnTo>
                  <a:pt x="67" y="184"/>
                </a:lnTo>
                <a:lnTo>
                  <a:pt x="93" y="176"/>
                </a:lnTo>
                <a:lnTo>
                  <a:pt x="101" y="240"/>
                </a:lnTo>
                <a:lnTo>
                  <a:pt x="152" y="208"/>
                </a:lnTo>
                <a:lnTo>
                  <a:pt x="194" y="208"/>
                </a:lnTo>
                <a:lnTo>
                  <a:pt x="261" y="248"/>
                </a:lnTo>
                <a:lnTo>
                  <a:pt x="303" y="240"/>
                </a:lnTo>
                <a:lnTo>
                  <a:pt x="320" y="240"/>
                </a:lnTo>
                <a:lnTo>
                  <a:pt x="337" y="176"/>
                </a:lnTo>
                <a:lnTo>
                  <a:pt x="295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1221"/>
          <p:cNvSpPr/>
          <p:nvPr/>
        </p:nvSpPr>
        <p:spPr>
          <a:xfrm>
            <a:off x="7515360" y="2197080"/>
            <a:ext cx="495000" cy="393840"/>
          </a:xfrm>
          <a:custGeom>
            <a:avLst/>
            <a:gdLst>
              <a:gd name="textAreaLeft" fmla="*/ 0 w 495000"/>
              <a:gd name="textAreaRight" fmla="*/ 495360 w 4950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37" h="248">
                <a:moveTo>
                  <a:pt x="295" y="128"/>
                </a:moveTo>
                <a:lnTo>
                  <a:pt x="295" y="64"/>
                </a:lnTo>
                <a:lnTo>
                  <a:pt x="295" y="16"/>
                </a:lnTo>
                <a:lnTo>
                  <a:pt x="286" y="0"/>
                </a:lnTo>
                <a:lnTo>
                  <a:pt x="236" y="8"/>
                </a:lnTo>
                <a:lnTo>
                  <a:pt x="126" y="16"/>
                </a:lnTo>
                <a:lnTo>
                  <a:pt x="67" y="40"/>
                </a:lnTo>
                <a:lnTo>
                  <a:pt x="25" y="64"/>
                </a:lnTo>
                <a:lnTo>
                  <a:pt x="8" y="88"/>
                </a:lnTo>
                <a:lnTo>
                  <a:pt x="0" y="112"/>
                </a:lnTo>
                <a:lnTo>
                  <a:pt x="25" y="128"/>
                </a:lnTo>
                <a:lnTo>
                  <a:pt x="17" y="152"/>
                </a:lnTo>
                <a:lnTo>
                  <a:pt x="25" y="176"/>
                </a:lnTo>
                <a:lnTo>
                  <a:pt x="42" y="184"/>
                </a:lnTo>
                <a:lnTo>
                  <a:pt x="67" y="184"/>
                </a:lnTo>
                <a:lnTo>
                  <a:pt x="93" y="176"/>
                </a:lnTo>
                <a:lnTo>
                  <a:pt x="101" y="240"/>
                </a:lnTo>
                <a:lnTo>
                  <a:pt x="152" y="208"/>
                </a:lnTo>
                <a:lnTo>
                  <a:pt x="194" y="208"/>
                </a:lnTo>
                <a:lnTo>
                  <a:pt x="261" y="248"/>
                </a:lnTo>
                <a:lnTo>
                  <a:pt x="303" y="240"/>
                </a:lnTo>
                <a:lnTo>
                  <a:pt x="320" y="240"/>
                </a:lnTo>
                <a:lnTo>
                  <a:pt x="337" y="176"/>
                </a:lnTo>
                <a:lnTo>
                  <a:pt x="295" y="12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1222"/>
          <p:cNvSpPr/>
          <p:nvPr/>
        </p:nvSpPr>
        <p:spPr>
          <a:xfrm>
            <a:off x="7523280" y="0"/>
            <a:ext cx="1633320" cy="3476520"/>
          </a:xfrm>
          <a:custGeom>
            <a:avLst/>
            <a:gdLst>
              <a:gd name="textAreaLeft" fmla="*/ 0 w 1633320"/>
              <a:gd name="textAreaRight" fmla="*/ 1633320 w 1633320"/>
              <a:gd name="textAreaTop" fmla="*/ 0 h 3476520"/>
              <a:gd name="textAreaBottom" fmla="*/ 3476880 h 3476520"/>
            </a:gdLst>
            <a:ahLst/>
            <a:rect l="textAreaLeft" t="textAreaTop" r="textAreaRight" b="textAreaBottom"/>
            <a:pathLst>
              <a:path w="1115" h="2190">
                <a:moveTo>
                  <a:pt x="1011" y="0"/>
                </a:moveTo>
                <a:lnTo>
                  <a:pt x="995" y="54"/>
                </a:lnTo>
                <a:lnTo>
                  <a:pt x="1011" y="102"/>
                </a:lnTo>
                <a:lnTo>
                  <a:pt x="1011" y="126"/>
                </a:lnTo>
                <a:lnTo>
                  <a:pt x="1003" y="150"/>
                </a:lnTo>
                <a:lnTo>
                  <a:pt x="961" y="174"/>
                </a:lnTo>
                <a:lnTo>
                  <a:pt x="936" y="174"/>
                </a:lnTo>
                <a:lnTo>
                  <a:pt x="919" y="158"/>
                </a:lnTo>
                <a:lnTo>
                  <a:pt x="902" y="150"/>
                </a:lnTo>
                <a:lnTo>
                  <a:pt x="893" y="158"/>
                </a:lnTo>
                <a:lnTo>
                  <a:pt x="877" y="158"/>
                </a:lnTo>
                <a:lnTo>
                  <a:pt x="877" y="134"/>
                </a:lnTo>
                <a:lnTo>
                  <a:pt x="877" y="102"/>
                </a:lnTo>
                <a:lnTo>
                  <a:pt x="893" y="78"/>
                </a:lnTo>
                <a:lnTo>
                  <a:pt x="902" y="54"/>
                </a:lnTo>
                <a:lnTo>
                  <a:pt x="893" y="38"/>
                </a:lnTo>
                <a:lnTo>
                  <a:pt x="851" y="6"/>
                </a:lnTo>
                <a:lnTo>
                  <a:pt x="801" y="14"/>
                </a:lnTo>
                <a:lnTo>
                  <a:pt x="750" y="30"/>
                </a:lnTo>
                <a:lnTo>
                  <a:pt x="700" y="38"/>
                </a:lnTo>
                <a:lnTo>
                  <a:pt x="742" y="54"/>
                </a:lnTo>
                <a:lnTo>
                  <a:pt x="784" y="78"/>
                </a:lnTo>
                <a:lnTo>
                  <a:pt x="809" y="166"/>
                </a:lnTo>
                <a:lnTo>
                  <a:pt x="818" y="190"/>
                </a:lnTo>
                <a:lnTo>
                  <a:pt x="843" y="190"/>
                </a:lnTo>
                <a:lnTo>
                  <a:pt x="877" y="214"/>
                </a:lnTo>
                <a:lnTo>
                  <a:pt x="902" y="254"/>
                </a:lnTo>
                <a:lnTo>
                  <a:pt x="910" y="302"/>
                </a:lnTo>
                <a:lnTo>
                  <a:pt x="851" y="294"/>
                </a:lnTo>
                <a:lnTo>
                  <a:pt x="801" y="302"/>
                </a:lnTo>
                <a:lnTo>
                  <a:pt x="784" y="310"/>
                </a:lnTo>
                <a:lnTo>
                  <a:pt x="784" y="318"/>
                </a:lnTo>
                <a:lnTo>
                  <a:pt x="776" y="350"/>
                </a:lnTo>
                <a:lnTo>
                  <a:pt x="750" y="390"/>
                </a:lnTo>
                <a:lnTo>
                  <a:pt x="725" y="438"/>
                </a:lnTo>
                <a:lnTo>
                  <a:pt x="717" y="470"/>
                </a:lnTo>
                <a:lnTo>
                  <a:pt x="733" y="486"/>
                </a:lnTo>
                <a:lnTo>
                  <a:pt x="818" y="550"/>
                </a:lnTo>
                <a:lnTo>
                  <a:pt x="750" y="574"/>
                </a:lnTo>
                <a:lnTo>
                  <a:pt x="666" y="574"/>
                </a:lnTo>
                <a:lnTo>
                  <a:pt x="599" y="558"/>
                </a:lnTo>
                <a:lnTo>
                  <a:pt x="582" y="574"/>
                </a:lnTo>
                <a:lnTo>
                  <a:pt x="573" y="598"/>
                </a:lnTo>
                <a:lnTo>
                  <a:pt x="607" y="630"/>
                </a:lnTo>
                <a:lnTo>
                  <a:pt x="658" y="638"/>
                </a:lnTo>
                <a:lnTo>
                  <a:pt x="683" y="638"/>
                </a:lnTo>
                <a:lnTo>
                  <a:pt x="700" y="654"/>
                </a:lnTo>
                <a:lnTo>
                  <a:pt x="700" y="670"/>
                </a:lnTo>
                <a:lnTo>
                  <a:pt x="683" y="694"/>
                </a:lnTo>
                <a:lnTo>
                  <a:pt x="674" y="702"/>
                </a:lnTo>
                <a:lnTo>
                  <a:pt x="649" y="702"/>
                </a:lnTo>
                <a:lnTo>
                  <a:pt x="599" y="686"/>
                </a:lnTo>
                <a:lnTo>
                  <a:pt x="548" y="678"/>
                </a:lnTo>
                <a:lnTo>
                  <a:pt x="523" y="670"/>
                </a:lnTo>
                <a:lnTo>
                  <a:pt x="506" y="654"/>
                </a:lnTo>
                <a:lnTo>
                  <a:pt x="447" y="582"/>
                </a:lnTo>
                <a:lnTo>
                  <a:pt x="438" y="542"/>
                </a:lnTo>
                <a:lnTo>
                  <a:pt x="438" y="526"/>
                </a:lnTo>
                <a:lnTo>
                  <a:pt x="430" y="502"/>
                </a:lnTo>
                <a:lnTo>
                  <a:pt x="380" y="486"/>
                </a:lnTo>
                <a:lnTo>
                  <a:pt x="337" y="470"/>
                </a:lnTo>
                <a:lnTo>
                  <a:pt x="253" y="414"/>
                </a:lnTo>
                <a:lnTo>
                  <a:pt x="287" y="414"/>
                </a:lnTo>
                <a:lnTo>
                  <a:pt x="321" y="430"/>
                </a:lnTo>
                <a:lnTo>
                  <a:pt x="396" y="430"/>
                </a:lnTo>
                <a:lnTo>
                  <a:pt x="565" y="438"/>
                </a:lnTo>
                <a:lnTo>
                  <a:pt x="624" y="422"/>
                </a:lnTo>
                <a:lnTo>
                  <a:pt x="658" y="406"/>
                </a:lnTo>
                <a:lnTo>
                  <a:pt x="683" y="374"/>
                </a:lnTo>
                <a:lnTo>
                  <a:pt x="708" y="310"/>
                </a:lnTo>
                <a:lnTo>
                  <a:pt x="717" y="278"/>
                </a:lnTo>
                <a:lnTo>
                  <a:pt x="708" y="246"/>
                </a:lnTo>
                <a:lnTo>
                  <a:pt x="666" y="198"/>
                </a:lnTo>
                <a:lnTo>
                  <a:pt x="599" y="182"/>
                </a:lnTo>
                <a:lnTo>
                  <a:pt x="447" y="142"/>
                </a:lnTo>
                <a:lnTo>
                  <a:pt x="371" y="118"/>
                </a:lnTo>
                <a:lnTo>
                  <a:pt x="304" y="118"/>
                </a:lnTo>
                <a:lnTo>
                  <a:pt x="152" y="118"/>
                </a:lnTo>
                <a:lnTo>
                  <a:pt x="177" y="94"/>
                </a:lnTo>
                <a:lnTo>
                  <a:pt x="186" y="86"/>
                </a:lnTo>
                <a:lnTo>
                  <a:pt x="169" y="78"/>
                </a:lnTo>
                <a:lnTo>
                  <a:pt x="127" y="70"/>
                </a:lnTo>
                <a:lnTo>
                  <a:pt x="110" y="102"/>
                </a:lnTo>
                <a:lnTo>
                  <a:pt x="76" y="110"/>
                </a:lnTo>
                <a:lnTo>
                  <a:pt x="76" y="134"/>
                </a:lnTo>
                <a:lnTo>
                  <a:pt x="42" y="166"/>
                </a:lnTo>
                <a:lnTo>
                  <a:pt x="9" y="214"/>
                </a:lnTo>
                <a:lnTo>
                  <a:pt x="0" y="262"/>
                </a:lnTo>
                <a:lnTo>
                  <a:pt x="26" y="326"/>
                </a:lnTo>
                <a:lnTo>
                  <a:pt x="68" y="342"/>
                </a:lnTo>
                <a:lnTo>
                  <a:pt x="110" y="382"/>
                </a:lnTo>
                <a:lnTo>
                  <a:pt x="93" y="438"/>
                </a:lnTo>
                <a:lnTo>
                  <a:pt x="144" y="534"/>
                </a:lnTo>
                <a:lnTo>
                  <a:pt x="211" y="598"/>
                </a:lnTo>
                <a:lnTo>
                  <a:pt x="169" y="646"/>
                </a:lnTo>
                <a:lnTo>
                  <a:pt x="177" y="702"/>
                </a:lnTo>
                <a:lnTo>
                  <a:pt x="245" y="742"/>
                </a:lnTo>
                <a:lnTo>
                  <a:pt x="287" y="798"/>
                </a:lnTo>
                <a:lnTo>
                  <a:pt x="270" y="846"/>
                </a:lnTo>
                <a:lnTo>
                  <a:pt x="337" y="886"/>
                </a:lnTo>
                <a:lnTo>
                  <a:pt x="388" y="934"/>
                </a:lnTo>
                <a:lnTo>
                  <a:pt x="380" y="998"/>
                </a:lnTo>
                <a:lnTo>
                  <a:pt x="337" y="1070"/>
                </a:lnTo>
                <a:lnTo>
                  <a:pt x="287" y="1142"/>
                </a:lnTo>
                <a:lnTo>
                  <a:pt x="262" y="1238"/>
                </a:lnTo>
                <a:lnTo>
                  <a:pt x="278" y="1222"/>
                </a:lnTo>
                <a:lnTo>
                  <a:pt x="304" y="1254"/>
                </a:lnTo>
                <a:lnTo>
                  <a:pt x="346" y="1270"/>
                </a:lnTo>
                <a:lnTo>
                  <a:pt x="396" y="1278"/>
                </a:lnTo>
                <a:lnTo>
                  <a:pt x="396" y="1286"/>
                </a:lnTo>
                <a:lnTo>
                  <a:pt x="388" y="1294"/>
                </a:lnTo>
                <a:lnTo>
                  <a:pt x="363" y="1302"/>
                </a:lnTo>
                <a:lnTo>
                  <a:pt x="346" y="1302"/>
                </a:lnTo>
                <a:lnTo>
                  <a:pt x="337" y="1326"/>
                </a:lnTo>
                <a:lnTo>
                  <a:pt x="287" y="1334"/>
                </a:lnTo>
                <a:lnTo>
                  <a:pt x="287" y="1358"/>
                </a:lnTo>
                <a:lnTo>
                  <a:pt x="287" y="1382"/>
                </a:lnTo>
                <a:lnTo>
                  <a:pt x="278" y="1382"/>
                </a:lnTo>
                <a:lnTo>
                  <a:pt x="287" y="1398"/>
                </a:lnTo>
                <a:lnTo>
                  <a:pt x="287" y="1446"/>
                </a:lnTo>
                <a:lnTo>
                  <a:pt x="287" y="1510"/>
                </a:lnTo>
                <a:lnTo>
                  <a:pt x="329" y="1558"/>
                </a:lnTo>
                <a:lnTo>
                  <a:pt x="312" y="1622"/>
                </a:lnTo>
                <a:lnTo>
                  <a:pt x="346" y="1630"/>
                </a:lnTo>
                <a:lnTo>
                  <a:pt x="354" y="1670"/>
                </a:lnTo>
                <a:lnTo>
                  <a:pt x="388" y="1702"/>
                </a:lnTo>
                <a:lnTo>
                  <a:pt x="413" y="1766"/>
                </a:lnTo>
                <a:lnTo>
                  <a:pt x="413" y="1758"/>
                </a:lnTo>
                <a:lnTo>
                  <a:pt x="438" y="1758"/>
                </a:lnTo>
                <a:lnTo>
                  <a:pt x="464" y="1774"/>
                </a:lnTo>
                <a:lnTo>
                  <a:pt x="481" y="1766"/>
                </a:lnTo>
                <a:lnTo>
                  <a:pt x="514" y="1774"/>
                </a:lnTo>
                <a:lnTo>
                  <a:pt x="531" y="1790"/>
                </a:lnTo>
                <a:lnTo>
                  <a:pt x="573" y="1766"/>
                </a:lnTo>
                <a:lnTo>
                  <a:pt x="607" y="1774"/>
                </a:lnTo>
                <a:lnTo>
                  <a:pt x="641" y="1798"/>
                </a:lnTo>
                <a:lnTo>
                  <a:pt x="649" y="1830"/>
                </a:lnTo>
                <a:lnTo>
                  <a:pt x="649" y="1862"/>
                </a:lnTo>
                <a:lnTo>
                  <a:pt x="683" y="1878"/>
                </a:lnTo>
                <a:lnTo>
                  <a:pt x="683" y="1894"/>
                </a:lnTo>
                <a:lnTo>
                  <a:pt x="717" y="1918"/>
                </a:lnTo>
                <a:lnTo>
                  <a:pt x="759" y="1926"/>
                </a:lnTo>
                <a:lnTo>
                  <a:pt x="767" y="1950"/>
                </a:lnTo>
                <a:lnTo>
                  <a:pt x="835" y="1966"/>
                </a:lnTo>
                <a:lnTo>
                  <a:pt x="860" y="1990"/>
                </a:lnTo>
                <a:lnTo>
                  <a:pt x="843" y="2014"/>
                </a:lnTo>
                <a:lnTo>
                  <a:pt x="826" y="2030"/>
                </a:lnTo>
                <a:lnTo>
                  <a:pt x="776" y="2038"/>
                </a:lnTo>
                <a:lnTo>
                  <a:pt x="767" y="2062"/>
                </a:lnTo>
                <a:lnTo>
                  <a:pt x="792" y="2078"/>
                </a:lnTo>
                <a:lnTo>
                  <a:pt x="792" y="2102"/>
                </a:lnTo>
                <a:lnTo>
                  <a:pt x="809" y="2126"/>
                </a:lnTo>
                <a:lnTo>
                  <a:pt x="835" y="2158"/>
                </a:lnTo>
                <a:lnTo>
                  <a:pt x="835" y="2158"/>
                </a:lnTo>
                <a:lnTo>
                  <a:pt x="868" y="2158"/>
                </a:lnTo>
                <a:lnTo>
                  <a:pt x="877" y="2118"/>
                </a:lnTo>
                <a:lnTo>
                  <a:pt x="910" y="2118"/>
                </a:lnTo>
                <a:lnTo>
                  <a:pt x="969" y="2086"/>
                </a:lnTo>
                <a:lnTo>
                  <a:pt x="1011" y="2102"/>
                </a:lnTo>
                <a:lnTo>
                  <a:pt x="1054" y="2126"/>
                </a:lnTo>
                <a:lnTo>
                  <a:pt x="1037" y="2142"/>
                </a:lnTo>
                <a:lnTo>
                  <a:pt x="1054" y="2182"/>
                </a:lnTo>
                <a:lnTo>
                  <a:pt x="1079" y="2190"/>
                </a:lnTo>
                <a:lnTo>
                  <a:pt x="1113" y="2190"/>
                </a:lnTo>
                <a:lnTo>
                  <a:pt x="1115" y="0"/>
                </a:lnTo>
                <a:lnTo>
                  <a:pt x="101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1223"/>
          <p:cNvSpPr/>
          <p:nvPr/>
        </p:nvSpPr>
        <p:spPr>
          <a:xfrm>
            <a:off x="6923160" y="216000"/>
            <a:ext cx="1173240" cy="201924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2019240"/>
              <a:gd name="textAreaBottom" fmla="*/ 2019240 h 2019240"/>
            </a:gdLst>
            <a:ahLst/>
            <a:rect l="textAreaLeft" t="textAreaTop" r="textAreaRight" b="textAreaBottom"/>
            <a:pathLst>
              <a:path w="801" h="1272">
                <a:moveTo>
                  <a:pt x="750" y="760"/>
                </a:moveTo>
                <a:lnTo>
                  <a:pt x="683" y="720"/>
                </a:lnTo>
                <a:lnTo>
                  <a:pt x="700" y="672"/>
                </a:lnTo>
                <a:lnTo>
                  <a:pt x="658" y="616"/>
                </a:lnTo>
                <a:lnTo>
                  <a:pt x="590" y="576"/>
                </a:lnTo>
                <a:lnTo>
                  <a:pt x="582" y="520"/>
                </a:lnTo>
                <a:lnTo>
                  <a:pt x="624" y="472"/>
                </a:lnTo>
                <a:lnTo>
                  <a:pt x="557" y="408"/>
                </a:lnTo>
                <a:lnTo>
                  <a:pt x="506" y="312"/>
                </a:lnTo>
                <a:lnTo>
                  <a:pt x="523" y="256"/>
                </a:lnTo>
                <a:lnTo>
                  <a:pt x="481" y="216"/>
                </a:lnTo>
                <a:lnTo>
                  <a:pt x="439" y="200"/>
                </a:lnTo>
                <a:lnTo>
                  <a:pt x="413" y="136"/>
                </a:lnTo>
                <a:lnTo>
                  <a:pt x="422" y="88"/>
                </a:lnTo>
                <a:lnTo>
                  <a:pt x="430" y="72"/>
                </a:lnTo>
                <a:lnTo>
                  <a:pt x="413" y="32"/>
                </a:lnTo>
                <a:lnTo>
                  <a:pt x="346" y="0"/>
                </a:lnTo>
                <a:lnTo>
                  <a:pt x="295" y="0"/>
                </a:lnTo>
                <a:lnTo>
                  <a:pt x="262" y="40"/>
                </a:lnTo>
                <a:lnTo>
                  <a:pt x="262" y="112"/>
                </a:lnTo>
                <a:lnTo>
                  <a:pt x="245" y="184"/>
                </a:lnTo>
                <a:lnTo>
                  <a:pt x="186" y="168"/>
                </a:lnTo>
                <a:lnTo>
                  <a:pt x="144" y="184"/>
                </a:lnTo>
                <a:lnTo>
                  <a:pt x="43" y="136"/>
                </a:lnTo>
                <a:lnTo>
                  <a:pt x="0" y="160"/>
                </a:lnTo>
                <a:lnTo>
                  <a:pt x="51" y="216"/>
                </a:lnTo>
                <a:lnTo>
                  <a:pt x="144" y="256"/>
                </a:lnTo>
                <a:lnTo>
                  <a:pt x="177" y="296"/>
                </a:lnTo>
                <a:lnTo>
                  <a:pt x="177" y="336"/>
                </a:lnTo>
                <a:lnTo>
                  <a:pt x="220" y="368"/>
                </a:lnTo>
                <a:lnTo>
                  <a:pt x="220" y="416"/>
                </a:lnTo>
                <a:lnTo>
                  <a:pt x="228" y="464"/>
                </a:lnTo>
                <a:lnTo>
                  <a:pt x="245" y="504"/>
                </a:lnTo>
                <a:lnTo>
                  <a:pt x="262" y="552"/>
                </a:lnTo>
                <a:lnTo>
                  <a:pt x="295" y="560"/>
                </a:lnTo>
                <a:lnTo>
                  <a:pt x="329" y="576"/>
                </a:lnTo>
                <a:lnTo>
                  <a:pt x="354" y="584"/>
                </a:lnTo>
                <a:lnTo>
                  <a:pt x="354" y="600"/>
                </a:lnTo>
                <a:lnTo>
                  <a:pt x="363" y="616"/>
                </a:lnTo>
                <a:lnTo>
                  <a:pt x="354" y="632"/>
                </a:lnTo>
                <a:lnTo>
                  <a:pt x="321" y="696"/>
                </a:lnTo>
                <a:lnTo>
                  <a:pt x="236" y="832"/>
                </a:lnTo>
                <a:lnTo>
                  <a:pt x="203" y="864"/>
                </a:lnTo>
                <a:lnTo>
                  <a:pt x="177" y="896"/>
                </a:lnTo>
                <a:lnTo>
                  <a:pt x="177" y="936"/>
                </a:lnTo>
                <a:lnTo>
                  <a:pt x="186" y="976"/>
                </a:lnTo>
                <a:lnTo>
                  <a:pt x="211" y="1048"/>
                </a:lnTo>
                <a:lnTo>
                  <a:pt x="228" y="1080"/>
                </a:lnTo>
                <a:lnTo>
                  <a:pt x="228" y="1120"/>
                </a:lnTo>
                <a:lnTo>
                  <a:pt x="236" y="1160"/>
                </a:lnTo>
                <a:lnTo>
                  <a:pt x="253" y="1192"/>
                </a:lnTo>
                <a:lnTo>
                  <a:pt x="287" y="1208"/>
                </a:lnTo>
                <a:lnTo>
                  <a:pt x="321" y="1224"/>
                </a:lnTo>
                <a:lnTo>
                  <a:pt x="312" y="1272"/>
                </a:lnTo>
                <a:lnTo>
                  <a:pt x="363" y="1272"/>
                </a:lnTo>
                <a:lnTo>
                  <a:pt x="380" y="1264"/>
                </a:lnTo>
                <a:lnTo>
                  <a:pt x="405" y="1248"/>
                </a:lnTo>
                <a:lnTo>
                  <a:pt x="506" y="1192"/>
                </a:lnTo>
                <a:lnTo>
                  <a:pt x="599" y="1152"/>
                </a:lnTo>
                <a:lnTo>
                  <a:pt x="675" y="1112"/>
                </a:lnTo>
                <a:lnTo>
                  <a:pt x="700" y="1016"/>
                </a:lnTo>
                <a:lnTo>
                  <a:pt x="750" y="944"/>
                </a:lnTo>
                <a:lnTo>
                  <a:pt x="793" y="872"/>
                </a:lnTo>
                <a:lnTo>
                  <a:pt x="801" y="808"/>
                </a:lnTo>
                <a:lnTo>
                  <a:pt x="750" y="7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1224"/>
          <p:cNvSpPr/>
          <p:nvPr/>
        </p:nvSpPr>
        <p:spPr>
          <a:xfrm>
            <a:off x="6294600" y="495360"/>
            <a:ext cx="1011240" cy="269244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2692440"/>
              <a:gd name="textAreaBottom" fmla="*/ 2692440 h 2692440"/>
            </a:gdLst>
            <a:ahLst/>
            <a:rect l="textAreaLeft" t="textAreaTop" r="textAreaRight" b="textAreaBottom"/>
            <a:pathLst>
              <a:path w="691" h="1696">
                <a:moveTo>
                  <a:pt x="429" y="88"/>
                </a:moveTo>
                <a:lnTo>
                  <a:pt x="354" y="72"/>
                </a:lnTo>
                <a:lnTo>
                  <a:pt x="337" y="128"/>
                </a:lnTo>
                <a:lnTo>
                  <a:pt x="295" y="128"/>
                </a:lnTo>
                <a:lnTo>
                  <a:pt x="261" y="168"/>
                </a:lnTo>
                <a:lnTo>
                  <a:pt x="261" y="216"/>
                </a:lnTo>
                <a:lnTo>
                  <a:pt x="269" y="256"/>
                </a:lnTo>
                <a:lnTo>
                  <a:pt x="210" y="312"/>
                </a:lnTo>
                <a:lnTo>
                  <a:pt x="210" y="376"/>
                </a:lnTo>
                <a:lnTo>
                  <a:pt x="168" y="400"/>
                </a:lnTo>
                <a:lnTo>
                  <a:pt x="168" y="496"/>
                </a:lnTo>
                <a:lnTo>
                  <a:pt x="118" y="576"/>
                </a:lnTo>
                <a:lnTo>
                  <a:pt x="160" y="600"/>
                </a:lnTo>
                <a:lnTo>
                  <a:pt x="143" y="656"/>
                </a:lnTo>
                <a:lnTo>
                  <a:pt x="67" y="664"/>
                </a:lnTo>
                <a:lnTo>
                  <a:pt x="33" y="736"/>
                </a:lnTo>
                <a:lnTo>
                  <a:pt x="50" y="856"/>
                </a:lnTo>
                <a:lnTo>
                  <a:pt x="50" y="936"/>
                </a:lnTo>
                <a:lnTo>
                  <a:pt x="92" y="976"/>
                </a:lnTo>
                <a:lnTo>
                  <a:pt x="92" y="1016"/>
                </a:lnTo>
                <a:lnTo>
                  <a:pt x="67" y="1056"/>
                </a:lnTo>
                <a:lnTo>
                  <a:pt x="67" y="1144"/>
                </a:lnTo>
                <a:lnTo>
                  <a:pt x="33" y="1176"/>
                </a:lnTo>
                <a:lnTo>
                  <a:pt x="17" y="1272"/>
                </a:lnTo>
                <a:lnTo>
                  <a:pt x="0" y="1280"/>
                </a:lnTo>
                <a:lnTo>
                  <a:pt x="8" y="1328"/>
                </a:lnTo>
                <a:lnTo>
                  <a:pt x="33" y="1352"/>
                </a:lnTo>
                <a:lnTo>
                  <a:pt x="42" y="1376"/>
                </a:lnTo>
                <a:lnTo>
                  <a:pt x="42" y="1440"/>
                </a:lnTo>
                <a:lnTo>
                  <a:pt x="84" y="1504"/>
                </a:lnTo>
                <a:lnTo>
                  <a:pt x="109" y="1536"/>
                </a:lnTo>
                <a:lnTo>
                  <a:pt x="118" y="1568"/>
                </a:lnTo>
                <a:lnTo>
                  <a:pt x="109" y="1592"/>
                </a:lnTo>
                <a:lnTo>
                  <a:pt x="109" y="1616"/>
                </a:lnTo>
                <a:lnTo>
                  <a:pt x="126" y="1632"/>
                </a:lnTo>
                <a:lnTo>
                  <a:pt x="135" y="1664"/>
                </a:lnTo>
                <a:lnTo>
                  <a:pt x="135" y="1696"/>
                </a:lnTo>
                <a:lnTo>
                  <a:pt x="202" y="1696"/>
                </a:lnTo>
                <a:lnTo>
                  <a:pt x="236" y="1680"/>
                </a:lnTo>
                <a:lnTo>
                  <a:pt x="244" y="1648"/>
                </a:lnTo>
                <a:lnTo>
                  <a:pt x="261" y="1616"/>
                </a:lnTo>
                <a:lnTo>
                  <a:pt x="286" y="1600"/>
                </a:lnTo>
                <a:lnTo>
                  <a:pt x="354" y="1608"/>
                </a:lnTo>
                <a:lnTo>
                  <a:pt x="387" y="1472"/>
                </a:lnTo>
                <a:lnTo>
                  <a:pt x="396" y="1440"/>
                </a:lnTo>
                <a:lnTo>
                  <a:pt x="387" y="1408"/>
                </a:lnTo>
                <a:lnTo>
                  <a:pt x="387" y="1368"/>
                </a:lnTo>
                <a:lnTo>
                  <a:pt x="396" y="1336"/>
                </a:lnTo>
                <a:lnTo>
                  <a:pt x="404" y="1296"/>
                </a:lnTo>
                <a:lnTo>
                  <a:pt x="421" y="1272"/>
                </a:lnTo>
                <a:lnTo>
                  <a:pt x="472" y="1240"/>
                </a:lnTo>
                <a:lnTo>
                  <a:pt x="497" y="1224"/>
                </a:lnTo>
                <a:lnTo>
                  <a:pt x="497" y="1192"/>
                </a:lnTo>
                <a:lnTo>
                  <a:pt x="505" y="1168"/>
                </a:lnTo>
                <a:lnTo>
                  <a:pt x="522" y="1144"/>
                </a:lnTo>
                <a:lnTo>
                  <a:pt x="480" y="1088"/>
                </a:lnTo>
                <a:lnTo>
                  <a:pt x="413" y="1048"/>
                </a:lnTo>
                <a:lnTo>
                  <a:pt x="396" y="1040"/>
                </a:lnTo>
                <a:lnTo>
                  <a:pt x="387" y="1024"/>
                </a:lnTo>
                <a:lnTo>
                  <a:pt x="387" y="984"/>
                </a:lnTo>
                <a:lnTo>
                  <a:pt x="379" y="904"/>
                </a:lnTo>
                <a:lnTo>
                  <a:pt x="387" y="832"/>
                </a:lnTo>
                <a:lnTo>
                  <a:pt x="429" y="760"/>
                </a:lnTo>
                <a:lnTo>
                  <a:pt x="480" y="704"/>
                </a:lnTo>
                <a:lnTo>
                  <a:pt x="539" y="648"/>
                </a:lnTo>
                <a:lnTo>
                  <a:pt x="556" y="624"/>
                </a:lnTo>
                <a:lnTo>
                  <a:pt x="564" y="584"/>
                </a:lnTo>
                <a:lnTo>
                  <a:pt x="581" y="560"/>
                </a:lnTo>
                <a:lnTo>
                  <a:pt x="581" y="536"/>
                </a:lnTo>
                <a:lnTo>
                  <a:pt x="573" y="496"/>
                </a:lnTo>
                <a:lnTo>
                  <a:pt x="581" y="464"/>
                </a:lnTo>
                <a:lnTo>
                  <a:pt x="606" y="424"/>
                </a:lnTo>
                <a:lnTo>
                  <a:pt x="615" y="384"/>
                </a:lnTo>
                <a:lnTo>
                  <a:pt x="682" y="376"/>
                </a:lnTo>
                <a:lnTo>
                  <a:pt x="691" y="376"/>
                </a:lnTo>
                <a:lnTo>
                  <a:pt x="674" y="328"/>
                </a:lnTo>
                <a:lnTo>
                  <a:pt x="657" y="288"/>
                </a:lnTo>
                <a:lnTo>
                  <a:pt x="649" y="240"/>
                </a:lnTo>
                <a:lnTo>
                  <a:pt x="649" y="192"/>
                </a:lnTo>
                <a:lnTo>
                  <a:pt x="606" y="160"/>
                </a:lnTo>
                <a:lnTo>
                  <a:pt x="606" y="120"/>
                </a:lnTo>
                <a:lnTo>
                  <a:pt x="573" y="80"/>
                </a:lnTo>
                <a:lnTo>
                  <a:pt x="480" y="40"/>
                </a:lnTo>
                <a:lnTo>
                  <a:pt x="446" y="0"/>
                </a:lnTo>
                <a:lnTo>
                  <a:pt x="429" y="8"/>
                </a:lnTo>
                <a:lnTo>
                  <a:pt x="429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1225"/>
          <p:cNvSpPr/>
          <p:nvPr/>
        </p:nvSpPr>
        <p:spPr>
          <a:xfrm>
            <a:off x="6923160" y="203040"/>
            <a:ext cx="1173240" cy="20196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2019600"/>
              <a:gd name="textAreaBottom" fmla="*/ 2019600 h 2019600"/>
            </a:gdLst>
            <a:ahLst/>
            <a:rect l="textAreaLeft" t="textAreaTop" r="textAreaRight" b="textAreaBottom"/>
            <a:pathLst>
              <a:path w="801" h="1272">
                <a:moveTo>
                  <a:pt x="750" y="760"/>
                </a:moveTo>
                <a:lnTo>
                  <a:pt x="683" y="720"/>
                </a:lnTo>
                <a:lnTo>
                  <a:pt x="700" y="672"/>
                </a:lnTo>
                <a:lnTo>
                  <a:pt x="658" y="616"/>
                </a:lnTo>
                <a:lnTo>
                  <a:pt x="590" y="576"/>
                </a:lnTo>
                <a:lnTo>
                  <a:pt x="582" y="520"/>
                </a:lnTo>
                <a:lnTo>
                  <a:pt x="624" y="472"/>
                </a:lnTo>
                <a:lnTo>
                  <a:pt x="557" y="408"/>
                </a:lnTo>
                <a:lnTo>
                  <a:pt x="506" y="312"/>
                </a:lnTo>
                <a:lnTo>
                  <a:pt x="523" y="256"/>
                </a:lnTo>
                <a:lnTo>
                  <a:pt x="481" y="216"/>
                </a:lnTo>
                <a:lnTo>
                  <a:pt x="439" y="200"/>
                </a:lnTo>
                <a:lnTo>
                  <a:pt x="413" y="136"/>
                </a:lnTo>
                <a:lnTo>
                  <a:pt x="422" y="88"/>
                </a:lnTo>
                <a:lnTo>
                  <a:pt x="430" y="72"/>
                </a:lnTo>
                <a:lnTo>
                  <a:pt x="413" y="32"/>
                </a:lnTo>
                <a:lnTo>
                  <a:pt x="346" y="0"/>
                </a:lnTo>
                <a:lnTo>
                  <a:pt x="295" y="0"/>
                </a:lnTo>
                <a:lnTo>
                  <a:pt x="262" y="40"/>
                </a:lnTo>
                <a:lnTo>
                  <a:pt x="262" y="112"/>
                </a:lnTo>
                <a:lnTo>
                  <a:pt x="245" y="184"/>
                </a:lnTo>
                <a:lnTo>
                  <a:pt x="186" y="168"/>
                </a:lnTo>
                <a:lnTo>
                  <a:pt x="144" y="184"/>
                </a:lnTo>
                <a:lnTo>
                  <a:pt x="43" y="136"/>
                </a:lnTo>
                <a:lnTo>
                  <a:pt x="0" y="160"/>
                </a:lnTo>
                <a:lnTo>
                  <a:pt x="51" y="216"/>
                </a:lnTo>
                <a:lnTo>
                  <a:pt x="144" y="256"/>
                </a:lnTo>
                <a:lnTo>
                  <a:pt x="177" y="296"/>
                </a:lnTo>
                <a:lnTo>
                  <a:pt x="177" y="336"/>
                </a:lnTo>
                <a:lnTo>
                  <a:pt x="220" y="368"/>
                </a:lnTo>
                <a:lnTo>
                  <a:pt x="220" y="416"/>
                </a:lnTo>
                <a:lnTo>
                  <a:pt x="228" y="464"/>
                </a:lnTo>
                <a:lnTo>
                  <a:pt x="245" y="504"/>
                </a:lnTo>
                <a:lnTo>
                  <a:pt x="262" y="552"/>
                </a:lnTo>
                <a:lnTo>
                  <a:pt x="295" y="560"/>
                </a:lnTo>
                <a:lnTo>
                  <a:pt x="329" y="576"/>
                </a:lnTo>
                <a:lnTo>
                  <a:pt x="354" y="584"/>
                </a:lnTo>
                <a:lnTo>
                  <a:pt x="354" y="600"/>
                </a:lnTo>
                <a:lnTo>
                  <a:pt x="363" y="616"/>
                </a:lnTo>
                <a:lnTo>
                  <a:pt x="354" y="632"/>
                </a:lnTo>
                <a:lnTo>
                  <a:pt x="321" y="696"/>
                </a:lnTo>
                <a:lnTo>
                  <a:pt x="236" y="832"/>
                </a:lnTo>
                <a:lnTo>
                  <a:pt x="203" y="864"/>
                </a:lnTo>
                <a:lnTo>
                  <a:pt x="177" y="896"/>
                </a:lnTo>
                <a:lnTo>
                  <a:pt x="177" y="936"/>
                </a:lnTo>
                <a:lnTo>
                  <a:pt x="186" y="976"/>
                </a:lnTo>
                <a:lnTo>
                  <a:pt x="211" y="1048"/>
                </a:lnTo>
                <a:lnTo>
                  <a:pt x="228" y="1080"/>
                </a:lnTo>
                <a:lnTo>
                  <a:pt x="228" y="1120"/>
                </a:lnTo>
                <a:lnTo>
                  <a:pt x="236" y="1160"/>
                </a:lnTo>
                <a:lnTo>
                  <a:pt x="253" y="1192"/>
                </a:lnTo>
                <a:lnTo>
                  <a:pt x="287" y="1208"/>
                </a:lnTo>
                <a:lnTo>
                  <a:pt x="321" y="1224"/>
                </a:lnTo>
                <a:lnTo>
                  <a:pt x="312" y="1272"/>
                </a:lnTo>
                <a:lnTo>
                  <a:pt x="363" y="1272"/>
                </a:lnTo>
                <a:lnTo>
                  <a:pt x="380" y="1264"/>
                </a:lnTo>
                <a:lnTo>
                  <a:pt x="405" y="1248"/>
                </a:lnTo>
                <a:lnTo>
                  <a:pt x="506" y="1192"/>
                </a:lnTo>
                <a:lnTo>
                  <a:pt x="599" y="1152"/>
                </a:lnTo>
                <a:lnTo>
                  <a:pt x="675" y="1112"/>
                </a:lnTo>
                <a:lnTo>
                  <a:pt x="700" y="1016"/>
                </a:lnTo>
                <a:lnTo>
                  <a:pt x="750" y="944"/>
                </a:lnTo>
                <a:lnTo>
                  <a:pt x="793" y="872"/>
                </a:lnTo>
                <a:lnTo>
                  <a:pt x="801" y="808"/>
                </a:lnTo>
                <a:lnTo>
                  <a:pt x="750" y="76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1226"/>
          <p:cNvSpPr/>
          <p:nvPr/>
        </p:nvSpPr>
        <p:spPr>
          <a:xfrm>
            <a:off x="6294600" y="482760"/>
            <a:ext cx="1011240" cy="269208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2692080"/>
              <a:gd name="textAreaBottom" fmla="*/ 2692440 h 2692080"/>
            </a:gdLst>
            <a:ahLst/>
            <a:rect l="textAreaLeft" t="textAreaTop" r="textAreaRight" b="textAreaBottom"/>
            <a:pathLst>
              <a:path w="691" h="1696">
                <a:moveTo>
                  <a:pt x="429" y="88"/>
                </a:moveTo>
                <a:lnTo>
                  <a:pt x="354" y="72"/>
                </a:lnTo>
                <a:lnTo>
                  <a:pt x="337" y="128"/>
                </a:lnTo>
                <a:lnTo>
                  <a:pt x="295" y="128"/>
                </a:lnTo>
                <a:lnTo>
                  <a:pt x="261" y="168"/>
                </a:lnTo>
                <a:lnTo>
                  <a:pt x="261" y="216"/>
                </a:lnTo>
                <a:lnTo>
                  <a:pt x="269" y="256"/>
                </a:lnTo>
                <a:lnTo>
                  <a:pt x="210" y="312"/>
                </a:lnTo>
                <a:lnTo>
                  <a:pt x="210" y="376"/>
                </a:lnTo>
                <a:lnTo>
                  <a:pt x="168" y="400"/>
                </a:lnTo>
                <a:lnTo>
                  <a:pt x="168" y="496"/>
                </a:lnTo>
                <a:lnTo>
                  <a:pt x="118" y="576"/>
                </a:lnTo>
                <a:lnTo>
                  <a:pt x="160" y="600"/>
                </a:lnTo>
                <a:lnTo>
                  <a:pt x="143" y="656"/>
                </a:lnTo>
                <a:lnTo>
                  <a:pt x="67" y="664"/>
                </a:lnTo>
                <a:lnTo>
                  <a:pt x="33" y="736"/>
                </a:lnTo>
                <a:lnTo>
                  <a:pt x="50" y="856"/>
                </a:lnTo>
                <a:lnTo>
                  <a:pt x="50" y="936"/>
                </a:lnTo>
                <a:lnTo>
                  <a:pt x="92" y="976"/>
                </a:lnTo>
                <a:lnTo>
                  <a:pt x="92" y="1016"/>
                </a:lnTo>
                <a:lnTo>
                  <a:pt x="67" y="1056"/>
                </a:lnTo>
                <a:lnTo>
                  <a:pt x="67" y="1144"/>
                </a:lnTo>
                <a:lnTo>
                  <a:pt x="33" y="1176"/>
                </a:lnTo>
                <a:lnTo>
                  <a:pt x="17" y="1272"/>
                </a:lnTo>
                <a:lnTo>
                  <a:pt x="0" y="1280"/>
                </a:lnTo>
                <a:lnTo>
                  <a:pt x="8" y="1328"/>
                </a:lnTo>
                <a:lnTo>
                  <a:pt x="33" y="1352"/>
                </a:lnTo>
                <a:lnTo>
                  <a:pt x="42" y="1376"/>
                </a:lnTo>
                <a:lnTo>
                  <a:pt x="42" y="1440"/>
                </a:lnTo>
                <a:lnTo>
                  <a:pt x="84" y="1504"/>
                </a:lnTo>
                <a:lnTo>
                  <a:pt x="109" y="1536"/>
                </a:lnTo>
                <a:lnTo>
                  <a:pt x="118" y="1568"/>
                </a:lnTo>
                <a:lnTo>
                  <a:pt x="109" y="1592"/>
                </a:lnTo>
                <a:lnTo>
                  <a:pt x="109" y="1616"/>
                </a:lnTo>
                <a:lnTo>
                  <a:pt x="126" y="1632"/>
                </a:lnTo>
                <a:lnTo>
                  <a:pt x="135" y="1664"/>
                </a:lnTo>
                <a:lnTo>
                  <a:pt x="135" y="1696"/>
                </a:lnTo>
                <a:lnTo>
                  <a:pt x="202" y="1696"/>
                </a:lnTo>
                <a:lnTo>
                  <a:pt x="236" y="1680"/>
                </a:lnTo>
                <a:lnTo>
                  <a:pt x="244" y="1648"/>
                </a:lnTo>
                <a:lnTo>
                  <a:pt x="261" y="1616"/>
                </a:lnTo>
                <a:lnTo>
                  <a:pt x="286" y="1600"/>
                </a:lnTo>
                <a:lnTo>
                  <a:pt x="354" y="1608"/>
                </a:lnTo>
                <a:lnTo>
                  <a:pt x="387" y="1472"/>
                </a:lnTo>
                <a:lnTo>
                  <a:pt x="396" y="1440"/>
                </a:lnTo>
                <a:lnTo>
                  <a:pt x="387" y="1408"/>
                </a:lnTo>
                <a:lnTo>
                  <a:pt x="387" y="1368"/>
                </a:lnTo>
                <a:lnTo>
                  <a:pt x="396" y="1336"/>
                </a:lnTo>
                <a:lnTo>
                  <a:pt x="404" y="1296"/>
                </a:lnTo>
                <a:lnTo>
                  <a:pt x="421" y="1272"/>
                </a:lnTo>
                <a:lnTo>
                  <a:pt x="472" y="1240"/>
                </a:lnTo>
                <a:lnTo>
                  <a:pt x="497" y="1224"/>
                </a:lnTo>
                <a:lnTo>
                  <a:pt x="497" y="1192"/>
                </a:lnTo>
                <a:lnTo>
                  <a:pt x="505" y="1168"/>
                </a:lnTo>
                <a:lnTo>
                  <a:pt x="522" y="1144"/>
                </a:lnTo>
                <a:lnTo>
                  <a:pt x="480" y="1088"/>
                </a:lnTo>
                <a:lnTo>
                  <a:pt x="413" y="1048"/>
                </a:lnTo>
                <a:lnTo>
                  <a:pt x="396" y="1040"/>
                </a:lnTo>
                <a:lnTo>
                  <a:pt x="387" y="1024"/>
                </a:lnTo>
                <a:lnTo>
                  <a:pt x="387" y="984"/>
                </a:lnTo>
                <a:lnTo>
                  <a:pt x="379" y="904"/>
                </a:lnTo>
                <a:lnTo>
                  <a:pt x="387" y="832"/>
                </a:lnTo>
                <a:lnTo>
                  <a:pt x="429" y="760"/>
                </a:lnTo>
                <a:lnTo>
                  <a:pt x="480" y="704"/>
                </a:lnTo>
                <a:lnTo>
                  <a:pt x="539" y="648"/>
                </a:lnTo>
                <a:lnTo>
                  <a:pt x="556" y="624"/>
                </a:lnTo>
                <a:lnTo>
                  <a:pt x="564" y="584"/>
                </a:lnTo>
                <a:lnTo>
                  <a:pt x="581" y="560"/>
                </a:lnTo>
                <a:lnTo>
                  <a:pt x="581" y="536"/>
                </a:lnTo>
                <a:lnTo>
                  <a:pt x="573" y="496"/>
                </a:lnTo>
                <a:lnTo>
                  <a:pt x="581" y="464"/>
                </a:lnTo>
                <a:lnTo>
                  <a:pt x="606" y="424"/>
                </a:lnTo>
                <a:lnTo>
                  <a:pt x="615" y="384"/>
                </a:lnTo>
                <a:lnTo>
                  <a:pt x="682" y="376"/>
                </a:lnTo>
                <a:lnTo>
                  <a:pt x="691" y="376"/>
                </a:lnTo>
                <a:lnTo>
                  <a:pt x="674" y="328"/>
                </a:lnTo>
                <a:lnTo>
                  <a:pt x="657" y="288"/>
                </a:lnTo>
                <a:lnTo>
                  <a:pt x="649" y="240"/>
                </a:lnTo>
                <a:lnTo>
                  <a:pt x="649" y="192"/>
                </a:lnTo>
                <a:lnTo>
                  <a:pt x="606" y="160"/>
                </a:lnTo>
                <a:lnTo>
                  <a:pt x="606" y="120"/>
                </a:lnTo>
                <a:lnTo>
                  <a:pt x="573" y="80"/>
                </a:lnTo>
                <a:lnTo>
                  <a:pt x="480" y="40"/>
                </a:lnTo>
                <a:lnTo>
                  <a:pt x="446" y="0"/>
                </a:lnTo>
                <a:lnTo>
                  <a:pt x="429" y="8"/>
                </a:lnTo>
                <a:lnTo>
                  <a:pt x="429" y="8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227"/>
          <p:cNvSpPr/>
          <p:nvPr/>
        </p:nvSpPr>
        <p:spPr>
          <a:xfrm>
            <a:off x="5675400" y="0"/>
            <a:ext cx="1963800" cy="267984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2679840"/>
              <a:gd name="textAreaBottom" fmla="*/ 2680200 h 2679840"/>
            </a:gdLst>
            <a:ahLst/>
            <a:rect l="textAreaLeft" t="textAreaTop" r="textAreaRight" b="textAreaBottom"/>
            <a:pathLst>
              <a:path w="1340" h="1688">
                <a:moveTo>
                  <a:pt x="1239" y="104"/>
                </a:moveTo>
                <a:lnTo>
                  <a:pt x="1281" y="80"/>
                </a:lnTo>
                <a:lnTo>
                  <a:pt x="1323" y="40"/>
                </a:lnTo>
                <a:lnTo>
                  <a:pt x="1239" y="16"/>
                </a:lnTo>
                <a:lnTo>
                  <a:pt x="1214" y="8"/>
                </a:lnTo>
                <a:lnTo>
                  <a:pt x="1205" y="24"/>
                </a:lnTo>
                <a:lnTo>
                  <a:pt x="1180" y="56"/>
                </a:lnTo>
                <a:lnTo>
                  <a:pt x="1172" y="16"/>
                </a:lnTo>
                <a:lnTo>
                  <a:pt x="1172" y="0"/>
                </a:lnTo>
                <a:lnTo>
                  <a:pt x="1146" y="0"/>
                </a:lnTo>
                <a:lnTo>
                  <a:pt x="1130" y="0"/>
                </a:lnTo>
                <a:lnTo>
                  <a:pt x="1130" y="24"/>
                </a:lnTo>
                <a:lnTo>
                  <a:pt x="1130" y="64"/>
                </a:lnTo>
                <a:lnTo>
                  <a:pt x="1104" y="24"/>
                </a:lnTo>
                <a:lnTo>
                  <a:pt x="1071" y="120"/>
                </a:lnTo>
                <a:lnTo>
                  <a:pt x="1062" y="48"/>
                </a:lnTo>
                <a:lnTo>
                  <a:pt x="1037" y="24"/>
                </a:lnTo>
                <a:lnTo>
                  <a:pt x="1012" y="40"/>
                </a:lnTo>
                <a:lnTo>
                  <a:pt x="961" y="80"/>
                </a:lnTo>
                <a:lnTo>
                  <a:pt x="953" y="112"/>
                </a:lnTo>
                <a:lnTo>
                  <a:pt x="961" y="136"/>
                </a:lnTo>
                <a:lnTo>
                  <a:pt x="902" y="144"/>
                </a:lnTo>
                <a:lnTo>
                  <a:pt x="885" y="160"/>
                </a:lnTo>
                <a:lnTo>
                  <a:pt x="877" y="184"/>
                </a:lnTo>
                <a:lnTo>
                  <a:pt x="851" y="192"/>
                </a:lnTo>
                <a:lnTo>
                  <a:pt x="826" y="192"/>
                </a:lnTo>
                <a:lnTo>
                  <a:pt x="809" y="176"/>
                </a:lnTo>
                <a:lnTo>
                  <a:pt x="784" y="176"/>
                </a:lnTo>
                <a:lnTo>
                  <a:pt x="750" y="208"/>
                </a:lnTo>
                <a:lnTo>
                  <a:pt x="717" y="248"/>
                </a:lnTo>
                <a:lnTo>
                  <a:pt x="683" y="296"/>
                </a:lnTo>
                <a:lnTo>
                  <a:pt x="683" y="320"/>
                </a:lnTo>
                <a:lnTo>
                  <a:pt x="700" y="328"/>
                </a:lnTo>
                <a:lnTo>
                  <a:pt x="659" y="374"/>
                </a:lnTo>
                <a:lnTo>
                  <a:pt x="641" y="368"/>
                </a:lnTo>
                <a:lnTo>
                  <a:pt x="645" y="418"/>
                </a:lnTo>
                <a:lnTo>
                  <a:pt x="616" y="456"/>
                </a:lnTo>
                <a:lnTo>
                  <a:pt x="599" y="480"/>
                </a:lnTo>
                <a:lnTo>
                  <a:pt x="590" y="504"/>
                </a:lnTo>
                <a:lnTo>
                  <a:pt x="607" y="520"/>
                </a:lnTo>
                <a:lnTo>
                  <a:pt x="573" y="536"/>
                </a:lnTo>
                <a:lnTo>
                  <a:pt x="565" y="560"/>
                </a:lnTo>
                <a:lnTo>
                  <a:pt x="540" y="576"/>
                </a:lnTo>
                <a:lnTo>
                  <a:pt x="523" y="624"/>
                </a:lnTo>
                <a:lnTo>
                  <a:pt x="472" y="744"/>
                </a:lnTo>
                <a:lnTo>
                  <a:pt x="455" y="816"/>
                </a:lnTo>
                <a:lnTo>
                  <a:pt x="439" y="840"/>
                </a:lnTo>
                <a:lnTo>
                  <a:pt x="396" y="848"/>
                </a:lnTo>
                <a:lnTo>
                  <a:pt x="405" y="872"/>
                </a:lnTo>
                <a:lnTo>
                  <a:pt x="413" y="888"/>
                </a:lnTo>
                <a:lnTo>
                  <a:pt x="396" y="896"/>
                </a:lnTo>
                <a:lnTo>
                  <a:pt x="346" y="952"/>
                </a:lnTo>
                <a:lnTo>
                  <a:pt x="321" y="1008"/>
                </a:lnTo>
                <a:lnTo>
                  <a:pt x="304" y="1024"/>
                </a:lnTo>
                <a:lnTo>
                  <a:pt x="295" y="1032"/>
                </a:lnTo>
                <a:lnTo>
                  <a:pt x="262" y="1024"/>
                </a:lnTo>
                <a:lnTo>
                  <a:pt x="236" y="1032"/>
                </a:lnTo>
                <a:lnTo>
                  <a:pt x="228" y="1040"/>
                </a:lnTo>
                <a:lnTo>
                  <a:pt x="220" y="1064"/>
                </a:lnTo>
                <a:lnTo>
                  <a:pt x="186" y="1088"/>
                </a:lnTo>
                <a:lnTo>
                  <a:pt x="152" y="1104"/>
                </a:lnTo>
                <a:lnTo>
                  <a:pt x="127" y="1128"/>
                </a:lnTo>
                <a:lnTo>
                  <a:pt x="93" y="1144"/>
                </a:lnTo>
                <a:lnTo>
                  <a:pt x="68" y="1168"/>
                </a:lnTo>
                <a:lnTo>
                  <a:pt x="51" y="1192"/>
                </a:lnTo>
                <a:lnTo>
                  <a:pt x="26" y="1200"/>
                </a:lnTo>
                <a:lnTo>
                  <a:pt x="17" y="1208"/>
                </a:lnTo>
                <a:lnTo>
                  <a:pt x="17" y="1248"/>
                </a:lnTo>
                <a:lnTo>
                  <a:pt x="9" y="1264"/>
                </a:lnTo>
                <a:lnTo>
                  <a:pt x="17" y="1272"/>
                </a:lnTo>
                <a:lnTo>
                  <a:pt x="17" y="1288"/>
                </a:lnTo>
                <a:lnTo>
                  <a:pt x="9" y="1304"/>
                </a:lnTo>
                <a:lnTo>
                  <a:pt x="17" y="1312"/>
                </a:lnTo>
                <a:lnTo>
                  <a:pt x="17" y="1328"/>
                </a:lnTo>
                <a:lnTo>
                  <a:pt x="0" y="1352"/>
                </a:lnTo>
                <a:lnTo>
                  <a:pt x="17" y="1384"/>
                </a:lnTo>
                <a:lnTo>
                  <a:pt x="43" y="1408"/>
                </a:lnTo>
                <a:lnTo>
                  <a:pt x="9" y="1424"/>
                </a:lnTo>
                <a:lnTo>
                  <a:pt x="34" y="1432"/>
                </a:lnTo>
                <a:lnTo>
                  <a:pt x="9" y="1480"/>
                </a:lnTo>
                <a:lnTo>
                  <a:pt x="51" y="1464"/>
                </a:lnTo>
                <a:lnTo>
                  <a:pt x="51" y="1480"/>
                </a:lnTo>
                <a:lnTo>
                  <a:pt x="43" y="1488"/>
                </a:lnTo>
                <a:lnTo>
                  <a:pt x="17" y="1512"/>
                </a:lnTo>
                <a:lnTo>
                  <a:pt x="17" y="1544"/>
                </a:lnTo>
                <a:lnTo>
                  <a:pt x="43" y="1544"/>
                </a:lnTo>
                <a:lnTo>
                  <a:pt x="59" y="1552"/>
                </a:lnTo>
                <a:lnTo>
                  <a:pt x="59" y="1568"/>
                </a:lnTo>
                <a:lnTo>
                  <a:pt x="34" y="1584"/>
                </a:lnTo>
                <a:lnTo>
                  <a:pt x="17" y="1584"/>
                </a:lnTo>
                <a:lnTo>
                  <a:pt x="9" y="1592"/>
                </a:lnTo>
                <a:lnTo>
                  <a:pt x="26" y="1616"/>
                </a:lnTo>
                <a:lnTo>
                  <a:pt x="51" y="1632"/>
                </a:lnTo>
                <a:lnTo>
                  <a:pt x="76" y="1656"/>
                </a:lnTo>
                <a:lnTo>
                  <a:pt x="118" y="1664"/>
                </a:lnTo>
                <a:lnTo>
                  <a:pt x="102" y="1688"/>
                </a:lnTo>
                <a:lnTo>
                  <a:pt x="177" y="1688"/>
                </a:lnTo>
                <a:lnTo>
                  <a:pt x="236" y="1664"/>
                </a:lnTo>
                <a:lnTo>
                  <a:pt x="278" y="1624"/>
                </a:lnTo>
                <a:lnTo>
                  <a:pt x="312" y="1576"/>
                </a:lnTo>
                <a:lnTo>
                  <a:pt x="329" y="1584"/>
                </a:lnTo>
                <a:lnTo>
                  <a:pt x="346" y="1576"/>
                </a:lnTo>
                <a:lnTo>
                  <a:pt x="363" y="1544"/>
                </a:lnTo>
                <a:lnTo>
                  <a:pt x="363" y="1512"/>
                </a:lnTo>
                <a:lnTo>
                  <a:pt x="388" y="1512"/>
                </a:lnTo>
                <a:lnTo>
                  <a:pt x="396" y="1528"/>
                </a:lnTo>
                <a:lnTo>
                  <a:pt x="405" y="1560"/>
                </a:lnTo>
                <a:lnTo>
                  <a:pt x="422" y="1592"/>
                </a:lnTo>
                <a:lnTo>
                  <a:pt x="439" y="1584"/>
                </a:lnTo>
                <a:lnTo>
                  <a:pt x="455" y="1488"/>
                </a:lnTo>
                <a:lnTo>
                  <a:pt x="489" y="1456"/>
                </a:lnTo>
                <a:lnTo>
                  <a:pt x="489" y="1368"/>
                </a:lnTo>
                <a:lnTo>
                  <a:pt x="514" y="1328"/>
                </a:lnTo>
                <a:lnTo>
                  <a:pt x="514" y="1288"/>
                </a:lnTo>
                <a:lnTo>
                  <a:pt x="472" y="1248"/>
                </a:lnTo>
                <a:lnTo>
                  <a:pt x="472" y="1168"/>
                </a:lnTo>
                <a:lnTo>
                  <a:pt x="455" y="1048"/>
                </a:lnTo>
                <a:lnTo>
                  <a:pt x="489" y="976"/>
                </a:lnTo>
                <a:lnTo>
                  <a:pt x="565" y="968"/>
                </a:lnTo>
                <a:lnTo>
                  <a:pt x="582" y="912"/>
                </a:lnTo>
                <a:lnTo>
                  <a:pt x="540" y="888"/>
                </a:lnTo>
                <a:lnTo>
                  <a:pt x="590" y="808"/>
                </a:lnTo>
                <a:lnTo>
                  <a:pt x="590" y="712"/>
                </a:lnTo>
                <a:lnTo>
                  <a:pt x="632" y="688"/>
                </a:lnTo>
                <a:lnTo>
                  <a:pt x="632" y="624"/>
                </a:lnTo>
                <a:lnTo>
                  <a:pt x="691" y="568"/>
                </a:lnTo>
                <a:lnTo>
                  <a:pt x="683" y="528"/>
                </a:lnTo>
                <a:lnTo>
                  <a:pt x="683" y="480"/>
                </a:lnTo>
                <a:lnTo>
                  <a:pt x="717" y="440"/>
                </a:lnTo>
                <a:lnTo>
                  <a:pt x="759" y="440"/>
                </a:lnTo>
                <a:lnTo>
                  <a:pt x="776" y="384"/>
                </a:lnTo>
                <a:lnTo>
                  <a:pt x="851" y="400"/>
                </a:lnTo>
                <a:lnTo>
                  <a:pt x="851" y="320"/>
                </a:lnTo>
                <a:lnTo>
                  <a:pt x="868" y="312"/>
                </a:lnTo>
                <a:lnTo>
                  <a:pt x="851" y="296"/>
                </a:lnTo>
                <a:lnTo>
                  <a:pt x="894" y="272"/>
                </a:lnTo>
                <a:lnTo>
                  <a:pt x="995" y="320"/>
                </a:lnTo>
                <a:lnTo>
                  <a:pt x="1037" y="304"/>
                </a:lnTo>
                <a:lnTo>
                  <a:pt x="1096" y="320"/>
                </a:lnTo>
                <a:lnTo>
                  <a:pt x="1113" y="248"/>
                </a:lnTo>
                <a:lnTo>
                  <a:pt x="1113" y="176"/>
                </a:lnTo>
                <a:lnTo>
                  <a:pt x="1146" y="136"/>
                </a:lnTo>
                <a:lnTo>
                  <a:pt x="1197" y="136"/>
                </a:lnTo>
                <a:lnTo>
                  <a:pt x="1264" y="168"/>
                </a:lnTo>
                <a:lnTo>
                  <a:pt x="1281" y="208"/>
                </a:lnTo>
                <a:lnTo>
                  <a:pt x="1306" y="176"/>
                </a:lnTo>
                <a:lnTo>
                  <a:pt x="1340" y="144"/>
                </a:lnTo>
                <a:lnTo>
                  <a:pt x="1340" y="120"/>
                </a:lnTo>
                <a:lnTo>
                  <a:pt x="1239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228"/>
          <p:cNvSpPr/>
          <p:nvPr/>
        </p:nvSpPr>
        <p:spPr>
          <a:xfrm>
            <a:off x="5675400" y="-12600"/>
            <a:ext cx="1963800" cy="267948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2679480"/>
              <a:gd name="textAreaBottom" fmla="*/ 2679480 h 2679480"/>
            </a:gdLst>
            <a:ahLst/>
            <a:rect l="textAreaLeft" t="textAreaTop" r="textAreaRight" b="textAreaBottom"/>
            <a:pathLst>
              <a:path w="1340" h="1688">
                <a:moveTo>
                  <a:pt x="1239" y="104"/>
                </a:moveTo>
                <a:lnTo>
                  <a:pt x="1281" y="80"/>
                </a:lnTo>
                <a:lnTo>
                  <a:pt x="1323" y="40"/>
                </a:lnTo>
                <a:lnTo>
                  <a:pt x="1239" y="16"/>
                </a:lnTo>
                <a:lnTo>
                  <a:pt x="1214" y="8"/>
                </a:lnTo>
                <a:lnTo>
                  <a:pt x="1205" y="24"/>
                </a:lnTo>
                <a:lnTo>
                  <a:pt x="1180" y="56"/>
                </a:lnTo>
                <a:lnTo>
                  <a:pt x="1172" y="16"/>
                </a:lnTo>
                <a:lnTo>
                  <a:pt x="1172" y="0"/>
                </a:lnTo>
                <a:lnTo>
                  <a:pt x="1146" y="0"/>
                </a:lnTo>
                <a:lnTo>
                  <a:pt x="1130" y="0"/>
                </a:lnTo>
                <a:lnTo>
                  <a:pt x="1130" y="24"/>
                </a:lnTo>
                <a:lnTo>
                  <a:pt x="1130" y="64"/>
                </a:lnTo>
                <a:lnTo>
                  <a:pt x="1104" y="24"/>
                </a:lnTo>
                <a:lnTo>
                  <a:pt x="1071" y="120"/>
                </a:lnTo>
                <a:lnTo>
                  <a:pt x="1062" y="48"/>
                </a:lnTo>
                <a:lnTo>
                  <a:pt x="1037" y="24"/>
                </a:lnTo>
                <a:lnTo>
                  <a:pt x="1012" y="40"/>
                </a:lnTo>
                <a:lnTo>
                  <a:pt x="961" y="80"/>
                </a:lnTo>
                <a:lnTo>
                  <a:pt x="953" y="112"/>
                </a:lnTo>
                <a:lnTo>
                  <a:pt x="961" y="136"/>
                </a:lnTo>
                <a:lnTo>
                  <a:pt x="902" y="144"/>
                </a:lnTo>
                <a:lnTo>
                  <a:pt x="885" y="160"/>
                </a:lnTo>
                <a:lnTo>
                  <a:pt x="877" y="184"/>
                </a:lnTo>
                <a:lnTo>
                  <a:pt x="851" y="192"/>
                </a:lnTo>
                <a:lnTo>
                  <a:pt x="826" y="192"/>
                </a:lnTo>
                <a:lnTo>
                  <a:pt x="809" y="176"/>
                </a:lnTo>
                <a:lnTo>
                  <a:pt x="784" y="176"/>
                </a:lnTo>
                <a:lnTo>
                  <a:pt x="750" y="208"/>
                </a:lnTo>
                <a:lnTo>
                  <a:pt x="717" y="248"/>
                </a:lnTo>
                <a:lnTo>
                  <a:pt x="683" y="296"/>
                </a:lnTo>
                <a:lnTo>
                  <a:pt x="683" y="320"/>
                </a:lnTo>
                <a:lnTo>
                  <a:pt x="700" y="328"/>
                </a:lnTo>
                <a:lnTo>
                  <a:pt x="658" y="376"/>
                </a:lnTo>
                <a:lnTo>
                  <a:pt x="639" y="374"/>
                </a:lnTo>
                <a:lnTo>
                  <a:pt x="645" y="422"/>
                </a:lnTo>
                <a:lnTo>
                  <a:pt x="616" y="456"/>
                </a:lnTo>
                <a:lnTo>
                  <a:pt x="599" y="480"/>
                </a:lnTo>
                <a:lnTo>
                  <a:pt x="590" y="504"/>
                </a:lnTo>
                <a:lnTo>
                  <a:pt x="607" y="520"/>
                </a:lnTo>
                <a:lnTo>
                  <a:pt x="573" y="536"/>
                </a:lnTo>
                <a:lnTo>
                  <a:pt x="565" y="560"/>
                </a:lnTo>
                <a:lnTo>
                  <a:pt x="540" y="576"/>
                </a:lnTo>
                <a:lnTo>
                  <a:pt x="523" y="624"/>
                </a:lnTo>
                <a:lnTo>
                  <a:pt x="472" y="744"/>
                </a:lnTo>
                <a:lnTo>
                  <a:pt x="455" y="816"/>
                </a:lnTo>
                <a:lnTo>
                  <a:pt x="439" y="840"/>
                </a:lnTo>
                <a:lnTo>
                  <a:pt x="396" y="848"/>
                </a:lnTo>
                <a:lnTo>
                  <a:pt x="405" y="872"/>
                </a:lnTo>
                <a:lnTo>
                  <a:pt x="413" y="888"/>
                </a:lnTo>
                <a:lnTo>
                  <a:pt x="396" y="896"/>
                </a:lnTo>
                <a:lnTo>
                  <a:pt x="346" y="952"/>
                </a:lnTo>
                <a:lnTo>
                  <a:pt x="321" y="1008"/>
                </a:lnTo>
                <a:lnTo>
                  <a:pt x="304" y="1024"/>
                </a:lnTo>
                <a:lnTo>
                  <a:pt x="295" y="1032"/>
                </a:lnTo>
                <a:lnTo>
                  <a:pt x="262" y="1024"/>
                </a:lnTo>
                <a:lnTo>
                  <a:pt x="236" y="1032"/>
                </a:lnTo>
                <a:lnTo>
                  <a:pt x="228" y="1040"/>
                </a:lnTo>
                <a:lnTo>
                  <a:pt x="220" y="1064"/>
                </a:lnTo>
                <a:lnTo>
                  <a:pt x="186" y="1088"/>
                </a:lnTo>
                <a:lnTo>
                  <a:pt x="152" y="1104"/>
                </a:lnTo>
                <a:lnTo>
                  <a:pt x="127" y="1128"/>
                </a:lnTo>
                <a:lnTo>
                  <a:pt x="93" y="1144"/>
                </a:lnTo>
                <a:lnTo>
                  <a:pt x="68" y="1168"/>
                </a:lnTo>
                <a:lnTo>
                  <a:pt x="51" y="1192"/>
                </a:lnTo>
                <a:lnTo>
                  <a:pt x="26" y="1200"/>
                </a:lnTo>
                <a:lnTo>
                  <a:pt x="17" y="1208"/>
                </a:lnTo>
                <a:lnTo>
                  <a:pt x="17" y="1248"/>
                </a:lnTo>
                <a:lnTo>
                  <a:pt x="9" y="1264"/>
                </a:lnTo>
                <a:lnTo>
                  <a:pt x="17" y="1272"/>
                </a:lnTo>
                <a:lnTo>
                  <a:pt x="17" y="1288"/>
                </a:lnTo>
                <a:lnTo>
                  <a:pt x="9" y="1304"/>
                </a:lnTo>
                <a:lnTo>
                  <a:pt x="17" y="1312"/>
                </a:lnTo>
                <a:lnTo>
                  <a:pt x="17" y="1328"/>
                </a:lnTo>
                <a:lnTo>
                  <a:pt x="0" y="1352"/>
                </a:lnTo>
                <a:lnTo>
                  <a:pt x="17" y="1384"/>
                </a:lnTo>
                <a:lnTo>
                  <a:pt x="43" y="1408"/>
                </a:lnTo>
                <a:lnTo>
                  <a:pt x="9" y="1424"/>
                </a:lnTo>
                <a:lnTo>
                  <a:pt x="34" y="1432"/>
                </a:lnTo>
                <a:lnTo>
                  <a:pt x="9" y="1480"/>
                </a:lnTo>
                <a:lnTo>
                  <a:pt x="51" y="1464"/>
                </a:lnTo>
                <a:lnTo>
                  <a:pt x="51" y="1480"/>
                </a:lnTo>
                <a:lnTo>
                  <a:pt x="43" y="1488"/>
                </a:lnTo>
                <a:lnTo>
                  <a:pt x="17" y="1512"/>
                </a:lnTo>
                <a:lnTo>
                  <a:pt x="17" y="1544"/>
                </a:lnTo>
                <a:lnTo>
                  <a:pt x="43" y="1544"/>
                </a:lnTo>
                <a:lnTo>
                  <a:pt x="59" y="1552"/>
                </a:lnTo>
                <a:lnTo>
                  <a:pt x="59" y="1568"/>
                </a:lnTo>
                <a:lnTo>
                  <a:pt x="34" y="1584"/>
                </a:lnTo>
                <a:lnTo>
                  <a:pt x="17" y="1584"/>
                </a:lnTo>
                <a:lnTo>
                  <a:pt x="9" y="1592"/>
                </a:lnTo>
                <a:lnTo>
                  <a:pt x="26" y="1616"/>
                </a:lnTo>
                <a:lnTo>
                  <a:pt x="51" y="1632"/>
                </a:lnTo>
                <a:lnTo>
                  <a:pt x="76" y="1656"/>
                </a:lnTo>
                <a:lnTo>
                  <a:pt x="118" y="1664"/>
                </a:lnTo>
                <a:lnTo>
                  <a:pt x="102" y="1688"/>
                </a:lnTo>
                <a:lnTo>
                  <a:pt x="177" y="1688"/>
                </a:lnTo>
                <a:lnTo>
                  <a:pt x="236" y="1664"/>
                </a:lnTo>
                <a:lnTo>
                  <a:pt x="278" y="1624"/>
                </a:lnTo>
                <a:lnTo>
                  <a:pt x="312" y="1576"/>
                </a:lnTo>
                <a:lnTo>
                  <a:pt x="329" y="1584"/>
                </a:lnTo>
                <a:lnTo>
                  <a:pt x="346" y="1576"/>
                </a:lnTo>
                <a:lnTo>
                  <a:pt x="363" y="1544"/>
                </a:lnTo>
                <a:lnTo>
                  <a:pt x="363" y="1512"/>
                </a:lnTo>
                <a:lnTo>
                  <a:pt x="388" y="1512"/>
                </a:lnTo>
                <a:lnTo>
                  <a:pt x="396" y="1528"/>
                </a:lnTo>
                <a:lnTo>
                  <a:pt x="405" y="1560"/>
                </a:lnTo>
                <a:lnTo>
                  <a:pt x="422" y="1592"/>
                </a:lnTo>
                <a:lnTo>
                  <a:pt x="439" y="1584"/>
                </a:lnTo>
                <a:lnTo>
                  <a:pt x="455" y="1488"/>
                </a:lnTo>
                <a:lnTo>
                  <a:pt x="489" y="1456"/>
                </a:lnTo>
                <a:lnTo>
                  <a:pt x="489" y="1368"/>
                </a:lnTo>
                <a:lnTo>
                  <a:pt x="514" y="1328"/>
                </a:lnTo>
                <a:lnTo>
                  <a:pt x="514" y="1288"/>
                </a:lnTo>
                <a:lnTo>
                  <a:pt x="472" y="1248"/>
                </a:lnTo>
                <a:lnTo>
                  <a:pt x="472" y="1168"/>
                </a:lnTo>
                <a:lnTo>
                  <a:pt x="455" y="1048"/>
                </a:lnTo>
                <a:lnTo>
                  <a:pt x="489" y="976"/>
                </a:lnTo>
                <a:lnTo>
                  <a:pt x="565" y="968"/>
                </a:lnTo>
                <a:lnTo>
                  <a:pt x="582" y="912"/>
                </a:lnTo>
                <a:lnTo>
                  <a:pt x="540" y="888"/>
                </a:lnTo>
                <a:lnTo>
                  <a:pt x="590" y="808"/>
                </a:lnTo>
                <a:lnTo>
                  <a:pt x="590" y="712"/>
                </a:lnTo>
                <a:lnTo>
                  <a:pt x="632" y="688"/>
                </a:lnTo>
                <a:lnTo>
                  <a:pt x="632" y="624"/>
                </a:lnTo>
                <a:lnTo>
                  <a:pt x="691" y="568"/>
                </a:lnTo>
                <a:lnTo>
                  <a:pt x="683" y="528"/>
                </a:lnTo>
                <a:lnTo>
                  <a:pt x="683" y="480"/>
                </a:lnTo>
                <a:lnTo>
                  <a:pt x="717" y="440"/>
                </a:lnTo>
                <a:lnTo>
                  <a:pt x="759" y="440"/>
                </a:lnTo>
                <a:lnTo>
                  <a:pt x="776" y="384"/>
                </a:lnTo>
                <a:lnTo>
                  <a:pt x="851" y="400"/>
                </a:lnTo>
                <a:lnTo>
                  <a:pt x="851" y="320"/>
                </a:lnTo>
                <a:lnTo>
                  <a:pt x="868" y="312"/>
                </a:lnTo>
                <a:lnTo>
                  <a:pt x="851" y="296"/>
                </a:lnTo>
                <a:lnTo>
                  <a:pt x="894" y="272"/>
                </a:lnTo>
                <a:lnTo>
                  <a:pt x="995" y="320"/>
                </a:lnTo>
                <a:lnTo>
                  <a:pt x="1037" y="304"/>
                </a:lnTo>
                <a:lnTo>
                  <a:pt x="1096" y="320"/>
                </a:lnTo>
                <a:lnTo>
                  <a:pt x="1113" y="248"/>
                </a:lnTo>
                <a:lnTo>
                  <a:pt x="1113" y="176"/>
                </a:lnTo>
                <a:lnTo>
                  <a:pt x="1146" y="136"/>
                </a:lnTo>
                <a:lnTo>
                  <a:pt x="1197" y="136"/>
                </a:lnTo>
                <a:lnTo>
                  <a:pt x="1264" y="168"/>
                </a:lnTo>
                <a:lnTo>
                  <a:pt x="1281" y="208"/>
                </a:lnTo>
                <a:lnTo>
                  <a:pt x="1306" y="176"/>
                </a:lnTo>
                <a:lnTo>
                  <a:pt x="1340" y="144"/>
                </a:lnTo>
                <a:lnTo>
                  <a:pt x="1340" y="120"/>
                </a:lnTo>
                <a:lnTo>
                  <a:pt x="1239" y="104"/>
                </a:lnTo>
                <a:lnTo>
                  <a:pt x="1239" y="10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29"/>
          <p:cNvSpPr/>
          <p:nvPr/>
        </p:nvSpPr>
        <p:spPr>
          <a:xfrm>
            <a:off x="317520" y="2349360"/>
            <a:ext cx="32558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tion 1: course attendance and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  <a:ea typeface="ＭＳ Ｐゴシック"/>
              </a:rPr>
              <a:t>Option 2: test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  <a:ea typeface="ＭＳ Ｐゴシック"/>
              </a:rPr>
              <a:t>Bot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6040" y="189000"/>
            <a:ext cx="717552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Initial qualification</a:t>
            </a:r>
            <a:br>
              <a:rPr sz="3000"/>
            </a:b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231"/>
          <p:cNvSpPr/>
          <p:nvPr/>
        </p:nvSpPr>
        <p:spPr>
          <a:xfrm>
            <a:off x="5724360" y="4788000"/>
            <a:ext cx="1729080" cy="171432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180" h="1080">
                <a:moveTo>
                  <a:pt x="1155" y="752"/>
                </a:moveTo>
                <a:lnTo>
                  <a:pt x="1121" y="728"/>
                </a:lnTo>
                <a:lnTo>
                  <a:pt x="1087" y="712"/>
                </a:lnTo>
                <a:lnTo>
                  <a:pt x="1003" y="672"/>
                </a:lnTo>
                <a:lnTo>
                  <a:pt x="919" y="632"/>
                </a:lnTo>
                <a:lnTo>
                  <a:pt x="935" y="616"/>
                </a:lnTo>
                <a:lnTo>
                  <a:pt x="927" y="600"/>
                </a:lnTo>
                <a:lnTo>
                  <a:pt x="902" y="584"/>
                </a:lnTo>
                <a:lnTo>
                  <a:pt x="868" y="592"/>
                </a:lnTo>
                <a:lnTo>
                  <a:pt x="817" y="592"/>
                </a:lnTo>
                <a:lnTo>
                  <a:pt x="775" y="568"/>
                </a:lnTo>
                <a:lnTo>
                  <a:pt x="733" y="528"/>
                </a:lnTo>
                <a:lnTo>
                  <a:pt x="708" y="488"/>
                </a:lnTo>
                <a:lnTo>
                  <a:pt x="683" y="448"/>
                </a:lnTo>
                <a:lnTo>
                  <a:pt x="641" y="408"/>
                </a:lnTo>
                <a:lnTo>
                  <a:pt x="556" y="344"/>
                </a:lnTo>
                <a:lnTo>
                  <a:pt x="523" y="296"/>
                </a:lnTo>
                <a:lnTo>
                  <a:pt x="523" y="280"/>
                </a:lnTo>
                <a:lnTo>
                  <a:pt x="539" y="256"/>
                </a:lnTo>
                <a:lnTo>
                  <a:pt x="548" y="240"/>
                </a:lnTo>
                <a:lnTo>
                  <a:pt x="539" y="224"/>
                </a:lnTo>
                <a:lnTo>
                  <a:pt x="531" y="216"/>
                </a:lnTo>
                <a:lnTo>
                  <a:pt x="531" y="200"/>
                </a:lnTo>
                <a:lnTo>
                  <a:pt x="556" y="184"/>
                </a:lnTo>
                <a:lnTo>
                  <a:pt x="641" y="152"/>
                </a:lnTo>
                <a:lnTo>
                  <a:pt x="649" y="144"/>
                </a:lnTo>
                <a:lnTo>
                  <a:pt x="641" y="88"/>
                </a:lnTo>
                <a:lnTo>
                  <a:pt x="649" y="56"/>
                </a:lnTo>
                <a:lnTo>
                  <a:pt x="531" y="24"/>
                </a:lnTo>
                <a:lnTo>
                  <a:pt x="514" y="0"/>
                </a:lnTo>
                <a:lnTo>
                  <a:pt x="438" y="8"/>
                </a:lnTo>
                <a:lnTo>
                  <a:pt x="405" y="40"/>
                </a:lnTo>
                <a:lnTo>
                  <a:pt x="371" y="32"/>
                </a:lnTo>
                <a:lnTo>
                  <a:pt x="354" y="64"/>
                </a:lnTo>
                <a:lnTo>
                  <a:pt x="320" y="64"/>
                </a:lnTo>
                <a:lnTo>
                  <a:pt x="295" y="80"/>
                </a:lnTo>
                <a:lnTo>
                  <a:pt x="253" y="72"/>
                </a:lnTo>
                <a:lnTo>
                  <a:pt x="228" y="152"/>
                </a:lnTo>
                <a:lnTo>
                  <a:pt x="160" y="72"/>
                </a:lnTo>
                <a:lnTo>
                  <a:pt x="118" y="136"/>
                </a:lnTo>
                <a:lnTo>
                  <a:pt x="25" y="144"/>
                </a:lnTo>
                <a:lnTo>
                  <a:pt x="42" y="208"/>
                </a:lnTo>
                <a:lnTo>
                  <a:pt x="0" y="232"/>
                </a:lnTo>
                <a:lnTo>
                  <a:pt x="25" y="272"/>
                </a:lnTo>
                <a:lnTo>
                  <a:pt x="17" y="320"/>
                </a:lnTo>
                <a:lnTo>
                  <a:pt x="93" y="352"/>
                </a:lnTo>
                <a:lnTo>
                  <a:pt x="76" y="392"/>
                </a:lnTo>
                <a:lnTo>
                  <a:pt x="93" y="392"/>
                </a:lnTo>
                <a:lnTo>
                  <a:pt x="135" y="376"/>
                </a:lnTo>
                <a:lnTo>
                  <a:pt x="160" y="344"/>
                </a:lnTo>
                <a:lnTo>
                  <a:pt x="177" y="328"/>
                </a:lnTo>
                <a:lnTo>
                  <a:pt x="202" y="320"/>
                </a:lnTo>
                <a:lnTo>
                  <a:pt x="244" y="336"/>
                </a:lnTo>
                <a:lnTo>
                  <a:pt x="261" y="352"/>
                </a:lnTo>
                <a:lnTo>
                  <a:pt x="278" y="368"/>
                </a:lnTo>
                <a:lnTo>
                  <a:pt x="312" y="368"/>
                </a:lnTo>
                <a:lnTo>
                  <a:pt x="329" y="384"/>
                </a:lnTo>
                <a:lnTo>
                  <a:pt x="337" y="424"/>
                </a:lnTo>
                <a:lnTo>
                  <a:pt x="362" y="472"/>
                </a:lnTo>
                <a:lnTo>
                  <a:pt x="371" y="496"/>
                </a:lnTo>
                <a:lnTo>
                  <a:pt x="396" y="512"/>
                </a:lnTo>
                <a:lnTo>
                  <a:pt x="430" y="552"/>
                </a:lnTo>
                <a:lnTo>
                  <a:pt x="472" y="576"/>
                </a:lnTo>
                <a:lnTo>
                  <a:pt x="497" y="592"/>
                </a:lnTo>
                <a:lnTo>
                  <a:pt x="514" y="608"/>
                </a:lnTo>
                <a:lnTo>
                  <a:pt x="607" y="680"/>
                </a:lnTo>
                <a:lnTo>
                  <a:pt x="624" y="696"/>
                </a:lnTo>
                <a:lnTo>
                  <a:pt x="649" y="688"/>
                </a:lnTo>
                <a:lnTo>
                  <a:pt x="708" y="712"/>
                </a:lnTo>
                <a:lnTo>
                  <a:pt x="742" y="744"/>
                </a:lnTo>
                <a:lnTo>
                  <a:pt x="767" y="744"/>
                </a:lnTo>
                <a:lnTo>
                  <a:pt x="775" y="752"/>
                </a:lnTo>
                <a:lnTo>
                  <a:pt x="775" y="768"/>
                </a:lnTo>
                <a:lnTo>
                  <a:pt x="809" y="768"/>
                </a:lnTo>
                <a:lnTo>
                  <a:pt x="826" y="800"/>
                </a:lnTo>
                <a:lnTo>
                  <a:pt x="851" y="824"/>
                </a:lnTo>
                <a:lnTo>
                  <a:pt x="893" y="840"/>
                </a:lnTo>
                <a:lnTo>
                  <a:pt x="927" y="856"/>
                </a:lnTo>
                <a:lnTo>
                  <a:pt x="944" y="904"/>
                </a:lnTo>
                <a:lnTo>
                  <a:pt x="978" y="984"/>
                </a:lnTo>
                <a:lnTo>
                  <a:pt x="952" y="984"/>
                </a:lnTo>
                <a:lnTo>
                  <a:pt x="935" y="1000"/>
                </a:lnTo>
                <a:lnTo>
                  <a:pt x="935" y="1016"/>
                </a:lnTo>
                <a:lnTo>
                  <a:pt x="927" y="1040"/>
                </a:lnTo>
                <a:lnTo>
                  <a:pt x="919" y="1056"/>
                </a:lnTo>
                <a:lnTo>
                  <a:pt x="935" y="1072"/>
                </a:lnTo>
                <a:lnTo>
                  <a:pt x="952" y="1080"/>
                </a:lnTo>
                <a:lnTo>
                  <a:pt x="978" y="1072"/>
                </a:lnTo>
                <a:lnTo>
                  <a:pt x="994" y="1040"/>
                </a:lnTo>
                <a:lnTo>
                  <a:pt x="1011" y="1000"/>
                </a:lnTo>
                <a:lnTo>
                  <a:pt x="1028" y="960"/>
                </a:lnTo>
                <a:lnTo>
                  <a:pt x="1070" y="952"/>
                </a:lnTo>
                <a:lnTo>
                  <a:pt x="1070" y="904"/>
                </a:lnTo>
                <a:lnTo>
                  <a:pt x="1053" y="888"/>
                </a:lnTo>
                <a:lnTo>
                  <a:pt x="1028" y="880"/>
                </a:lnTo>
                <a:lnTo>
                  <a:pt x="1003" y="864"/>
                </a:lnTo>
                <a:lnTo>
                  <a:pt x="994" y="848"/>
                </a:lnTo>
                <a:lnTo>
                  <a:pt x="1011" y="800"/>
                </a:lnTo>
                <a:lnTo>
                  <a:pt x="1028" y="776"/>
                </a:lnTo>
                <a:lnTo>
                  <a:pt x="1045" y="768"/>
                </a:lnTo>
                <a:lnTo>
                  <a:pt x="1104" y="776"/>
                </a:lnTo>
                <a:lnTo>
                  <a:pt x="1146" y="792"/>
                </a:lnTo>
                <a:lnTo>
                  <a:pt x="1180" y="824"/>
                </a:lnTo>
                <a:lnTo>
                  <a:pt x="1180" y="784"/>
                </a:lnTo>
                <a:lnTo>
                  <a:pt x="1155" y="752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1232"/>
          <p:cNvSpPr/>
          <p:nvPr/>
        </p:nvSpPr>
        <p:spPr>
          <a:xfrm>
            <a:off x="5902200" y="5896080"/>
            <a:ext cx="246240" cy="457200"/>
          </a:xfrm>
          <a:custGeom>
            <a:avLst/>
            <a:gdLst>
              <a:gd name="textAreaLeft" fmla="*/ 0 w 246240"/>
              <a:gd name="textAreaRight" fmla="*/ 246600 w 246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68" h="288">
                <a:moveTo>
                  <a:pt x="0" y="40"/>
                </a:moveTo>
                <a:lnTo>
                  <a:pt x="33" y="48"/>
                </a:lnTo>
                <a:lnTo>
                  <a:pt x="59" y="40"/>
                </a:lnTo>
                <a:lnTo>
                  <a:pt x="101" y="8"/>
                </a:lnTo>
                <a:lnTo>
                  <a:pt x="109" y="0"/>
                </a:lnTo>
                <a:lnTo>
                  <a:pt x="143" y="16"/>
                </a:lnTo>
                <a:lnTo>
                  <a:pt x="143" y="32"/>
                </a:lnTo>
                <a:lnTo>
                  <a:pt x="168" y="96"/>
                </a:lnTo>
                <a:lnTo>
                  <a:pt x="151" y="120"/>
                </a:lnTo>
                <a:lnTo>
                  <a:pt x="168" y="152"/>
                </a:lnTo>
                <a:lnTo>
                  <a:pt x="143" y="256"/>
                </a:lnTo>
                <a:lnTo>
                  <a:pt x="117" y="248"/>
                </a:lnTo>
                <a:lnTo>
                  <a:pt x="92" y="248"/>
                </a:lnTo>
                <a:lnTo>
                  <a:pt x="84" y="264"/>
                </a:lnTo>
                <a:lnTo>
                  <a:pt x="67" y="280"/>
                </a:lnTo>
                <a:lnTo>
                  <a:pt x="42" y="288"/>
                </a:lnTo>
                <a:lnTo>
                  <a:pt x="25" y="248"/>
                </a:lnTo>
                <a:lnTo>
                  <a:pt x="25" y="200"/>
                </a:lnTo>
                <a:lnTo>
                  <a:pt x="33" y="176"/>
                </a:lnTo>
                <a:lnTo>
                  <a:pt x="25" y="160"/>
                </a:lnTo>
                <a:lnTo>
                  <a:pt x="33" y="136"/>
                </a:lnTo>
                <a:lnTo>
                  <a:pt x="33" y="112"/>
                </a:lnTo>
                <a:lnTo>
                  <a:pt x="25" y="80"/>
                </a:lnTo>
                <a:lnTo>
                  <a:pt x="0" y="72"/>
                </a:lnTo>
                <a:lnTo>
                  <a:pt x="0" y="4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1233"/>
          <p:cNvSpPr/>
          <p:nvPr/>
        </p:nvSpPr>
        <p:spPr>
          <a:xfrm>
            <a:off x="6551640" y="6467400"/>
            <a:ext cx="480960" cy="330120"/>
          </a:xfrm>
          <a:custGeom>
            <a:avLst/>
            <a:gdLst>
              <a:gd name="textAreaLeft" fmla="*/ 0 w 480960"/>
              <a:gd name="textAreaRight" fmla="*/ 481320 w 4809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328" h="208">
                <a:moveTo>
                  <a:pt x="0" y="80"/>
                </a:moveTo>
                <a:lnTo>
                  <a:pt x="0" y="56"/>
                </a:lnTo>
                <a:lnTo>
                  <a:pt x="25" y="32"/>
                </a:lnTo>
                <a:lnTo>
                  <a:pt x="50" y="48"/>
                </a:lnTo>
                <a:lnTo>
                  <a:pt x="67" y="32"/>
                </a:lnTo>
                <a:lnTo>
                  <a:pt x="92" y="24"/>
                </a:lnTo>
                <a:lnTo>
                  <a:pt x="101" y="32"/>
                </a:lnTo>
                <a:lnTo>
                  <a:pt x="117" y="40"/>
                </a:lnTo>
                <a:lnTo>
                  <a:pt x="134" y="48"/>
                </a:lnTo>
                <a:lnTo>
                  <a:pt x="160" y="40"/>
                </a:lnTo>
                <a:lnTo>
                  <a:pt x="210" y="40"/>
                </a:lnTo>
                <a:lnTo>
                  <a:pt x="235" y="32"/>
                </a:lnTo>
                <a:lnTo>
                  <a:pt x="252" y="16"/>
                </a:lnTo>
                <a:lnTo>
                  <a:pt x="261" y="16"/>
                </a:lnTo>
                <a:lnTo>
                  <a:pt x="286" y="24"/>
                </a:lnTo>
                <a:lnTo>
                  <a:pt x="294" y="8"/>
                </a:lnTo>
                <a:lnTo>
                  <a:pt x="320" y="0"/>
                </a:lnTo>
                <a:lnTo>
                  <a:pt x="328" y="16"/>
                </a:lnTo>
                <a:lnTo>
                  <a:pt x="311" y="56"/>
                </a:lnTo>
                <a:lnTo>
                  <a:pt x="303" y="80"/>
                </a:lnTo>
                <a:lnTo>
                  <a:pt x="286" y="104"/>
                </a:lnTo>
                <a:lnTo>
                  <a:pt x="286" y="112"/>
                </a:lnTo>
                <a:lnTo>
                  <a:pt x="303" y="128"/>
                </a:lnTo>
                <a:lnTo>
                  <a:pt x="320" y="160"/>
                </a:lnTo>
                <a:lnTo>
                  <a:pt x="303" y="176"/>
                </a:lnTo>
                <a:lnTo>
                  <a:pt x="303" y="208"/>
                </a:lnTo>
                <a:lnTo>
                  <a:pt x="269" y="200"/>
                </a:lnTo>
                <a:lnTo>
                  <a:pt x="227" y="192"/>
                </a:lnTo>
                <a:lnTo>
                  <a:pt x="202" y="152"/>
                </a:lnTo>
                <a:lnTo>
                  <a:pt x="168" y="160"/>
                </a:lnTo>
                <a:lnTo>
                  <a:pt x="143" y="144"/>
                </a:lnTo>
                <a:lnTo>
                  <a:pt x="126" y="128"/>
                </a:lnTo>
                <a:lnTo>
                  <a:pt x="109" y="128"/>
                </a:lnTo>
                <a:lnTo>
                  <a:pt x="84" y="112"/>
                </a:lnTo>
                <a:lnTo>
                  <a:pt x="67" y="112"/>
                </a:lnTo>
                <a:lnTo>
                  <a:pt x="50" y="96"/>
                </a:lnTo>
                <a:lnTo>
                  <a:pt x="25" y="104"/>
                </a:lnTo>
                <a:lnTo>
                  <a:pt x="0" y="8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Option 1: course attendance and te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10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ffffff"/>
                </a:solidFill>
                <a:latin typeface="Arial"/>
              </a:rPr>
              <a:t>(280/140 hrs + written or oral t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Type of test at the end of the end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The overall pass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6640" indent="-18360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Arial"/>
              </a:rPr>
              <a:t>Example France (80% pass rate for the 280 h training – 97% for accelerated training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56640" indent="-18360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Arial"/>
              </a:rPr>
              <a:t>Sweden 46 % Goods Transport / 54 Passenger Transpor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1160"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s accelerated initial qualification acce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6640" indent="-183600">
              <a:lnSpc>
                <a:spcPct val="105000"/>
              </a:lnSpc>
              <a:spcBef>
                <a:spcPts val="337"/>
              </a:spcBef>
              <a:spcAft>
                <a:spcPts val="337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Arial"/>
              </a:rPr>
              <a:t>All option 1 countries allow this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400" spc="-1" strike="noStrike">
                <a:solidFill>
                  <a:srgbClr val="ffffff"/>
                </a:solidFill>
                <a:latin typeface="Arial"/>
              </a:rPr>
              <a:t>Option 2: course attendance and te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Integrating the driving license with the CPC or is a tendency among countries who chose op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5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5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We further as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840" indent="-1782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Number of theory quest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-1782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Duration theory test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-1782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Overall pass rate theory tests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-1782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Duration practical tes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-1782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Overall pass rate practical tests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725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5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056200" y="2314440"/>
            <a:ext cx="387684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Example Northern 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00 multiple choice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9 hazard perception c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50 case study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4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pprox. 80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.5 hour on-road dri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0.5 hour vehicle   safety/documentation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pprox 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ca7"/>
            </a:gs>
            <a:gs pos="50000">
              <a:srgbClr val="0059c2"/>
            </a:gs>
            <a:gs pos="100000">
              <a:srgbClr val="004c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39400" y="228600"/>
            <a:ext cx="467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Initial qualification – co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21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Test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elgium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60-42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ypru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eat Britai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ungary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reland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tvi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orthern Ireland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loveni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00-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1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witzerland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10960" y="1657080"/>
            <a:ext cx="42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urse attendance and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zech Republic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inland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ance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2500-4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rmany (acc.)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1190-3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ithuania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580-86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uxembou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Norway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8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weden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38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8:25:41Z</dcterms:created>
  <dc:creator>smoerl</dc:creator>
  <dc:description/>
  <dc:language>en-US</dc:language>
  <cp:lastModifiedBy>dvandenberghe</cp:lastModifiedBy>
  <dcterms:modified xsi:type="dcterms:W3CDTF">2010-02-08T15:01:18Z</dcterms:modified>
  <cp:revision>90</cp:revision>
  <dc:subject/>
  <dc:title>This is the IRU</dc:title>
</cp:coreProperties>
</file>